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35A-3454-42BC-9E08-652C84CB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06C-C9C5-4CF4-8420-C4EF2880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219-24E2-4B6D-86F9-E5461566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134-C5EC-417A-8BEB-18D50512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0BE-152D-4F5E-9718-4B22991F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107-F2D8-48C2-9100-7AA08445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201-87AD-4680-BB1D-F2C157DF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D0E-A25F-4272-90C7-80B30A27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EA4-1E84-44BE-B50B-6FEEE548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3E3-AB79-4CFD-AA39-74AB1E8A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EE1-3B83-4F25-ACD5-737674EA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84E-83D4-4422-9E26-28F269A9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FA06-25F2-4C86-86B7-2D285EC3C3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06520" y="2505240"/>
            <a:ext cx="8277120" cy="3414600"/>
          </a:xfrm>
          <a:prstGeom prst="rect">
            <a:avLst/>
          </a:prstGeom>
          <a:ln w="0">
            <a:noFill/>
          </a:ln>
        </p:spPr>
      </p:pic>
      <p:grpSp>
        <p:nvGrpSpPr>
          <p:cNvPr id="42" name="Подзаголовок 2"/>
          <p:cNvGrpSpPr/>
          <p:nvPr/>
        </p:nvGrpSpPr>
        <p:grpSpPr>
          <a:xfrm>
            <a:off x="506520" y="438120"/>
            <a:ext cx="8186760" cy="1440000"/>
            <a:chOff x="506520" y="438120"/>
            <a:chExt cx="8186760" cy="1440000"/>
          </a:xfrm>
        </p:grpSpPr>
        <p:pic>
          <p:nvPicPr>
            <p:cNvPr id="43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506520" y="438120"/>
              <a:ext cx="818676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569880" y="476280"/>
              <a:ext cx="806436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000"/>
                  </a:solidFill>
                  <a:latin typeface="Georgia"/>
                </a:rPr>
                <a:t>О нововведениях Декрета Президента Республики Беларус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000"/>
                  </a:solidFill>
                  <a:latin typeface="Georgia"/>
                </a:rPr>
                <a:t>от 23 ноября 2017 г. № 7 «О развитии предпринимательства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Прямоугольник 5"/>
          <p:cNvSpPr/>
          <p:nvPr/>
        </p:nvSpPr>
        <p:spPr>
          <a:xfrm>
            <a:off x="95400" y="200160"/>
            <a:ext cx="25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karta.png"/>
          <p:cNvPicPr/>
          <p:nvPr/>
        </p:nvPicPr>
        <p:blipFill>
          <a:blip r:embed="rId1"/>
          <a:stretch/>
        </p:blipFill>
        <p:spPr>
          <a:xfrm>
            <a:off x="181080" y="1512720"/>
            <a:ext cx="8748720" cy="5051520"/>
          </a:xfrm>
          <a:prstGeom prst="rect">
            <a:avLst/>
          </a:prstGeom>
          <a:ln w="0">
            <a:noFill/>
          </a:ln>
        </p:spPr>
      </p:pic>
      <p:grpSp>
        <p:nvGrpSpPr>
          <p:cNvPr id="47" name="TextBox 10"/>
          <p:cNvGrpSpPr/>
          <p:nvPr/>
        </p:nvGrpSpPr>
        <p:grpSpPr>
          <a:xfrm>
            <a:off x="96840" y="219240"/>
            <a:ext cx="8980560" cy="1152360"/>
            <a:chOff x="96840" y="219240"/>
            <a:chExt cx="8980560" cy="1152360"/>
          </a:xfrm>
        </p:grpSpPr>
        <p:pic>
          <p:nvPicPr>
            <p:cNvPr id="48" name="TextBox 10" descr=""/>
            <p:cNvPicPr/>
            <p:nvPr/>
          </p:nvPicPr>
          <p:blipFill>
            <a:blip r:embed="rId2"/>
            <a:stretch/>
          </p:blipFill>
          <p:spPr>
            <a:xfrm>
              <a:off x="96840" y="219240"/>
              <a:ext cx="89805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10960" y="333360"/>
              <a:ext cx="87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000"/>
                  </a:solidFill>
                  <a:latin typeface="Arial"/>
                  <a:ea typeface="Arial"/>
                </a:rPr>
                <a:t>О приеме на работу иностранных граждан, являющихся  победителями (лауреатами) национальных (международных) конкурсов, отмеченных наградами в сфере их профессиональной деятельности</a:t>
              </a:r>
              <a:r>
                <a:rPr b="0" lang="ru-RU" sz="1800" spc="-1" strike="noStrike">
                  <a:solidFill>
                    <a:srgbClr val="ffc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6" descr="http://www.flag-ok.ru/img/flag/2000px-Flag_of_Belarus.svg.png"/>
          <p:cNvPicPr/>
          <p:nvPr/>
        </p:nvPicPr>
        <p:blipFill>
          <a:blip r:embed="rId3"/>
          <a:stretch/>
        </p:blipFill>
        <p:spPr>
          <a:xfrm>
            <a:off x="4722840" y="2847960"/>
            <a:ext cx="447480" cy="247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271440" y="1341360"/>
            <a:ext cx="856764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d0d0d"/>
                </a:solidFill>
                <a:latin typeface="Arial"/>
                <a:ea typeface="Arial"/>
              </a:rPr>
              <a:t>Подпунктом 5.7 пункта 5 Декрета № 7 устанавливается новая категория иностранных граждан, на которую не распространяется действие Закона Республики Беларусь «О внешней трудовой миграции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d0d0d"/>
                </a:solidFill>
                <a:latin typeface="Arial"/>
                <a:ea typeface="Arial"/>
              </a:rPr>
              <a:t>В частности, изменения коснулись иностранцев, не имеющих разрешение на постоянное проживание в  Республике  Беларусь, которые являются победителями (лауреатами) национальных (международных) конкурсов, отмеченных наградами в сфере их профессиональной деятельност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d0d0d"/>
                </a:solidFill>
                <a:latin typeface="Arial"/>
                <a:ea typeface="Arial"/>
              </a:rPr>
              <a:t>Так, с 26 февраля 2018 г. при заключении с такими лицами трудовых  договоров (контрактов)  в отношении их нанимателю не требуется получать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d0d0d"/>
                </a:solidFill>
                <a:latin typeface="Arial"/>
                <a:ea typeface="Arial"/>
              </a:rPr>
              <a:t>•</a:t>
            </a:r>
            <a:r>
              <a:rPr b="1" lang="ru-RU" sz="17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1" lang="ru-RU" sz="1700" spc="-1" strike="noStrike">
                <a:solidFill>
                  <a:srgbClr val="0d0d0d"/>
                </a:solidFill>
                <a:latin typeface="Arial"/>
                <a:ea typeface="Arial"/>
              </a:rPr>
              <a:t> </a:t>
            </a:r>
            <a:r>
              <a:rPr b="1" lang="ru-RU" sz="1700" spc="-1" strike="noStrike">
                <a:solidFill>
                  <a:srgbClr val="0d0d0d"/>
                </a:solidFill>
                <a:latin typeface="Arial"/>
                <a:ea typeface="Arial"/>
              </a:rPr>
              <a:t>специальное  разрешение на право занятия трудовой деятельностью в Республике Беларусь – в управлении по гражданству и миграции ГУВД  Минского горисполкома либо УВД облисполкомо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d0d0d"/>
                </a:solidFill>
                <a:latin typeface="Arial"/>
                <a:ea typeface="Arial"/>
              </a:rPr>
              <a:t>•</a:t>
            </a:r>
            <a:r>
              <a:rPr b="1" lang="ru-RU" sz="17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1" lang="ru-RU" sz="1700" spc="-1" strike="noStrike">
                <a:solidFill>
                  <a:srgbClr val="0d0d0d"/>
                </a:solidFill>
                <a:latin typeface="Arial"/>
                <a:ea typeface="Arial"/>
              </a:rPr>
              <a:t>разрешение на привлечение в Республику Беларусь иностранной рабочей силы – в Департаменте по гражданству и миграции МВД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611280" y="1916280"/>
            <a:ext cx="799308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1171d"/>
                </a:solidFill>
                <a:latin typeface="Arial"/>
                <a:ea typeface="Arial"/>
              </a:rPr>
              <a:t>Требования законодательства в части обеспечения здоровых и безопасных условий труда, направленных на сохранение жизни, здоровья и работоспособности работников в процессе трудовой деятельности, после принятия Декрета № 7 не изменились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1171d"/>
                </a:solidFill>
                <a:latin typeface="Arial"/>
                <a:ea typeface="Arial"/>
              </a:rPr>
              <a:t>В данной части уточняется, что субъекты хозяйствования, помимо соблюдения в процессе осуществления экономической деятельности общих требований пожарной безопасности, санитарно-эпидемиологических требований, требований в области охраны окружающей среды, требований в области ветеринарии к содержанию и эксплуатации капитальных строений (зданий, сооружений), изолированных помещений и иных объектов,  должны обеспечивать работникам нормальные условия для выполнения ими норм труда в соответствии со статьей 89 Трудового кодекса Республики Беларусь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250920" y="8049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О соблюдении требований законодатель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в части обеспечения здоровых и безопасных условий тру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539640" y="684360"/>
            <a:ext cx="8136000" cy="58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Нормальными условиями являются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•</a:t>
            </a: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	</a:t>
            </a: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обеспечение заказов и объемов работ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•</a:t>
            </a: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	</a:t>
            </a: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исправное состояние машин, станков и приспособлений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•</a:t>
            </a: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	</a:t>
            </a: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своевременное обеспечение технической документацией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•</a:t>
            </a: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	</a:t>
            </a: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надлежащее качество материалов и инструментов, необходимых для выполнения работы, и их своевременная подач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•</a:t>
            </a: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	</a:t>
            </a: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своевременное снабжение производства электроэнергией, газом и иными источниками энергопитани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•</a:t>
            </a: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	</a:t>
            </a: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безопасные и здоровые условия труда (соблюдение требований по охране труда, необходимое освещение, отопление, вентиляция, устранение вредных последствий шума, излучений, вибрации и других факторов, отрицательно влияющих на здоровье работников, и т.д.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000"/>
                </a:solidFill>
                <a:latin typeface="Arial"/>
                <a:ea typeface="Arial"/>
              </a:rPr>
              <a:t>Порядок действий субъектов хозяйствования по обеспечению безопасных и здоровых условий труда установлен Законом Республики Беларусь «Об охране труда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2:12:11Z</dcterms:created>
  <dc:creator>Valued Customer</dc:creator>
  <dc:description/>
  <dc:language>en-US</dc:language>
  <cp:lastModifiedBy>Serg</cp:lastModifiedBy>
  <cp:lastPrinted>2018-01-17T09:27:31Z</cp:lastPrinted>
  <dcterms:modified xsi:type="dcterms:W3CDTF">2018-06-11T07:08:20Z</dcterms:modified>
  <cp:revision>511</cp:revision>
  <dc:subject/>
  <dc:title>jfkuytuy</dc:title>
</cp:coreProperties>
</file>