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3D5-90C0-4D94-BC3B-9C04BE7B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5BD-ACE5-4E7B-B24A-D390C580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A6B-0E19-4735-8DD8-62780798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774-E951-43E1-ADF6-8CD02707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C27-877C-4D51-AF85-FD972C79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9F9-8140-4CDE-811F-4B05A5FB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696-E291-4E0F-9915-56CEE530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BFA-BA5D-4BA7-8C25-776E68C6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BF2-6445-4317-8554-40D8FE64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151-2AFC-4DBE-AD19-49473809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B80-F587-4B45-894B-2C392854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8A7-B8EF-4AC3-90B9-152429A5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1BF8-E93F-4F89-B556-647494C9CF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4AAAB5D8DF8F9E00DB50F08AF322B2070DDEA08FD39BE635DFC367F00C28CF4CE5C710E5AECF88371589CD1751U1p0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FCC180A31D004329367963C9048A876A5E5384466BD4CC714B79D8D6DD2BF470E38D8FF25E3BF73BAA79FD0F9ERCD8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CE44C2979F16942AFFE1DD54759770F3245337E44676F2BB3BA514B7C69CA3915DE8941FCB931287AAE458750D21O7G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consultantplus://offline/ref=CE44C2979F16942AFFE1DD54759770F3245337E44676F2BA3AA51BB7C69CA3915DE8941FCB931287AAE45B760A21O5G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consultantplus://offline/ref=CE44C2979F16942AFFE1DD54759770F3245337E44676F2BB3BA514B7C69CA3915DE8941FCB931287AAE458750D21O7G" TargetMode="External"/><Relationship Id="rId2" Type="http://schemas.openxmlformats.org/officeDocument/2006/relationships/hyperlink" Target="consultantplus://offline/ref=CE44C2979F16942AFFE1DD54759770F3245337E44676F2BA3AA51BB7C69CA3915DE8941FCB931287AAE45B760921O1G" TargetMode="External"/><Relationship Id="rId3" Type="http://schemas.openxmlformats.org/officeDocument/2006/relationships/hyperlink" Target="consultantplus://offline/ref=CE44C2979F16942AFFE1DD54759770F3245337E44676F2BA3AA51BB7C69CA3915DE8941FCB931287AAE45B760821O6G" TargetMode="External"/><Relationship Id="rId4" Type="http://schemas.openxmlformats.org/officeDocument/2006/relationships/hyperlink" Target="consultantplus://offline/ref=CE44C2979F16942AFFE1DD54759770F3245337E44676F2BA3AA51BB7C69CA3915DE8941FCB931287AAE45B760921O0G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consultantplus://offline/ref=CE44C2979F16942AFFE1DD54759770F3245337E44676F2BA3AA51BB7C69CA3915DE8941FCB931287AAE45B760921OEG" TargetMode="External"/><Relationship Id="rId2" Type="http://schemas.openxmlformats.org/officeDocument/2006/relationships/hyperlink" Target="consultantplus://offline/ref=CE44C2979F16942AFFE1DD54759770F3245337E44676F2BA3AA51BB7C69CA3915DE8941FCB931287AAE45B760821O6G" TargetMode="External"/><Relationship Id="rId3" Type="http://schemas.openxmlformats.org/officeDocument/2006/relationships/hyperlink" Target="consultantplus://offline/ref=CE44C2979F16942AFFE1DD54759770F3245337E44676F2BA3AA51BB7C69CA3915DE8941FCB931287AAE45B760621O5G" TargetMode="External"/><Relationship Id="rId4" Type="http://schemas.openxmlformats.org/officeDocument/2006/relationships/hyperlink" Target="consultantplus://offline/ref=CE44C2979F16942AFFE1DD54759770F3245337E44676F2BB3BA514B7C69CA3915DE8941FCB931287AAE458750D21O7G" TargetMode="External"/><Relationship Id="rId5" Type="http://schemas.openxmlformats.org/officeDocument/2006/relationships/hyperlink" Target="consultantplus://offline/ref=CE44C2979F16942AFFE1DD54759770F3245337E44676F2BA3AA51BB7C69CA3915DE8941FCB931287AAE45B760921O0G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consultantplus://offline/ref=50A0CFC6720428A34D7C6B4DDE7E5584B6F10B0B59B71701EB73C09FBB877C4E50E53A5B1C7C49E27373800FF0N2y4M" TargetMode="External"/><Relationship Id="rId2" Type="http://schemas.openxmlformats.org/officeDocument/2006/relationships/hyperlink" Target="consultantplus://offline/ref=50A0CFC6720428A34D7C6B4DDE7E5584B6F10B0B59B71700E871CE9FBB877C4E50E53A5B1C7C49E273738004FAN2y2M" TargetMode="External"/><Relationship Id="rId3" Type="http://schemas.openxmlformats.org/officeDocument/2006/relationships/hyperlink" Target="consultantplus://offline/ref=50A0CFC6720428A34D7C6B4DDE7E5584B6F10B0B59B71701EB73C09FBB877C4E50E53A5B1C7C49E27373800FF0N2y4M" TargetMode="External"/><Relationship Id="rId4" Type="http://schemas.openxmlformats.org/officeDocument/2006/relationships/hyperlink" Target="consultantplus://offline/ref=50A0CFC6720428A34D7C6B4DDE7E5584B6F10B0B59B71701E971C19FBB877C4E50E53A5B1C7C49E273738307FDN2y0M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consultantplus://offline/ref=1A678F37AA303C82F3332B9D403C29A4DF747F57378CD1C965B1E525FFE6706E94CB7308A207630DA147883887Y958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346AA7D030E755A02CD71225CA110B56E2F8C1D67A557147C244708F6B407A02559ADE9E80D1C30D24891509B8Z2R5L" TargetMode="External"/><Relationship Id="rId2" Type="http://schemas.openxmlformats.org/officeDocument/2006/relationships/hyperlink" Target="consultantplus://offline/ref=346AA7D030E755A02CD71225CA110B56E2F8C1D67A557147C244708F6B407A02559ADE9E80D1C30D24891509B8Z2R5L" TargetMode="External"/><Relationship Id="rId3" Type="http://schemas.openxmlformats.org/officeDocument/2006/relationships/hyperlink" Target="consultantplus://offline/ref=346AA7D030E755A02CD71225CA110B56E2F8C1D67A557147C244708F6B407A02559ADE9E80D1C30D24891509B8Z2R5L" TargetMode="External"/><Relationship Id="rId4" Type="http://schemas.openxmlformats.org/officeDocument/2006/relationships/hyperlink" Target="consultantplus://offline/ref=346AA7D030E755A02CD71225CA110B56E2F8C1D67A557F43C8467B8F6B407A02559ADE9E80D1C30D2489120FB9Z2R3L" TargetMode="External"/><Relationship Id="rId5" Type="http://schemas.openxmlformats.org/officeDocument/2006/relationships/hyperlink" Target="consultantplus://offline/ref=346AA7D030E755A02CD71225CA110B56E2F8C1D67A557147C244708F6B407A02559ADE9E80D1C30D24891509B8Z2R5L" TargetMode="External"/><Relationship Id="rId6" Type="http://schemas.openxmlformats.org/officeDocument/2006/relationships/hyperlink" Target="consultantplus://offline/ref=346AA7D030E755A02CD71225CA110B56E2F8C1D67A557147CD44798F6B407A02559ADE9E80D1C30D2489130EBCZ2R4L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A313350E1A9C78E84CC2B7118A034E884CBD801E6AFB72788EFF134CDE70941F8094B4F72277CB9AFED2E665AZCC6G" TargetMode="External"/><Relationship Id="rId2" Type="http://schemas.openxmlformats.org/officeDocument/2006/relationships/hyperlink" Target="consultantplus://offline/ref=EA313350E1A9C78E84CC2B7118A034E884CBD801E6AFB7268BEDFF34CDE70941F8094B4F72277CB9AFED2E6D50ZCC0G" TargetMode="External"/><Relationship Id="rId3" Type="http://schemas.openxmlformats.org/officeDocument/2006/relationships/hyperlink" Target="consultantplus://offline/ref=EA313350E1A9C78E84CC2B7118A034E884CBD801E6AFB7278AEDF034CDE70941F8094B4F72277CB9AFED2D6E54ZCC9G" TargetMode="External"/><Relationship Id="rId4" Type="http://schemas.openxmlformats.org/officeDocument/2006/relationships/hyperlink" Target="consultantplus://offline/ref=EA313350E1A9C78E84CC2B7118A034E884CBD801E6AFB7278AEDF034CDE70941F8094B4F72277CB9AFED2D6E54ZCC8G" TargetMode="External"/><Relationship Id="rId5" Type="http://schemas.openxmlformats.org/officeDocument/2006/relationships/hyperlink" Target="consultantplus://offline/ref=EA313350E1A9C78E84CC2B7118A034E884CBD801E6AFB7278AEDF034CDE70941F8094B4F72277CB9AFED2D6D52ZCC7G" TargetMode="External"/><Relationship Id="rId6" Type="http://schemas.openxmlformats.org/officeDocument/2006/relationships/hyperlink" Target="consultantplus://offline/ref=EA313350E1A9C78E84CC2B7118A034E884CBD801E6AFB72788EFF134CDE70941F8094B4F72277CB9AFED2E665AZCC6G" TargetMode="External"/><Relationship Id="rId7" Type="http://schemas.openxmlformats.org/officeDocument/2006/relationships/hyperlink" Target="consultantplus://offline/ref=EA313350E1A9C78E84CC2B7118A034E884CBD801E6AFB7268BEDFF34CDE70941F8094B4F72277CB9AFED2E6D50ZCC0G" TargetMode="External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A313350E1A9C78E84CC2B7118A034E884CBD801E6AFB7278AEDF034CDE70941F8094B4F72277CB9AFED2D6D53ZCC1G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6835769D52FEF7937A32BD7E8CCC798DB413597BE235E9A2E323FD433180FAA3167EDD054CF02A116E598BE1B3y2c3N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0C3E741A9DAF0776B27C12D51ACA5D7BB680CC66E0031D4B7EB509BAF976F91F0E1HAxBN" TargetMode="External"/><Relationship Id="rId2" Type="http://schemas.openxmlformats.org/officeDocument/2006/relationships/hyperlink" Target="consultantplus://offline/ref=E0C3E741A9DAF0776B27C12D51ACA5D7BB680CC66E0031D4B7EE5B9BAF976F91F0E1ABD6E3BCDC9D9E45BB92EDH2x5N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0C3E741A9DAF0776B27C12D51ACA5D7BB680CC66E0031D4B7EE5B9BAF976F91F0E1ABD6E3BCDC9D9E45BB91E8H2x4N" TargetMode="External"/><Relationship Id="rId2" Type="http://schemas.openxmlformats.org/officeDocument/2006/relationships/hyperlink" Target="consultantplus://offline/ref=E0C3E741A9DAF0776B27C12D51ACA5D7BB680CC66E0031DEB0EA599BAF976F91F0E1ABD6E3BCDC9D9E45B891E8H2xFN" TargetMode="External"/><Relationship Id="rId3" Type="http://schemas.openxmlformats.org/officeDocument/2006/relationships/hyperlink" Target="consultantplus://offline/ref=E0C3E741A9DAF0776B27C12D51ACA5D7BB680CC66E0031D5BDEC5E9BAF976F91F0E1ABD6E3BCDC9D9E45B89AE0H2x1N" TargetMode="External"/><Relationship Id="rId4" Type="http://schemas.openxmlformats.org/officeDocument/2006/relationships/hyperlink" Target="consultantplus://offline/ref=E0C3E741A9DAF0776B27C12D51ACA5D7BB680CC66E0031D4B7EE5B9BAF976F91F0E1ABD6E3BCDC9D9E45BB91E9H2x6N" TargetMode="External"/><Relationship Id="rId5" Type="http://schemas.openxmlformats.org/officeDocument/2006/relationships/hyperlink" Target="consultantplus://offline/ref=E0C3E741A9DAF0776B27C12D51ACA5D7BB680CC66E0031D4B7EE5B9BAF976F91F0E1ABD6E3BCDC9D9E45BB92E1H2x5N" TargetMode="External"/><Relationship Id="rId6" Type="http://schemas.openxmlformats.org/officeDocument/2006/relationships/hyperlink" Target="consultantplus://offline/ref=E0C3E741A9DAF0776B27C12D51ACA5D7BB680CC66E0031D4B7EE5B9BAF976F91F0E1ABD6E3BCDC9D9E45BB91E9H2x7N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0C3E741A9DAF0776B27C12D51ACA5D7BB680CC66E0031D4B7EE5B9BAF976F91F0E1ABD6E3BCDC9D9E45BB92EDH2x5N" TargetMode="External"/><Relationship Id="rId2" Type="http://schemas.openxmlformats.org/officeDocument/2006/relationships/hyperlink" Target="consultantplus://offline/ref=E0C3E741A9DAF0776B27C12D51ACA5D7BB680CC66E0031D4B7EE5B9BAF976F91F0E1ABD6E3BCDC9D9E45BB91E8H2x4N" TargetMode="External"/><Relationship Id="rId3" Type="http://schemas.openxmlformats.org/officeDocument/2006/relationships/hyperlink" Target="consultantplus://offline/ref=E0C3E741A9DAF0776B27C12D51ACA5D7BB680CC66E0031DEB0EA599BAF976F91F0E1ABD6E3BCDC9D9E45B891E8H2xFN" TargetMode="External"/><Relationship Id="rId4" Type="http://schemas.openxmlformats.org/officeDocument/2006/relationships/hyperlink" Target="consultantplus://offline/ref=E0C3E741A9DAF0776B27C12D51ACA5D7BB680CC66E0031D5BDEC5E9BAF976F91F0E1ABD6E3BCDC9D9E45B89AE0H2x1N" TargetMode="External"/><Relationship Id="rId5" Type="http://schemas.openxmlformats.org/officeDocument/2006/relationships/hyperlink" Target="consultantplus://offline/ref=E0C3E741A9DAF0776B27C12D51ACA5D7BB680CC66E0031D4B7EE5B9BAF976F91F0E1ABD6E3BCDC9D9E45BB92EDH2x5N" TargetMode="External"/><Relationship Id="rId6" Type="http://schemas.openxmlformats.org/officeDocument/2006/relationships/hyperlink" Target="consultantplus://offline/ref=E0C3E741A9DAF0776B27C12D51ACA5D7BB680CC66E0031D4B7EE5B9BAF976F91F0E1ABD6E3BCDC9D9E45BB92E1H2x5N" TargetMode="External"/><Relationship Id="rId7" Type="http://schemas.openxmlformats.org/officeDocument/2006/relationships/hyperlink" Target="consultantplus://offline/ref=E0C3E741A9DAF0776B27C12D51ACA5D7BB680CC66E0031D4B7EE5B9BAF976F91F0E1ABD6E3BCDC9D9E45BB91E8H2x4N" TargetMode="External"/><Relationship Id="rId8" Type="http://schemas.openxmlformats.org/officeDocument/2006/relationships/hyperlink" Target="consultantplus://offline/ref=E0C3E741A9DAF0776B27C12D51ACA5D7BB680CC66E0031D4B7EE5B9BAF976F91F0E1ABD6E3BCDC9D9E45BB91E9H2x6N" TargetMode="External"/><Relationship Id="rId9" Type="http://schemas.openxmlformats.org/officeDocument/2006/relationships/hyperlink" Target="consultantplus://offline/ref=E0C3E741A9DAF0776B27C12D51ACA5D7BB680CC66E0031D4B7EE5B9BAF976F91F0E1ABD6E3BCDC9D9E45BB91E9H2x7N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0C3E741A9DAF0776B27C12D51ACA5D7BB680CC66E0031D4B7EE5B9BAF976F91F0E1ABD6E3BCDC9D9E45BB92EDH2x5N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ru-RU" sz="10000" spc="-1" strike="noStrike">
                <a:solidFill>
                  <a:srgbClr val="000099"/>
                </a:solidFill>
                <a:latin typeface="Times New Roman"/>
              </a:rPr>
              <a:t>Пояснительная записка</a:t>
            </a:r>
            <a:br>
              <a:rPr sz="9600"/>
            </a:br>
            <a:br>
              <a:rPr sz="9600"/>
            </a:b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прием, ошибки</a:t>
            </a:r>
            <a:br>
              <a:rPr sz="36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99"/>
                </a:solidFill>
                <a:uFillTx/>
                <a:latin typeface="Times New Roman"/>
              </a:rPr>
              <a:t>1строка ПЗ</a:t>
            </a:r>
            <a:r>
              <a:rPr b="0" lang="ru-RU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«Значения 1-ой строки пояснительной записки не соответствуют соответствующим значениям по отчету 4-фонд» 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рафа 6 «Уплачено страховых взносов» = платежи по  коду 03511.1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135000" y="2060640"/>
            <a:ext cx="8928000" cy="2384280"/>
          </a:xfrm>
          <a:prstGeom prst="rect">
            <a:avLst/>
          </a:prstGeom>
          <a:ln w="0">
            <a:noFill/>
          </a:ln>
        </p:spPr>
      </p:pic>
      <p:sp>
        <p:nvSpPr>
          <p:cNvPr id="57" name="Oval 5"/>
          <p:cNvSpPr/>
          <p:nvPr/>
        </p:nvSpPr>
        <p:spPr>
          <a:xfrm>
            <a:off x="8388360" y="3429000"/>
            <a:ext cx="755640" cy="627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177840" y="4573440"/>
            <a:ext cx="8929800" cy="2087640"/>
          </a:xfrm>
          <a:prstGeom prst="rect">
            <a:avLst/>
          </a:prstGeom>
          <a:ln w="0">
            <a:noFill/>
          </a:ln>
        </p:spPr>
      </p:pic>
      <p:sp>
        <p:nvSpPr>
          <p:cNvPr id="59" name="Oval 5"/>
          <p:cNvSpPr/>
          <p:nvPr/>
        </p:nvSpPr>
        <p:spPr>
          <a:xfrm>
            <a:off x="8388360" y="6093000"/>
            <a:ext cx="755640" cy="56808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тр. 1.1</a:t>
            </a:r>
            <a:br>
              <a:rPr sz="2800"/>
            </a:br>
            <a:r>
              <a:rPr b="0" lang="ru-RU" sz="2200" spc="-1" strike="noStrike" u="sng">
                <a:solidFill>
                  <a:srgbClr val="000099"/>
                </a:solidFill>
                <a:uFillTx/>
                <a:latin typeface="Times New Roman"/>
              </a:rPr>
              <a:t>Расчет стр.1.1 за 2018= стр.1 за 2018 – (минус) стр.2 за 2017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ошибка: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умма уплаченных страховых взносов по строке 1.1 больше разницы между уплатой по строке 1 и уплатой по строке 2 (за предыдущий отчетный период)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265611,96-13854,66=242757,30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должно быть - пример: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6781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72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430.60=6351.12</a:t>
            </a: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1" name="Picture 13" descr=""/>
          <p:cNvPicPr/>
          <p:nvPr/>
        </p:nvPicPr>
        <p:blipFill>
          <a:blip r:embed="rId1"/>
          <a:stretch/>
        </p:blipFill>
        <p:spPr>
          <a:xfrm>
            <a:off x="160200" y="2349360"/>
            <a:ext cx="8875800" cy="194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2"/>
          <a:stretch/>
        </p:blipFill>
        <p:spPr>
          <a:xfrm>
            <a:off x="160200" y="4508640"/>
            <a:ext cx="88758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/>
              </a:rPr>
              <a:t>строке 2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графы 6 заполняется сумма обязательных страховых взносов за отчетный период, перечисленная в следующем отчетном периоде (</a:t>
            </a:r>
            <a:r>
              <a:rPr b="0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+ 1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(в 2019 погашается задолженность за 2018)</a:t>
            </a:r>
            <a:br>
              <a:rPr sz="2800"/>
            </a:b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828800" y="3429000"/>
          <a:ext cx="601992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3429000"/>
                    <a:ext cx="6019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4500720" y="4869000"/>
            <a:ext cx="316692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00"/>
                </a:solidFill>
                <a:latin typeface="Times New Roman"/>
              </a:rPr>
              <a:t>3. Задолженность по страховым взносам </a:t>
            </a:r>
            <a:r>
              <a:rPr b="0" lang="ru-RU" sz="3200" spc="-1" strike="noStrike" u="sng">
                <a:solidFill>
                  <a:srgbClr val="808000"/>
                </a:solidFill>
                <a:uFillTx/>
                <a:latin typeface="Times New Roman"/>
              </a:rPr>
              <a:t>Фонда плательщику</a:t>
            </a:r>
            <a:r>
              <a:rPr b="0" lang="ru-RU" sz="3200" spc="-1" strike="noStrike">
                <a:solidFill>
                  <a:srgbClr val="808000"/>
                </a:solidFill>
                <a:latin typeface="Times New Roman"/>
              </a:rPr>
              <a:t> на 01.01. отчетного (n) периода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09480" y="2349360"/>
            <a:ext cx="79250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й строке заполняется только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графа 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 ней указыва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олженность Фонда перед организацией на 01.01.201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ыми словами, здесь отображается дебетовое сальдо на 01.01.2018 по счету 69 "Расчеты по социальному страхованию и обеспечению", если оно имее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4674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4. Скорректировано в отчете 4-фонд </a:t>
            </a:r>
            <a:br>
              <a:rPr sz="4400"/>
            </a:b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(не начислено своевременно «+»; излишне начислено «-»)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39640" y="3357720"/>
            <a:ext cx="7848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ой строке отражаются корректировки за прошлые годы (начиная с 2003 года). При этом для сведений каждого года выделяется отдельная строка. Указываются только те годы, которые были скорректированы в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отчете 4-фон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 2018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52280" y="380880"/>
            <a:ext cx="8763120" cy="70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в 2018 году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уменьшалис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уммы выплат, пособий или взносов за прошлые периоды, то суммы корректировок указываются со знаком "минус". 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суммы корректировок за прошлые годы отражаются в пояснительной </a:t>
            </a:r>
            <a:r>
              <a:rPr b="0" lang="ru-RU" sz="36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записк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за 2018 год в деноминированных денежных единицах.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52280" y="380880"/>
            <a:ext cx="876312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ммы корректировок за 2003 - 2017 годы, вошедшие в </a:t>
            </a:r>
            <a:r>
              <a:rPr b="0" lang="ru-RU" sz="4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отчет 4-фон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за 2018 год, отражаются в </a:t>
            </a:r>
            <a:r>
              <a:rPr b="0" lang="ru-RU" sz="4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графах 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4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начисленные (излишне начисленные) суммы по акта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верок не включаю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графе 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начение определяется по формуле: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. 6 = (гр. 3 + гр. 4) - гр. 5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03040" y="476280"/>
            <a:ext cx="87631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троке, которая выделена дл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четного 2018 г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могут быть указаны только те суммы пособий, взносов, которые согласно акту проверки не были приняты к зачету или не были доначислены за 2018 год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и суммы указываются в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графах 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5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строки 4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ри условии, что они не отражены в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отчете 4-фонд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за 2018 год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графе 6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проставляются суммы взносов, перечисленные в связи с проведением соответствующих корректировок по актам проверок за 2018 год. В данной графе значение определяется по формуле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. 6 = гр. 5 - (гр. 3 + гр. 4)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В январе 2018 года до представления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форм ПУ-3</a:t>
            </a: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 за 2017 год организация:</a:t>
            </a:r>
            <a:br>
              <a:rPr sz="1600"/>
            </a:b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- доначислила работнику заработную плату за 2017 год в сумме 100 руб.;</a:t>
            </a:r>
            <a:br>
              <a:rPr sz="1600"/>
            </a:b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 - начислила работнику пособие по временной нетрудоспособности за период с 28.12.2017 по 15.01.2018. Часть этого пособия, приходящаяся на 2017 год, составила 88р.</a:t>
            </a:r>
            <a:br>
              <a:rPr sz="1600"/>
            </a:b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В мае 2018 года было скорректировано излишне начисленное в 2014 году пособие по временной нетрудоспособности другого работника. Оно было уменьшено на 300000 руб. (в новых денежных единицах 30р.).</a:t>
            </a:r>
            <a:br>
              <a:rPr sz="1600"/>
            </a:b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Данные суммы включены в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отчет 4-фонд</a:t>
            </a: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 за 2018 год. В персонифицированном учете они относятся к сведениям за 2014 и 2017 годы, поэтому в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формах ПУ-3</a:t>
            </a: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 за 2018 год не отражаются .В пояснительной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записке</a:t>
            </a: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 к формам ПУ-3 за 2018 год эти суммы будут указаны с учетом деноминации следующим образом:</a:t>
            </a:r>
            <a:br>
              <a:rPr sz="1600"/>
            </a:br>
            <a:endParaRPr b="0" lang="en-US" sz="1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826920" y="3500280"/>
          <a:ext cx="7772400" cy="312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3500280"/>
                    <a:ext cx="77724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6" descr=""/>
          <p:cNvPicPr/>
          <p:nvPr/>
        </p:nvPicPr>
        <p:blipFill>
          <a:blip r:embed="rId7"/>
          <a:stretch/>
        </p:blipFill>
        <p:spPr>
          <a:xfrm>
            <a:off x="1042920" y="6381720"/>
            <a:ext cx="433440" cy="1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тр</a:t>
            </a:r>
            <a:r>
              <a:rPr b="0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.9 (2017)=стр.4 (2018) - </a:t>
            </a:r>
            <a:r>
              <a:rPr b="0" i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знаки те же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уммы по строке №4 (откорректировано за предыдущий год) не соответствуют суммам по строке №9 (из пояснит.записки, предоставленной за предыдущий отчетный год)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5" name="Picture 23" descr=""/>
          <p:cNvPicPr/>
          <p:nvPr/>
        </p:nvPicPr>
        <p:blipFill>
          <a:blip r:embed="rId1"/>
          <a:stretch/>
        </p:blipFill>
        <p:spPr>
          <a:xfrm>
            <a:off x="208080" y="1913040"/>
            <a:ext cx="8591400" cy="1885680"/>
          </a:xfrm>
          <a:prstGeom prst="rect">
            <a:avLst/>
          </a:prstGeom>
          <a:ln w="0">
            <a:noFill/>
          </a:ln>
        </p:spPr>
      </p:pic>
      <p:sp>
        <p:nvSpPr>
          <p:cNvPr id="86" name="Oval 20"/>
          <p:cNvSpPr/>
          <p:nvPr/>
        </p:nvSpPr>
        <p:spPr>
          <a:xfrm flipV="1">
            <a:off x="4229280" y="3540960"/>
            <a:ext cx="37274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136440" y="4081320"/>
            <a:ext cx="8683560" cy="2443320"/>
          </a:xfrm>
          <a:prstGeom prst="rect">
            <a:avLst/>
          </a:prstGeom>
          <a:ln w="0">
            <a:noFill/>
          </a:ln>
        </p:spPr>
      </p:pic>
      <p:sp>
        <p:nvSpPr>
          <p:cNvPr id="88" name="Oval 22"/>
          <p:cNvSpPr/>
          <p:nvPr/>
        </p:nvSpPr>
        <p:spPr>
          <a:xfrm flipV="1">
            <a:off x="7299360" y="6236640"/>
            <a:ext cx="7621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  <a:ea typeface="Arial"/>
              </a:rPr>
              <a:t> </a:t>
            </a: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Arial"/>
              </a:rPr>
              <a:t>ИНСТРУКЦИЯ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Arial"/>
              </a:rPr>
              <a:t>О ПОРЯДКЕ ПЕРЕДАЧИ-ПРИЕМА ФОРМ ДОКУМЕНТОВ ПЕРСОНИФИЦИРОВАННОГО УЧЕТА</a:t>
            </a:r>
            <a:br>
              <a:rPr sz="20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5.Пачки ДПУ, содержащие формы ПУ-3 за отчетный период, передаются в полном объеме и в установленные законодательством сроки, но не ранее сдачи формы ведомственной отчетности о средствах бюджета государственного внебюджетного фонда социальной защиты населения Республики Беларус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1600"/>
            </a:br>
            <a:br>
              <a:rPr sz="16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трока 5 предназначена для сумм, переходящих с отчетного на следующий год, т.е. с 2018 года на 2019 го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 таким суммам относятся, например, суммы пособий по больничным и суммы отпускных за 2019 год, которые начислены в 2018 году и, соответственно, отражены в 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отчете 4-фонд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за 2018 го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1600"/>
            </a:br>
            <a:br>
              <a:rPr sz="16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мен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порядке заполнения пояснительной запис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C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трока 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а 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назначена для отражения сумм пособий по временной нетрудоспособности и (или) по беременности и родам, начисленных после даты увольнения с работы. Как уже было сказано, с 2018 года такие суммы стали отражаться в 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формах ПУ-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В связи с этим в 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строке 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казано, что она заполняется для отчетных периодов 2013 - 2017 годов, а с отчетного 2018 года в ней указывается "0" (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подп. 1.1 п.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становления N 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70120" y="549360"/>
          <a:ext cx="7403760" cy="5772240"/>
        </p:xfrm>
        <a:graphic>
          <a:graphicData uri="http://schemas.openxmlformats.org/drawingml/2006/table">
            <a:tbl>
              <a:tblPr/>
              <a:tblGrid>
                <a:gridCol w="1749240"/>
                <a:gridCol w="608040"/>
                <a:gridCol w="1711440"/>
                <a:gridCol w="1306440"/>
                <a:gridCol w="977760"/>
                <a:gridCol w="1050840"/>
              </a:tblGrid>
              <a:tr h="1798560">
                <a:tc grid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 - 2017 год.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ник был уволен 20.10.2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При этом ему было назначено пособие по больничному, выданному в связи с заболеванием на период с 10.10.2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о 25.10.2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В </a:t>
                      </a:r>
                      <a:r>
                        <a:rPr b="0" lang="ru-RU" sz="14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форму ПУ-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за 20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год включается сумма пособия только за период до даты увольнения, а в </a:t>
                      </a:r>
                      <a:r>
                        <a:rPr b="0" lang="ru-RU" sz="14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отчет 4-фон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- вся начисленная сумма пособия. Допустим, сумма пособия, начисленная за период после увольнения (с 21 по 25 октября), составила 100,75 руб. Она указывается в </a:t>
                      </a:r>
                      <a:r>
                        <a:rPr b="0" lang="ru-RU" sz="14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графах 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 </a:t>
                      </a:r>
                      <a:r>
                        <a:rPr b="0" lang="ru-RU" sz="14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  <a:ea typeface="Times New Roman"/>
                          <a:hlinkClick r:id="rId4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4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  <a:ea typeface="Times New Roman"/>
                          <a:hlinkClick r:id="rId5"/>
                        </a:rPr>
                        <a:t>строки 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ояснительной записки следующим образом: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81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о, рублей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лачено страховых взносов, рублей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выплат, на которые начисляются страховые взносы 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й по временной нетрудоспособности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ов за счет средств бюджета фонда, не отражаемых в </a:t>
                      </a:r>
                      <a:r>
                        <a:rPr b="0" lang="ru-RU" sz="8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  <a:ea typeface="Times New Roman"/>
                          <a:hlinkClick r:id="rId6"/>
                        </a:rPr>
                        <a:t>формах ПУ-3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ховых взносов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Сумма пособий по временной нетрудоспособности и (или) по беременности и родам после даты увольнния с работы, отраженная в </a:t>
                      </a:r>
                      <a:r>
                        <a:rPr b="0" lang="ru-RU" sz="8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  <a:ea typeface="Times New Roman"/>
                          <a:hlinkClick r:id="rId7"/>
                        </a:rPr>
                        <a:t>отчете 4-фонд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75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75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Строка 8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08000"/>
                </a:solidFill>
                <a:latin typeface="Times New Roman"/>
              </a:rPr>
              <a:t>В этой строке отражаются суммы, переходящие с предшествующего на отчетный год (т.е. с 2017 на 2018 год):</a:t>
            </a:r>
            <a:br>
              <a:rPr sz="2400"/>
            </a:b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уммы пособий по больничным, начисленные в 2017 году, но включенные в ПУ-3 в 2018 году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уммы иных расходов за счет средств бюджета Фонда, не отражаемые в формах ПУ-3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уммы отпускных, которые были начислены, отражены в отчете 4-фонд за 2017 год и перечислены в 2017 году, а отражаются в формах ПУ-3 за 2018 г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68360" y="41400"/>
          <a:ext cx="7704000" cy="6798960"/>
        </p:xfrm>
        <a:graphic>
          <a:graphicData uri="http://schemas.openxmlformats.org/drawingml/2006/table">
            <a:tbl>
              <a:tblPr/>
              <a:tblGrid>
                <a:gridCol w="1654200"/>
                <a:gridCol w="1195200"/>
                <a:gridCol w="1771920"/>
                <a:gridCol w="850680"/>
                <a:gridCol w="1266840"/>
                <a:gridCol w="965160"/>
              </a:tblGrid>
              <a:tr h="3292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2017 году были начислены: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собие по беременности и родам за период с 16.11.2017 по 20.03.2018. Сумма пособия, приходящаяся на период 2018 года, составила 1455 руб.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п..;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пускные за период с 21.12.2017 по 18.01.2018. Взносы были начислены на всю сумму отпускных и уплачены при перечислении в декабре 2017 года отпускных работнику. Отпускные за 2018 год составляют 350 руб.18 коп.., начисленные на них взносы – 122 руб.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п.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мы отпускных и пособий по больничным отражаются в формах ПУ-3 в тех периодах, за которые они начислены. В отчете 4-фонд отпускные включаются в том периоде, когда на них начислены взносы. Пособия отражаются в отчете в месяце начисления .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мы, начисленные в 2017 году и указанные в отчете 4-фонд за 2017 год, но включенные в формы ПУ-3 за 2018 год, были отражены в пояснительной записке за 2017 год в строке 5. При сдаче форм ПУ-3 за 2018 год эти суммы указываются в строке 8 пояснительной записки за 2018 год. В данной ситуации пояснительная записка заполняется так: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о, рублей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лачено страховых взносов, рублей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выплат, на которые начисляются страховые взносы 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ыплаты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собий по в/н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ховых взносов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Переходящая сумма с предшествующего отчетного периода (отражена в отчете 4-фонд в предыдущем году, учитывается при заполнении форм ПУ-3 за отчетный год)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,18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5,20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2,56</a:t>
                      </a:r>
                      <a:endParaRPr b="0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32,64 &lt;*&gt;</a:t>
                      </a:r>
                      <a:endParaRPr b="0" lang="en-US" sz="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3"/>
          <p:cNvSpPr/>
          <p:nvPr/>
        </p:nvSpPr>
        <p:spPr>
          <a:xfrm>
            <a:off x="0" y="545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52280"/>
            <a:ext cx="91440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Times New Roman"/>
              </a:rPr>
              <a:t>Суммы по строке №8 (из этой пояснит.записки) не соответствуют суммам по строке №5 (из пояснит.записки, предоставленной за предыдущий отчетный год).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тр.5 (2017)=стр.8(2018)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8400" y="2182680"/>
            <a:ext cx="9144000" cy="2914920"/>
          </a:xfrm>
          <a:prstGeom prst="rect">
            <a:avLst/>
          </a:prstGeom>
          <a:ln w="0">
            <a:noFill/>
          </a:ln>
        </p:spPr>
      </p:pic>
      <p:sp>
        <p:nvSpPr>
          <p:cNvPr id="100" name="Oval 4"/>
          <p:cNvSpPr/>
          <p:nvPr/>
        </p:nvSpPr>
        <p:spPr>
          <a:xfrm>
            <a:off x="6762600" y="4791240"/>
            <a:ext cx="1981440" cy="31248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323640"/>
          </a:xfrm>
          <a:prstGeom prst="rect">
            <a:avLst/>
          </a:prstGeom>
          <a:ln w="0">
            <a:noFill/>
          </a:ln>
        </p:spPr>
      </p:pic>
      <p:sp>
        <p:nvSpPr>
          <p:cNvPr id="102" name="Oval 7"/>
          <p:cNvSpPr/>
          <p:nvPr/>
        </p:nvSpPr>
        <p:spPr>
          <a:xfrm flipV="1">
            <a:off x="4643280" y="5950080"/>
            <a:ext cx="426744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1619280" y="2349360"/>
            <a:ext cx="6490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  <a:ea typeface="Arial"/>
              </a:rPr>
              <a:t> </a:t>
            </a: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Arial"/>
              </a:rPr>
              <a:t>ИНСТРУКЦИЯ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Arial"/>
              </a:rPr>
              <a:t>О ПОРЯДКЕ ПЕРЕДАЧИ-ПРИЕМА ФОРМ ДОКУМЕНТОВ ПЕРСОНИФИЦИРОВАННОГО УЧЕТА</a:t>
            </a:r>
            <a:br>
              <a:rPr sz="20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</a:rPr>
              <a:t>Пояснительная </a:t>
            </a:r>
            <a:r>
              <a:rPr b="0" lang="ru-RU" sz="3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записка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</a:rPr>
              <a:t> к пачкам ДПУ, содержащим формы ПУ-3, представляется плательщиком страховых взносов за отчетный год в сроки, установленные для сдачи форм ПУ-3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</a:rPr>
              <a:t>Пояснительная записка к пачкам ДПУ, содержащим формы ПУ-3, не подписанная электронной цифровой подписью, заполняется и представляется в орган Фонда плательщиком страховых взносов на бумажном носител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9308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8" name="Object 3"/>
          <p:cNvGraphicFramePr/>
          <p:nvPr/>
        </p:nvGraphicFramePr>
        <p:xfrm>
          <a:off x="1523880" y="0"/>
          <a:ext cx="5715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5715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286000" y="-11574360"/>
            <a:ext cx="4572000" cy="443736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опрос: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В каких случаях </a:t>
            </a:r>
            <a:r>
              <a:rPr b="0" lang="ru-RU" sz="900" spc="-1" strike="noStrike">
                <a:solidFill>
                  <a:srgbClr val="000099"/>
                </a:solidFill>
                <a:latin typeface="Times New Roman"/>
              </a:rPr>
              <a:t>подается исходная пояснительная записка к формам ПУ-3, а в каких - отменяющая?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99"/>
                </a:solidFill>
                <a:latin typeface="Times New Roman"/>
              </a:rPr>
              <a:t>Ответ:</a:t>
            </a:r>
            <a:r>
              <a:rPr b="0" lang="ru-RU" sz="900" spc="-1" strike="noStrike">
                <a:solidFill>
                  <a:srgbClr val="000099"/>
                </a:solidFill>
                <a:latin typeface="Times New Roman"/>
              </a:rPr>
              <a:t> Постановлением правления Фонда N 11 внесены дополнения в форму пояснительной записки к пачкам документов персонифицированного учета, содержащим форму ПУ-3 "Индивидуальные сведения" (далее - форма пояснительной записки). Форма пояснительной записки дополнена типом формы "исходная" или "отменяющая" для удобства ее заполнения и корректировки плательщиками страховых взносов.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99"/>
                </a:solidFill>
                <a:latin typeface="Times New Roman"/>
              </a:rPr>
              <a:t>Форма пояснительной записки (тип формы - отменяющая) обязательно должна заполняться в случае корректировки строк, содержащих переходящие суммы: строка 5 "Суммы, отраженные в отчете 4-фонд, в счет будущих периодов (учитываются при заполнении форм ПУ-3 в следующем отчетном году)"; строка 8 "Переходящая сумма с предшествующего отчетного периода (отражена в отчете 4-фонд в предыдущем году, учитывается при заполнении форм ПУ-3 за отчетный год)"; строка 4 "Скорректировано в отчете 4-фонд (не начислено своевременно "+"; излишне начислено "-")", строка 9 "Сумма, учтенная при заполнении форм ПУ-3 за отчетный год (подлежащая корректировке в отчете 4-фонд в следующем году) ("+"; "-")".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99"/>
                </a:solidFill>
                <a:latin typeface="Times New Roman"/>
              </a:rPr>
              <a:t>Например, в случае если необходимо откорректировать данные формы пояснительной записки за 2015 год (например, суммы по строке 5 "Суммы, отраженные в отчете 4-фонд, в счет будущих периодов (учитываются при заполнении форм ПУ-3 в следующем отчетном году)"), то необходимо представить пояснительные записки с типом формы "отменяющая" за 2015 год и 2016 год, а затем представить пояснительные записки с типом формы "исходная" за 2015 год и 2016 год.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99"/>
                </a:solidFill>
                <a:latin typeface="Times New Roman"/>
              </a:rPr>
              <a:t>Заменить данные с помощью исходной пояснительной записки можно только в случае, если надо исправлять строки, кроме строк 4, 5, 8, 9.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99"/>
                </a:solidFill>
                <a:latin typeface="Times New Roman"/>
              </a:rPr>
              <a:t>Тип формы "исходная" формы пояснительной записки полностью заменяет данные, указанные в форме пояснительной записки за отчетный период, т.е. если нужно откорректировать данные пояснительной записки за 2016 год, то можно представить тип формы "отменяющая", а затем тип формы "исходная" или представить тип формы "исходная".</a:t>
            </a:r>
            <a:endParaRPr b="0" lang="en-US" sz="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324000" y="115920"/>
            <a:ext cx="882000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Постановлением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равления Фонда N 11 внесены дополнения в </a:t>
            </a:r>
            <a:r>
              <a:rPr b="0" lang="ru-RU" sz="32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форму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пояснительной записки к пачкам документов персонифицированного учета, содержащим форму ПУ-3 "Индивидуальные сведения"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(далее - форма пояснительной записки).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Форма пояснительной записки дополнена типом формы "исходная" или "отменяющая" для удобства ее заполнения и корректировки плательщиками страховых взносов.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755640" y="-1419120"/>
            <a:ext cx="7848720" cy="78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Форма пояснительной записки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(тип формы - отменяющая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бязательно должна заполняться в случае корректировки строк, содержащих переходящие суммы: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строка 5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"Суммы, отраженные в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отчете 4-фонд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в счет будущих периодов (учитываются при заполнении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форм ПУ-3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в следующем отчетном году)";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строка 8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"Переходящая сумма с предшествующего отчетного периода (отражена в отчете 4-фонд в предыдущем году, учитывается при заполнении форм ПУ-3 за отчетный год)";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строка 4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"Скорректировано в отчете 4-фонд (не начислено своевременно "+"; излишне начислено "-")",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строка 9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"Сумма, учтенная при заполнении форм ПУ-3 за отчетный год (подлежащая корректировке в отчете 4-фонд в следующем году) ("+"; "-")"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24000" y="-3265560"/>
            <a:ext cx="8496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апример, в случае если необходимо откорректировать данные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формы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пояснительной записки за 2016 год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(например, суммы по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строке 5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"Суммы, отраженные в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отчете 4-фонд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в счет будущих периодов (учитываются при заполнении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форм ПУ-3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в следующем отчетном году)"), то необходимо представить пояснительные записки с типом формы "отменяющая" за 2016 год и 2017 год, а затем представить пояснительные записки с типом формы "исходная" за 2016 год и 2017 год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менить данные с помощью исходной пояснительной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записк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можно только в случае, если надо исправлять строки, кроме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строк 4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7"/>
              </a:rPr>
              <a:t>5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8"/>
              </a:rPr>
              <a:t>8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hlinkClick r:id="rId9"/>
              </a:rPr>
              <a:t>9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24000" y="-3265560"/>
            <a:ext cx="8496000" cy="10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Тип формы "исходная" </a:t>
            </a:r>
            <a:r>
              <a:rPr b="0" lang="ru-RU" sz="36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формы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пояснительной записки полностью заменяет данные, указанные в форме пояснительной записки за отчетный период, т.е. если нужно откорректировать данные пояснительной записки за 2017 год, то можно представить тип формы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отменяющая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”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, а затем тип формы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исходная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”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или представить тип формы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исходная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”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(до представления ПЗ за 2018) 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енко Ирина Михайловна</dc:creator>
  <dc:description/>
  <dc:language>en-US</dc:language>
  <cp:lastModifiedBy>Serg</cp:lastModifiedBy>
  <dcterms:modified xsi:type="dcterms:W3CDTF">2019-02-15T12:35:40Z</dcterms:modified>
  <cp:revision>109</cp:revision>
  <dc:subject/>
  <dc:title>PowerPoint Presentation</dc:title>
</cp:coreProperties>
</file>