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E9D-F166-4D37-974F-246A0FE0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29C-A7FC-4036-8793-06B363EC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22E-8DA6-401A-B991-2ECCDC0A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73A-BB4E-47B4-8D90-264E3279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D3B-E33E-462C-8A37-EAF904FF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031-C04F-4E55-B755-038EE65E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34D-5249-4360-92E7-614D806F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F8D-3EE6-4895-A61D-1D7FC6D5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142-8A3D-4BDC-A6EF-F543B98F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E21-4FC4-4503-A2D3-2D8719B9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6B6-488D-4931-BB2E-4D4011F1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C1E-B917-48E1-AAD7-C967BEB6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DD9B-46C2-4456-9842-50548AC501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onsultantplus://offline/ref=346AA7D030E755A02CD71225CA110B56E2F8C1D67A557147C244708F6B407A02559ADE9E80D1C30D2489100FB9Z2R1L" TargetMode="External"/><Relationship Id="rId2" Type="http://schemas.openxmlformats.org/officeDocument/2006/relationships/hyperlink" Target="consultantplus://offline/ref=346AA7D030E755A02CD71225CA110B56E2F8C1D67A557147CD44798F6B407A02559ADE9E80D1C30D2489120EBBZ2R0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22148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. 9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заполняются суммы доначисленных или излишне начисленных выплат и пособий, которые не вошли в отчет 4-фонд за отчетный 2018 г. и будут скорректированы в отчете 4-фонд за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квартал 2019 г. Формы ПУ-3 представляют после сдачи отчета 4-фонд, обнаруживаются ошибки. Индивидуальные сведения готовятся с учетом исправленных ошибок, а сумму расхождений указывают в стр. 9 пояснительной записки за 2018 г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эту строку также включаются суммы пособий по временной нетрудоспособности, начисленные в 2019 г. за 2018 г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а 1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тоговая. В программном комплексе «Ввод ДПУ» она рассчитывается автоматически по определенному алгоритм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ммы по стр. 11 должны соответствовать суммам по всем представленным формам ПУ-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7"/>
          <p:cNvGraphicFramePr/>
          <p:nvPr/>
        </p:nvGraphicFramePr>
        <p:xfrm>
          <a:off x="914400" y="0"/>
          <a:ext cx="69343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6934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Oval 8"/>
          <p:cNvSpPr/>
          <p:nvPr/>
        </p:nvSpPr>
        <p:spPr>
          <a:xfrm>
            <a:off x="5562720" y="0"/>
            <a:ext cx="1371600" cy="106668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7" name="Object 12"/>
          <p:cNvGraphicFramePr/>
          <p:nvPr/>
        </p:nvGraphicFramePr>
        <p:xfrm>
          <a:off x="304920" y="1600200"/>
          <a:ext cx="845820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00200"/>
                    <a:ext cx="84582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13"/>
          <p:cNvGraphicFramePr/>
          <p:nvPr/>
        </p:nvGraphicFramePr>
        <p:xfrm>
          <a:off x="228600" y="4038480"/>
          <a:ext cx="853452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038480"/>
                    <a:ext cx="85345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Oval 14"/>
          <p:cNvSpPr/>
          <p:nvPr/>
        </p:nvSpPr>
        <p:spPr>
          <a:xfrm>
            <a:off x="7086600" y="1905120"/>
            <a:ext cx="1752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7162920" y="5486400"/>
            <a:ext cx="17524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609480" y="228600"/>
          <a:ext cx="80773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80773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09480" y="228600"/>
          <a:ext cx="822960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82296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2860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826920" y="333360"/>
            <a:ext cx="7921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В правилах приема-передачи ДПУ теперь прописано, что каждой пояснительной </a:t>
            </a:r>
            <a:r>
              <a:rPr b="0" lang="ru-RU" sz="4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записке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 к пачкам с формами ПУ-3 плательщик взносов присваивает порядковый номер, который не должен повторяться. 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подп. 1.2 п. 1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Постановления N 1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2860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628560" y="-38160"/>
            <a:ext cx="849780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Срок для исправления отклоненных форм ПУ-3 и пояснительной записки.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Times New Roman"/>
              </a:rPr>
              <a:t>Если формы ПУ-3 или пояснительная записка к пачкам с этими формами отклонены из-за несоответствия установленным требованиям, то они должны быть исправлены и представлены не позднее установленного для сдачи срока (подп. 1.2 п. 1 Постановления N 1). 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(Ранее в такой ситуации отклоненные документы необходимо было исправить и повторно представить в течение 14 рабочих дней со дня их возврата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33360" y="1428840"/>
            <a:ext cx="7877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 пачкам документов  персонифицированного учета, содержащим формы ПУ-3 «Индивидуальные сведения»,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жеквартально не представляетс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819000" y="-1050840"/>
            <a:ext cx="7905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яснительная записка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енко Ирина Михайловна</dc:creator>
  <dc:description/>
  <dc:language>en-US</dc:language>
  <cp:lastModifiedBy>Serg</cp:lastModifiedBy>
  <dcterms:modified xsi:type="dcterms:W3CDTF">2019-02-15T12:36:05Z</dcterms:modified>
  <cp:revision>109</cp:revision>
  <dc:subject/>
  <dc:title>PowerPoint Presentation</dc:title>
</cp:coreProperties>
</file>