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04BD-D2BF-4136-8214-907F631EC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F61-B1ED-4D6A-8C4C-E8BC5F4A4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D93-26B7-4963-9CB7-BAA0A60E8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3C12-327E-42E9-82FA-F884311E9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 "Гражданство" заполняется, если реквизит "Тип формы" содержит значение "Регистрация" или "Изменение анкетных данных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визит "Гражданство" содержит значение "112" (Республика Беларусь), то реквизит "Идентификационный номер" должен содержать знач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бзац введен постановлением правления Фонда соцзащиты от 10.01.2019 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5937-B97B-4201-B5D6-72331DAAB9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consultantplus://offline/ref=AD47E14B1A0C055AB95D6B5472CB8160F5987AD6CE829CDAD4161DEA34825083FCE4A3BA5C1E9E2820A1CEA0BD75KDN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consultantplus://offline/ref=1E19C097551AB1A0D23B01214D9D63E53EDC5481E321F864570F02D18B76A4EA693F1C1A99E53BAB40A68D8665J0G9O" TargetMode="External"/><Relationship Id="rId4" Type="http://schemas.openxmlformats.org/officeDocument/2006/relationships/hyperlink" Target="consultantplus://offline/ref=1E19C097551AB1A0D23B01214D9D63E53EDC5481E321F864570F02D18B76A4EA693F1C1A99E53BAB40A68D8664J0GDO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hyperlink" Target="consultantplus://offline/ref=027B8AF852AD88D6DF6FBF19690A083E8EDD634E713B2B41B4C71AAD2B47AAD0B22995CD38EB0E2CDBFA19EFB2W507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hyperlink" Target="consultantplus://offline/ref=027B8AF852AD88D6DF6FBF19690A083E8EDD634E713B2B41B4C71AAD2B47AAD0B22995CD38EB0E2CDBFA18E8B5W50CM" TargetMode="External"/><Relationship Id="rId4" Type="http://schemas.openxmlformats.org/officeDocument/2006/relationships/hyperlink" Target="consultantplus://offline/ref=027B8AF852AD88D6DF6FBF19690A083E8EDD634E713B2B41B4C71AAD2B47AAD0B22995CD38EB0E2CDBFA18E8B5W50C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consultantplus://offline/ref=1E19C097551AB1A0D23B01214D9D63E53EDC5481E321FB695E0F07D18B76A4EA693F1C1A99E53BAB40A68D8467J0G5O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consultantplus://offline/ref=1E19C097551AB1A0D23B01214D9D63E53EDC5481E321F56D540301D18B76A4EA693F1C1A99E53BAB40A68D8467J0GBO" TargetMode="External"/><Relationship Id="rId3" Type="http://schemas.openxmlformats.org/officeDocument/2006/relationships/hyperlink" Target="consultantplus://offline/ref=1E19C097551AB1A0D23B01214D9D63E53EDC5481E321F86A570F01D18B76A4EA693F1C1A99E53BAB40A68D8467J0G8O" TargetMode="External"/><Relationship Id="rId4" Type="http://schemas.openxmlformats.org/officeDocument/2006/relationships/slide" Target="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consultantplus://offline/ref=8C7CE4B1521F3DC53005B580D630DA1F620A66C36793A425584808B8F315B44F40947C858F13D2FEB3AF8D6A81F4K9N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8C7CE4B1521F3DC53005B580D630DA1F620A66C36793A92C5D4A00B8F315B44F40947C858F13D2FEB3AF8D6582F4K0N" TargetMode="External"/><Relationship Id="rId2" Type="http://schemas.openxmlformats.org/officeDocument/2006/relationships/hyperlink" Target="consultantplus://offline/ref=8C7CE4B1521F3DC53005B580D630DA1F620A66C36793A425584808B8F315B44F40947C858F13D2FEB3AF8D6A80F4K1N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E19C097551AB1A0D23B01214D9D63E53EDC5481E321F56D540301D18B76A4EA693F1C1A99E53BAB40A68D8467J0GBO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1970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форм ДП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9 год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свидетельст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249800" y="1235160"/>
            <a:ext cx="330516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573120" y="3309840"/>
            <a:ext cx="828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визит "Тип формы" содержит значе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значения в других реквизита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реквизитов "Телефоны: служебный", "Телефоны: домашний", "Дата заполнения"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квизитах, содержащихся в разделе "Сведения, указанные в ранее выданном свидетельстве социального страхования", должны отсутствов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постанов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ления Фонда соцзащиты от 10.01.2019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4411800" y="1596960"/>
            <a:ext cx="263520" cy="260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98320" y="4950000"/>
            <a:ext cx="8153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9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17 Правил индивидуального (персонифицированного) учета застрахованных лиц в системе государственного социального страхован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социального страх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дается органом Фонда социальной защиты населения плательщику страховых взносов в тече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рабочих дн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дня открытия индивидуального лицевого счета (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-1 меся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сстановление свидетельст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392040" y="1174680"/>
            <a:ext cx="8256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Форма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восстановление свидетельства социального страхования) представляется в орган Фонда социальной защиты населения при утере свидетельства социального страхования, его непригодности и других аналогичных случая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5 рабочих дней со дня письменного обращения застрахованного лица к работодател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 представительство (филиал) Белгосстр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самостоятельно уплачивающее страховые взнос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бюджет фонда, для получения нового свидетельства социального страхова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ляет в орган Фон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защиты насел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месту постановки на учет в качестве плательщик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овых взносо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форму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восстановление свидетельства социального страхо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ахованное лицо, временно не работающее и не ставшее на уче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лательщика страховых взносов, может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ь в орган Фонда социальной защиты населения по месту жительства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форму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восстановление свидетельства социального страхования) для получения нового свидетельства социального страх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я о приеме и увольнен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72960" y="1187280"/>
            <a:ext cx="851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Форма 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яется и предста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застрахованным лицам, работающим по трудовому договору, - работодателем на основании приказов (распоряжений) о приеме на работу и увольнении с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застрахованным лицам, состоящим (состоявшим) в трудовых отношениях, - работодателем, с которым оформлены (прекращены) трудовые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застрахованным лицам, временно переведенным на работу к другому работодателю в связи с производственн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необходимост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в случа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просто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- этим работодате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 переподчинении, реорганизации организации и смене собственника имущества -работодателем, с которым продолжаются трудовые отношения застрахованного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я о приеме и увольнен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53880" y="1400040"/>
            <a:ext cx="7961400" cy="20098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53880" y="37004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записи о документ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визит "Тип формы" содержит знач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полнена дата увольнения, то без даты приема не может быть второй даты увольнения с работы по одному застрахованному лицу за один отчетный пери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011480" y="1735200"/>
            <a:ext cx="113364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53880" y="49100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Граф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д работы по совместительству"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, если застрахованное лицо является внешним совместителем, в графе ук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застрахованное лицо не является внешним совместителем, граф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6254640" y="1898640"/>
            <a:ext cx="1131840" cy="168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я о приеме и увольнен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371520" y="1305000"/>
            <a:ext cx="8211960" cy="1757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436680" y="3246480"/>
            <a:ext cx="851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необходимости корректировки ранее представленных 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форме 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дений заполняется фор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-2 (тип формы - исходная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лностью заменяет данные по одному или нескольким застрахованным лицам за квартал, в котором корректируется информация, представленная ранее. Правильно заполненные реквизиты повторяются в таком же виде, как они были заполнены 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форме 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енной ранее за определенный отчетный период, неправильные заменяются прави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я о приеме и увольнении»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372960" y="1236600"/>
            <a:ext cx="851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Форма 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исходная) представляется работодателе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в квартал не позднее 10-го числа меся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едующего за отчетным кварталом, а также при возникновении необходимости корректировки представленной ране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первая п. 15 в ред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постанов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мина от 09.08.2018 N 5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застрахованным лицам, принятым и (или) уволенным с работы в текущем квартале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им в этом квартале свое право на назначение пенс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расчет назначенной пенсии, перевод с одного вида пенсии на другой)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форма ПУ-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исходная) представляется в теч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рабочих дн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одачи застрахованным лицом соответствующего заявления работодателю в орган по труду, занятости и социальной защите, в орган Фонда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я Совмина от 05.08.2011 N 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2 - ошиб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372960" y="3395520"/>
            <a:ext cx="86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ЛС есть две даты приема, идущие подряд в календарном поряд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41360" y="1158840"/>
            <a:ext cx="6181560" cy="2162160"/>
          </a:xfrm>
          <a:prstGeom prst="rect">
            <a:avLst/>
          </a:prstGeom>
          <a:ln w="0">
            <a:noFill/>
          </a:ln>
        </p:spPr>
      </p:pic>
      <p:sp>
        <p:nvSpPr>
          <p:cNvPr id="116" name="Oval 13"/>
          <p:cNvSpPr/>
          <p:nvPr/>
        </p:nvSpPr>
        <p:spPr>
          <a:xfrm>
            <a:off x="3346560" y="3068640"/>
            <a:ext cx="155880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441360" y="3763800"/>
            <a:ext cx="758196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Oval 13"/>
          <p:cNvSpPr/>
          <p:nvPr/>
        </p:nvSpPr>
        <p:spPr>
          <a:xfrm>
            <a:off x="3586320" y="5037120"/>
            <a:ext cx="155880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557280" y="949320"/>
            <a:ext cx="7929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79280" y="-357120"/>
            <a:ext cx="8574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 ПРИЕМЕ И УВОЛЬНЕНИИ ПО ФОРМЕ ПУ-2 (далее – форма ПУ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 4 квартал 2018 года представляются в течение января 2019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 1 квартал 2019 года – с 01.04.2019 по 10.04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 2 квартал 2019 года – с 01.07.2019 по 10.07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 3 квартал 2019 года – с 01.10.2019 по 10.10.201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 4 квартал 2019 года – с 01.01.2020по 10.01.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01.07.2019 форма ПУ-2 заполняется в новом формате (дополнена кодами видов трудового договора, оснований увольнения, должности служащего, профессии рабочего по Общегосударственному классификатору ОКРБ 014-2017 «Занятия»). Коды видов трудового договора и оснований увольнения будут определены в Инструкции о порядке заполнения форм документов персонифицированного учета, утвержденной постановлением правления Фонда от 29 июня 2014 г.  №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11120" y="1173240"/>
            <a:ext cx="82375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Форма ПУ-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и представляется плательщиком страховых взносов, застрахованным лицом в соответствии с данными, содержащимися 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е граждани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Белару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 на жительств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Белару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верении беженц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-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докум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достоверяющий личность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м паспорте или ином документе, его заменяющем, предназначенном для выезда за границу и выданном соответствующим органом государства гражданской принадлежности либо обычного места жительства иностранца или международной организацией (далее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для выезда за границ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первая п. 8 в ред.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постанов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мина от 15.11.2017 N 85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Форма ПУ-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ип формы - регистрация) представляется в орган Фонда социальной защиты населения в течение 5 рабочих дней со дня принятия на работу физического лица, не имеющего свидетельства социального страх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кета застрахованного лиц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5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87360" y="1192320"/>
            <a:ext cx="6086520" cy="3895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485640" y="5205240"/>
            <a:ext cx="821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1.201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форме ПУ-1 «Анкета застрахованного лица» (типы  формы – «регистрация» и «изменение анкетных данных») реквизи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жданство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ами стра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анные коды установлены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ложении 4 к Инструк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заполнения и  в программном комплексе «Ввод ДПУ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39880" y="1287360"/>
            <a:ext cx="7119720" cy="4227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3600" y="5514840"/>
            <a:ext cx="6367680" cy="1203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ложение 4     Коды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2173320" y="4935600"/>
            <a:ext cx="2511360" cy="326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92120" y="1225440"/>
            <a:ext cx="6086520" cy="4095720"/>
          </a:xfrm>
          <a:prstGeom prst="rect">
            <a:avLst/>
          </a:prstGeom>
          <a:ln w="0">
            <a:noFill/>
          </a:ln>
        </p:spPr>
      </p:pic>
      <p:sp>
        <p:nvSpPr>
          <p:cNvPr id="65" name="Oval 13"/>
          <p:cNvSpPr/>
          <p:nvPr/>
        </p:nvSpPr>
        <p:spPr>
          <a:xfrm>
            <a:off x="2173320" y="2360520"/>
            <a:ext cx="114768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5667480" y="4014720"/>
            <a:ext cx="114768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428760" y="5321160"/>
            <a:ext cx="799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 "Гражданство" заполняется, если реквизит "Тип формы" содержит значение "Регистрация" или "Изменение анкетных данных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визит "Гражданство" содержит значение "112" (Республика Беларусь), то реквизит "Идентификационный номер" должен содержать знач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бзац введе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постановл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ления Фонда соцзащиты от 10.01.2019 N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434960" y="1449360"/>
            <a:ext cx="6153120" cy="4029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1495440" y="5637240"/>
            <a:ext cx="5297400" cy="426960"/>
          </a:xfrm>
          <a:prstGeom prst="rect">
            <a:avLst/>
          </a:prstGeom>
          <a:ln w="0">
            <a:noFill/>
          </a:ln>
        </p:spPr>
      </p:pic>
      <p:sp>
        <p:nvSpPr>
          <p:cNvPr id="72" name="Oval 13"/>
          <p:cNvSpPr/>
          <p:nvPr/>
        </p:nvSpPr>
        <p:spPr>
          <a:xfrm>
            <a:off x="2130480" y="2529000"/>
            <a:ext cx="1770120" cy="419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5654520" y="4114800"/>
            <a:ext cx="1933560" cy="52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гистрац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428760" y="1554120"/>
            <a:ext cx="821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Форма ПУ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регистрация) представляется в орган Фонда социальной защиты населения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ение 5 рабочих дн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ринятия на работу физического лица, не имеющего свидетельства социального страх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менение анкетных данных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689040" y="5396040"/>
            <a:ext cx="795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квизит "Тип формы" содержит зна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"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"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должны содержаться значения во всех реквизитах разде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едения, указанные в ранее выданном свидетельстве социального страхования"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оме реквизита "Отчество (если таковое имеется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. постановлений правления Фонда соцзащиты от 29.11.2017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N 1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 10.01.2019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N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1403280" y="1171440"/>
            <a:ext cx="6086520" cy="4067280"/>
          </a:xfrm>
          <a:prstGeom prst="rect">
            <a:avLst/>
          </a:prstGeom>
          <a:ln w="0">
            <a:noFill/>
          </a:ln>
        </p:spPr>
      </p:pic>
      <p:sp>
        <p:nvSpPr>
          <p:cNvPr id="81" name="Oval 13"/>
          <p:cNvSpPr/>
          <p:nvPr/>
        </p:nvSpPr>
        <p:spPr>
          <a:xfrm>
            <a:off x="4446720" y="1932120"/>
            <a:ext cx="3138480" cy="1342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03280" y="336600"/>
            <a:ext cx="724536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1 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менение анкетных данных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372960" y="1141560"/>
            <a:ext cx="827568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У-1 (тип формы - изменение анкетных данных) представляется в орган Фонда социальной защиты населения в течение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рабочих дне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редъявления застрахованным лицом работодателю или в представительство (филиал) Белгосстраха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докумен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достоверяющего личность, или документа для выезда за границу, подтверждающ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кт изменения анкетных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ахованное лиц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ечение месяца со дня получения докумен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достоверяющего личность, или документа для выезда за границу с измененными анкетными данным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ъявить его работодател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в представительство (филиал) Белгосстраха для заполнени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формы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изменение анкетных дан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самостоятельно уплачивающее страховые взнос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юджет государственного внебюджетного фонда социальной защиты населения Республики Беларусь (далее - бюджет фонда),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ение месяц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олучения документа, удостоверяющего личность, или документа для выезда за границу, подтверждающего факт изменения анкетных данных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ляет в орган Фон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защиты населения по месту постановки на учет в качестве плательщика страховых взносо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форму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изменение анкетных дан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рахованное лицо, временно не работающее и не ставшее на учет в качестве плательщика страховых взнос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ение месяц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получения документа, удостоверяющего личность, или документа для выезда за границу, подтверждающего факт изменения анкетных данных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ь в орган Фон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й защиты населения по месту жительства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форму ПУ-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изменение анкетных дан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Ложникова Галина Анатольевна</cp:lastModifiedBy>
  <cp:lastPrinted>2013-12-16T12:23:37Z</cp:lastPrinted>
  <dcterms:modified xsi:type="dcterms:W3CDTF">2019-02-11T11:25:16Z</dcterms:modified>
  <cp:revision>505</cp:revision>
  <dc:subject/>
  <dc:title>Слайд 1</dc:title>
</cp:coreProperties>
</file>