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6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0085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04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2360" y="-360"/>
            <a:ext cx="29466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236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4456-2A44-459E-AAD0-624C632582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EE1C-3185-483B-BE55-1A345D631E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30F3-BE98-4ADB-8566-421C86BF85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518C-905A-4947-81C5-BC4CA5B0C1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AEC9-17DF-4D67-92B8-A1D3D02A65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4459-4156-406F-94BB-3290134EAD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1178-3458-41B0-AEB4-7C3A4F5294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26A1-B1F0-43C9-875F-B6CB218A7F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BD21-499E-4DFE-94DD-09B420DBF2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B0BF-2B11-4751-A7C0-8BD279D4A7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16ED-8101-4C49-B042-2233D4A53F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69F8-5DA8-454D-AB8E-CA0B2E1AFA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1CC7-6039-4F62-8A7E-98A9A054F9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B34B-3E94-41A1-B2F3-670171ED5E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21F0-D451-4506-AAEF-C2BDB6B497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3A9D-1DB0-407D-9548-1B634A7866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52720" y="937728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E1A2-15C9-420A-95B1-A0C33C70E7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42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457200" y="67057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0"/>
          <p:cNvSpPr/>
          <p:nvPr/>
        </p:nvSpPr>
        <p:spPr>
          <a:xfrm>
            <a:off x="468360" y="11430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consultantplus://offline/ref=098371854D2212AAA922F08D32C84A05605C165EE173039EE142ADAD7AA4B184ABA144BEBF16539B7C9510E36Bj36FM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consultantplus://offline/ref=098371854D2212AAA922F08D32C84A05605C165EE173039EE142ADAD7AA4B184ABA144BEBF16539B7C9510E36Bj36FM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consultantplus://offline/ref=E3DBBA314F29930B9009171C9E4B83D7861B9DB84F04B1FFA2EEEFA5E21997FE72055CCCDEB979C50FFAD7787BvC2CM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consultantplus://offline/ref=75071A63FCDC556E6BC25DCFB530B10A45CD6F922AB45E7DAA4BD2241662190AE6ACED0F54F8A2E5CB062F323CJ346M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consultantplus://offline/ref=75071A63FCDC556E6BC25DCFB530B10A45CD6F922AB45E7DAA4BD2241662190AE6ACED0F54F8A2E5CB062F323EJ341M" TargetMode="External"/><Relationship Id="rId2" Type="http://schemas.openxmlformats.org/officeDocument/2006/relationships/hyperlink" Target="consultantplus://offline/ref=75071A63FCDC556E6BC25DCFB530B10A45CD6F922AB45E7DAA4BD2241662190AE6ACED0F54F8A2E5CB062F3139J343M" TargetMode="External"/><Relationship Id="rId3" Type="http://schemas.openxmlformats.org/officeDocument/2006/relationships/hyperlink" Target="consultantplus://offline/ref=75071A63FCDC556E6BC25DCFB530B10A45CD6F922AB45079AF49D0241662190AE6ACED0F54F8A2E5CB062E343CJ346M" TargetMode="Externa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consultantplus://offline/ref=A43AADACCD6B1FA46CCBA21E4C4F1F0764DEF36C4994CF5652105673731C76A4B809DF187C550C61366AA9A1E1v41DM" TargetMode="External"/><Relationship Id="rId2" Type="http://schemas.openxmlformats.org/officeDocument/2006/relationships/hyperlink" Target="consultantplus://offline/ref=A43AADACCD6B1FA46CCBA21E4C4F1F0764DEF36C4994C15257125473731C76A4B809DF187C550C61366AA8A7E7v414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consultantplus://offline/ref=F40F87CB061C648DAC6E9ADBF4AC1DF0367D3A3301E393A1D684F77844E440FF4EC4EA52814E44D82B18666A34O95BM" TargetMode="External"/><Relationship Id="rId2" Type="http://schemas.openxmlformats.org/officeDocument/2006/relationships/hyperlink" Target="consultantplus://offline/ref=F40F87CB061C648DAC6E9ADBF4AC1DF0367D3A3301E393A1D684F77844E440FF4EC4EA52814E44D82B18666A34O95B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consultantplus://offline/ref=F40F87CB061C648DAC6E9ADBF4AC1DF0367D3A3301E393A1D684F77844E440FF4EC4EA52814E44D82B18666A34O95BM" TargetMode="External"/><Relationship Id="rId2" Type="http://schemas.openxmlformats.org/officeDocument/2006/relationships/hyperlink" Target="consultantplus://offline/ref=3714DFB2F6869FC788209F96E094EDB008E0C69A83E65EC4A7BC075A971818F8CC4417B2FC81314CD5217870ACHFa2L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онд социальной защиты населени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1720" y="1413000"/>
            <a:ext cx="822960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НОВШЕСТВА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В ДОКУМЕНТАХ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СОНИФИЦИРОВАННОГО УЧ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684360" y="260280"/>
            <a:ext cx="77752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 течение отчетного периода на застрахованное лицо была заполн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1"/>
              </a:rPr>
              <a:t>форма ПУ-3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тип формы - назначение пенсии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страхованное лицо продолжает работать у данного работодателя, то по истечении отчетного квартала в течение месяца, следующего за отчетным кварталом, работодатель заполняет форму ПУ-3 (тип формы - исходн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8424720" cy="2592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324000" y="2924280"/>
            <a:ext cx="84960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684360" y="260280"/>
            <a:ext cx="7775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4d26"/>
                </a:solidFill>
                <a:latin typeface="Times New Roman"/>
                <a:ea typeface="Times New Roman"/>
              </a:rPr>
              <a:t>Если в течение отчетного периода на застрахованное лицо была заполнена </a:t>
            </a:r>
            <a:r>
              <a:rPr b="0" lang="ru-RU" sz="40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1"/>
              </a:rPr>
              <a:t>форма ПУ-3</a:t>
            </a:r>
            <a:r>
              <a:rPr b="0" lang="ru-RU" sz="4000" spc="-1" strike="noStrike">
                <a:solidFill>
                  <a:srgbClr val="004d26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4d26"/>
                </a:solidFill>
                <a:latin typeface="Times New Roman"/>
                <a:ea typeface="Times New Roman"/>
              </a:rPr>
              <a:t>(тип формы - назначение пенсии) и необходимо уточнить сведения, используемые для исчисления пенсии, то заполняется форма ПУ-3 (тип формы - назначение пенсии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468360" y="260280"/>
            <a:ext cx="7920000" cy="60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зическими лицами, самостоятельно уплачивающими страховые взнос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 ПУ-3 (тип формы - исходная) представляется в орган Фонда социальной защиты населения ежегодно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 позднее 31 марта год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ледующего за отчетным годом, и содержит сведения, относящиеся к отчетному пери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часть вторая п. 16 введена постановлением Совмина от 30.03.2010 N 475; в ред. постановлений Совмина от 06.02.2012 N 123, от 26.02.2014 N 165, от 15.11.2017 N 852, от 09.08.2018 N 58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179280" y="333360"/>
            <a:ext cx="8640720" cy="66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а ПУ-3 (тип формы - исходная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текущий квартал представляется работодателем в орган Фонда социальной защиты населени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 течение 5 рабочих дн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 дня письменного обращения к нему застрахованного лиц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 вопросу подтверждения период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латы обязательных страховых взносов, физическим лицом, самостоятельно уплачивающим обязательные страховые взносы, - при возникновении необходимости подтверждения периода уплаты страховых взносов. Периоды уплаты обязательных страховых взносов отражаются в разделе 2 "Дополнительные сведения о стаже" формы ПУ-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абзац введен постановлением Совмина от 28.06.2013 N 569; в ред. постановления Совмина от 09.08.2018 N 58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352440" y="26028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орма ПУ-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тип формы - отменяющая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едставляется при возникновении необходим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(часть четвертая п. 16 в ред. постановления Совмина от 09.08.2018 N 58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324000" y="189000"/>
            <a:ext cx="8496000" cy="56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Код причины начисления выплат (дохода)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которые начисляются страховые взносы, ниже уровня месячной минимальной заработной платы, установленного и проиндексированного в соответствии с законодательством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полняется для кодов категории застрахованного лица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"01", "07", "30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ответствующих месяцах согласно </a:t>
            </a:r>
            <a:r>
              <a:rPr b="0" lang="ru-RU" sz="28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приложению 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31880" y="-25560"/>
            <a:ext cx="691344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827280" y="692280"/>
            <a:ext cx="392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ы заполнен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324000" y="1792440"/>
            <a:ext cx="8640720" cy="1780920"/>
          </a:xfrm>
          <a:prstGeom prst="rect">
            <a:avLst/>
          </a:prstGeom>
          <a:ln w="0">
            <a:noFill/>
          </a:ln>
        </p:spPr>
      </p:pic>
      <p:sp>
        <p:nvSpPr>
          <p:cNvPr id="77" name="Oval 10"/>
          <p:cNvSpPr/>
          <p:nvPr/>
        </p:nvSpPr>
        <p:spPr>
          <a:xfrm flipV="1">
            <a:off x="8317080" y="2492280"/>
            <a:ext cx="647640" cy="865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343080" y="3781440"/>
            <a:ext cx="8621640" cy="1951200"/>
          </a:xfrm>
          <a:prstGeom prst="rect">
            <a:avLst/>
          </a:prstGeom>
          <a:ln w="0">
            <a:noFill/>
          </a:ln>
        </p:spPr>
      </p:pic>
      <p:cxnSp>
        <p:nvCxnSpPr>
          <p:cNvPr id="79" name="Соединительная линия уступом 5"/>
          <p:cNvCxnSpPr/>
          <p:nvPr/>
        </p:nvCxnSpPr>
        <p:spPr>
          <a:xfrm>
            <a:off x="1547280" y="5084640"/>
            <a:ext cx="7332120" cy="277200"/>
          </a:xfrm>
          <a:prstGeom prst="bentConnector3">
            <a:avLst>
              <a:gd name="adj1" fmla="val 50000"/>
            </a:avLst>
          </a:prstGeom>
          <a:ln w="19080">
            <a:solidFill>
              <a:srgbClr val="cc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312840" y="434880"/>
            <a:ext cx="8810640" cy="3097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108000" y="3716280"/>
            <a:ext cx="8891640" cy="2521080"/>
          </a:xfrm>
          <a:prstGeom prst="rect">
            <a:avLst/>
          </a:prstGeom>
          <a:ln w="0">
            <a:noFill/>
          </a:ln>
        </p:spPr>
      </p:pic>
      <p:sp>
        <p:nvSpPr>
          <p:cNvPr id="82" name="Oval 10"/>
          <p:cNvSpPr/>
          <p:nvPr/>
        </p:nvSpPr>
        <p:spPr>
          <a:xfrm flipV="1">
            <a:off x="4067280" y="764280"/>
            <a:ext cx="557280" cy="605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У-3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2018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од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1720" y="105228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сем застрахованным лицам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ПУ-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 го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ставляются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I квартала 2019 год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т.е. не позднее 31.03.2019). Эти формы подаются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овом форма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ПУ-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застрахованным лицам, работающим по гражданско-правовым договорам,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2018 го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ставляются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I квартала 2019 год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т.е. не позднее 31.03.2019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684360" y="260640"/>
            <a:ext cx="727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1.Сведения о сумме выплат (дохода), учитываемых при назначении пенсии, и страховых взноса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179280" y="189000"/>
            <a:ext cx="871380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019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755640" cy="69516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2"/>
          <p:cNvSpPr/>
          <p:nvPr/>
        </p:nvSpPr>
        <p:spPr>
          <a:xfrm>
            <a:off x="800280" y="1028880"/>
            <a:ext cx="809280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иная с отчетного периода 2018 г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еде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вый код категории застрахованного лица «06»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ждане, не работающие по найму и получающие пособие по временной нетрудоспособ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вый код вида деятельности «ВРЕМНЕТРУД» - период временной нетрудоспособности по гражданам, не работающим по най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684360" y="260640"/>
            <a:ext cx="727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1.Сведения о сумме выплат (дохода), учитываемых при назначении пенсии, и страховых взноса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179280" y="189000"/>
            <a:ext cx="871380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019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755640" cy="69516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2"/>
          <p:cNvSpPr/>
          <p:nvPr/>
        </p:nvSpPr>
        <p:spPr>
          <a:xfrm>
            <a:off x="800280" y="1028880"/>
            <a:ext cx="80928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д вида деятельности «ВРЕМНЕТРУД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полн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гражданам, не работающим по найму и получающим пособие по временной нетрудоспособно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иная с отчетного периода 2018 год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коду категории застрахованного лица «06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мках отчетного го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наличии значений в графе «Сумма (рублей) пособий по временной нетрудоспособности»  раздела 1 «Сведения о сумме выплат (дохода), учитываемых при назначении пенсии, и страховых взносах» форм ПУ-3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пересекается с другими видами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430200" y="549360"/>
            <a:ext cx="820728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представления информации о периоде временной нетрудоспособности в отчетном периоде по гражданам, не работающим по найму и у которых пособие по временной нетрудоспособности назначено по нескольким основани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апример, по трудовому и гражданско-правовому договору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аполняется одна </a:t>
            </a:r>
            <a:r>
              <a:rPr b="0" lang="ru-RU" sz="32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форма ПУ-3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по коду 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324000" y="115920"/>
            <a:ext cx="831348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3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разделе 1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"Сведения о сумме выплат (дохода), учитываемых при назначении пенсии, и страховых взносах"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ПУ-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ражается сумма пособия по временной нетрудоспособности, рассчитанная по всем основаниям и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приходящаяся на период после даты увольнения и (или) даты окончания периода работ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 гражданско-правовому договору (договорам), в </a:t>
            </a:r>
            <a:r>
              <a:rPr b="0" lang="ru-RU" sz="22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граф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"Период работы" раздела 2 "Дополнительные сведения о стаже" отражается самая ранняя дата начала периода временной нетрудоспособности, приходящаяся на период после даты увольнения и (или) даты окончания выполнения работ по гражданско-правовому договору (договорам), и дата окончания периода временной нетрудоспособ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часть четвертая п. 18 введена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постановление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авления Фонда соцзащиты от 10.01.2019 N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380880" y="181080"/>
            <a:ext cx="834408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та увольнения работника 25.08.201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иод временной нетрудоспособности с 10.08.2018 по 27.08.201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форме ПУ-3 (тип формы – исходная) по коду категории застрахованного лица «06» за 2018 год в разделе 2 формы ПУ-3 следует заполнить период пособия по временной нетрудоспособности после увольнения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"/>
          <p:cNvSpPr/>
          <p:nvPr/>
        </p:nvSpPr>
        <p:spPr>
          <a:xfrm>
            <a:off x="1703520" y="3354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514440" y="3259080"/>
            <a:ext cx="802944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371520" y="228600"/>
            <a:ext cx="84297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м комиссии назначено пособие по временной нетрудоспособности в случае утраты трудоспособности в связи с заболева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ериод с 11.10.2018 по 13.01.2019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зделе 2. Дополнительные сведения о стаже формы ПУ-3 (тип формы - исходная) за 2018 год должны отрази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71520" y="2629080"/>
            <a:ext cx="851544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684360" y="260640"/>
            <a:ext cx="727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1.Сведения о сумме выплат (дохода), учитываемых при назначении пенсии, и страховых взноса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179280" y="189000"/>
            <a:ext cx="871380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абота по ГП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755640" cy="69516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2"/>
          <p:cNvSpPr/>
          <p:nvPr/>
        </p:nvSpPr>
        <p:spPr>
          <a:xfrm>
            <a:off x="800280" y="1028880"/>
            <a:ext cx="80928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01.10.2018 г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еден  нов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д вида деятельности «НЕОПЛДОГ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бота, выполняемая на основе гражданско-правовых договоров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без начисления вознаграж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684360" y="260640"/>
            <a:ext cx="727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1.Сведения о сумме выплат (дохода), учитываемых при назначении пенсии, и страховых взноса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179280" y="189000"/>
            <a:ext cx="871380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абота по ГП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755640" cy="69516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2"/>
          <p:cNvSpPr/>
          <p:nvPr/>
        </p:nvSpPr>
        <p:spPr>
          <a:xfrm>
            <a:off x="800280" y="1028880"/>
            <a:ext cx="8092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"/>
          <p:cNvSpPr/>
          <p:nvPr/>
        </p:nvSpPr>
        <p:spPr>
          <a:xfrm>
            <a:off x="800280" y="1484280"/>
            <a:ext cx="7659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лицам, работающим по гражданско-правовым договорам (далее - ГПД), формы ПУ-3 подают независимо от начисления в отчетном периоде вознагражд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 отчетном периоде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ознаграждение не начисле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форме ПУ-3 заполняется только раздел 2 "Дополнительные сведения о стаже" с указанием периода выполнения работ по этому договору (подп. 1.2 п. 1 Постановления N 1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акой ситуации период работы по ГПД без начисления вознаграждения обозначается кодом "НЕОПЛДОГ" (п. 65 приложения 2 к Инструкции о заполнении ДП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заполнении раздела 2 формы ПУ-3 на лиц, работающих по ГПД, в соответствующих графах указываются начало и окончание работ, определенные в этом договоре (подп. 1.2 п. 1 Постановления N 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314280" y="1212840"/>
            <a:ext cx="87156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01.01.2019 в соответствии с п.16 Правил индивидуального (персонифицированного) учета застрахованных лиц в системе государственного социального страхования форма ПУ-3 представляется ежегодно в орган Фонда социальной защиты населения физическими лицами, самостоятельно уплачивающими страховые взносы (индивидуальные предприниматели, адвокаты и нотариусы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 позднее 31 март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ранее - 1 мая), года следующего за отчетным годом, и содержит сведения, относящиеся к отчетному пери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399960" y="-361800"/>
            <a:ext cx="837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пункт 1.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становления Совета Министров Республики Беларусь от 9 августа 2018 г. № 58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ступает в силу с 1 января 2019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28600" y="765000"/>
            <a:ext cx="8915400" cy="5286600"/>
          </a:xfrm>
          <a:prstGeom prst="rect">
            <a:avLst/>
          </a:prstGeom>
          <a:ln w="0">
            <a:noFill/>
          </a:ln>
        </p:spPr>
      </p:pic>
      <p:sp>
        <p:nvSpPr>
          <p:cNvPr id="55" name="Oval 10"/>
          <p:cNvSpPr/>
          <p:nvPr/>
        </p:nvSpPr>
        <p:spPr>
          <a:xfrm flipV="1">
            <a:off x="5867280" y="2349360"/>
            <a:ext cx="723960" cy="719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0"/>
          <p:cNvSpPr/>
          <p:nvPr/>
        </p:nvSpPr>
        <p:spPr>
          <a:xfrm flipV="1">
            <a:off x="1476360" y="4508640"/>
            <a:ext cx="1150920" cy="79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онд социальной защиты населени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1720" y="1413000"/>
            <a:ext cx="822960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 индивидуальных сведений по форме ПУ-3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2018 отчетный го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ид деятельности «ВЗНОСЫВРЕМ»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1720" y="1197000"/>
            <a:ext cx="822960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полняется с отчетного периода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014 г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ля всех месяцев, в которых сумма уплаченных страховых взносов больше ну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ключаются периоды отпуска без сохранения заработной пл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иоды неуплаты взносов, в т.ч. прогул без уважительных прич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ид деятельности «ВЗНОСЫВРЕМ»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2"/>
          <a:stretch/>
        </p:blipFill>
        <p:spPr>
          <a:xfrm>
            <a:off x="25560" y="1125360"/>
            <a:ext cx="8991360" cy="2962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3"/>
          <a:stretch/>
        </p:blipFill>
        <p:spPr>
          <a:xfrm>
            <a:off x="27000" y="4108320"/>
            <a:ext cx="843912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4581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187280" y="4581360"/>
            <a:ext cx="72010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"/>
          <p:cNvSpPr/>
          <p:nvPr/>
        </p:nvSpPr>
        <p:spPr>
          <a:xfrm>
            <a:off x="684360" y="260640"/>
            <a:ext cx="727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1.Сведения о сумме выплат (дохода), учитываемых при назначении пенсии, и страховых взноса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179280" y="189000"/>
            <a:ext cx="871380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абота по ГП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755640" cy="69516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2"/>
          <p:cNvSpPr/>
          <p:nvPr/>
        </p:nvSpPr>
        <p:spPr>
          <a:xfrm>
            <a:off x="800280" y="1028880"/>
            <a:ext cx="8092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511200" y="1217520"/>
            <a:ext cx="8048520" cy="2495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3"/>
          <a:stretch/>
        </p:blipFill>
        <p:spPr>
          <a:xfrm>
            <a:off x="479520" y="4005360"/>
            <a:ext cx="7991280" cy="2276280"/>
          </a:xfrm>
          <a:prstGeom prst="rect">
            <a:avLst/>
          </a:prstGeom>
          <a:ln w="0">
            <a:noFill/>
          </a:ln>
        </p:spPr>
      </p:pic>
      <p:sp>
        <p:nvSpPr>
          <p:cNvPr id="127" name="Oval 10"/>
          <p:cNvSpPr/>
          <p:nvPr/>
        </p:nvSpPr>
        <p:spPr>
          <a:xfrm flipV="1">
            <a:off x="2916360" y="1915560"/>
            <a:ext cx="85572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0"/>
          <p:cNvSpPr/>
          <p:nvPr/>
        </p:nvSpPr>
        <p:spPr>
          <a:xfrm flipV="1">
            <a:off x="3062160" y="4797360"/>
            <a:ext cx="928800" cy="346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ид деятельности «ПОСОБИЕ»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920"/>
            <a:ext cx="822960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чиная с отчетного периода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014 года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ля всех периодов временной нетрудоспособности, по беременности и родам, оплата дополнительного свободного от работы дня, предоставляемого ежемесячно матери, воспитывающей  ребенка-инвалида в возрасте до 18 ле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ид деятельности «ПОСОБИЕ»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3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8572320" cy="2543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"/>
          <p:cNvPicPr/>
          <p:nvPr/>
        </p:nvPicPr>
        <p:blipFill>
          <a:blip r:embed="rId3"/>
          <a:stretch/>
        </p:blipFill>
        <p:spPr>
          <a:xfrm>
            <a:off x="303120" y="3762360"/>
            <a:ext cx="7763040" cy="2028960"/>
          </a:xfrm>
          <a:prstGeom prst="rect">
            <a:avLst/>
          </a:prstGeom>
          <a:ln w="0">
            <a:noFill/>
          </a:ln>
        </p:spPr>
      </p:pic>
      <p:sp>
        <p:nvSpPr>
          <p:cNvPr id="136" name="Oval 10"/>
          <p:cNvSpPr/>
          <p:nvPr/>
        </p:nvSpPr>
        <p:spPr>
          <a:xfrm flipV="1">
            <a:off x="2340000" y="1916280"/>
            <a:ext cx="928800" cy="1823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ид деятельности «ПЕНСИЯ»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1720" y="1413000"/>
            <a:ext cx="822960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казывается период, отраженный в форме ПУ-5 органа по труду, занятости и социальной защит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независимо от уплаты страховых взнос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84360" y="260640"/>
            <a:ext cx="727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1.Сведения о сумме выплат (дохода), учитываемых при назначении пенсии, и страховых взноса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179280" y="189000"/>
            <a:ext cx="871380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ид деятельности «ПЕНС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755640" cy="6951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168120" y="1197000"/>
            <a:ext cx="8639280" cy="2962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"/>
          <p:cNvPicPr/>
          <p:nvPr/>
        </p:nvPicPr>
        <p:blipFill>
          <a:blip r:embed="rId3"/>
          <a:stretch/>
        </p:blipFill>
        <p:spPr>
          <a:xfrm>
            <a:off x="212760" y="4292640"/>
            <a:ext cx="7743960" cy="1238040"/>
          </a:xfrm>
          <a:prstGeom prst="rect">
            <a:avLst/>
          </a:prstGeom>
          <a:ln w="0">
            <a:noFill/>
          </a:ln>
        </p:spPr>
      </p:pic>
      <p:sp>
        <p:nvSpPr>
          <p:cNvPr id="145" name="Oval 10"/>
          <p:cNvSpPr/>
          <p:nvPr/>
        </p:nvSpPr>
        <p:spPr>
          <a:xfrm flipV="1">
            <a:off x="1547640" y="5228640"/>
            <a:ext cx="928800" cy="345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ид деятельности «ПРЕМИЯ»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31720" y="1413000"/>
            <a:ext cx="822960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казывается период уплаты страховых взносов в месяце, в котором начислена только премия (материальная помощь, окончательный расчет при увольнении, компенсация за неиспользованный отпуск и т.п.) </a:t>
            </a:r>
            <a:r>
              <a:rPr b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Выходов на работу не должно быть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иод «ПРЕМИЯ» соответствует полному месяцу или периоду работы ЗЛ в данном месяце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ограничено датой увольнен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947880" y="800280"/>
            <a:ext cx="7248240" cy="5257800"/>
          </a:xfrm>
          <a:prstGeom prst="rect">
            <a:avLst/>
          </a:prstGeom>
          <a:ln w="0">
            <a:noFill/>
          </a:ln>
        </p:spPr>
      </p:pic>
      <p:sp>
        <p:nvSpPr>
          <p:cNvPr id="58" name="Oval 10"/>
          <p:cNvSpPr/>
          <p:nvPr/>
        </p:nvSpPr>
        <p:spPr>
          <a:xfrm flipV="1">
            <a:off x="1403280" y="1772640"/>
            <a:ext cx="1371600" cy="360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351640" cy="2590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2"/>
          <a:stretch/>
        </p:blipFill>
        <p:spPr>
          <a:xfrm>
            <a:off x="320760" y="3665520"/>
            <a:ext cx="8515440" cy="27813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2"/>
          <p:cNvSpPr/>
          <p:nvPr/>
        </p:nvSpPr>
        <p:spPr>
          <a:xfrm>
            <a:off x="1116000" y="260280"/>
            <a:ext cx="7481880" cy="57492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ид деятельности «ПРЕМ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3"/>
          <a:stretch/>
        </p:blipFill>
        <p:spPr>
          <a:xfrm>
            <a:off x="395280" y="260280"/>
            <a:ext cx="755640" cy="695520"/>
          </a:xfrm>
          <a:prstGeom prst="rect">
            <a:avLst/>
          </a:prstGeom>
          <a:ln w="0">
            <a:noFill/>
          </a:ln>
        </p:spPr>
      </p:pic>
      <p:sp>
        <p:nvSpPr>
          <p:cNvPr id="153" name="Oval 10"/>
          <p:cNvSpPr/>
          <p:nvPr/>
        </p:nvSpPr>
        <p:spPr>
          <a:xfrm flipV="1">
            <a:off x="5076720" y="2707560"/>
            <a:ext cx="928800" cy="345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0"/>
          <p:cNvSpPr/>
          <p:nvPr/>
        </p:nvSpPr>
        <p:spPr>
          <a:xfrm flipV="1">
            <a:off x="1150920" y="5515920"/>
            <a:ext cx="111744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2915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д ошибки 492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Период "ПРЕМИЯ" не соответствует полному месяцу или периоду работы ЗЛ в данном меся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140328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шибки ПУ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7"/>
          <p:cNvGraphicFramePr/>
          <p:nvPr/>
        </p:nvGraphicFramePr>
        <p:xfrm>
          <a:off x="838080" y="2133720"/>
          <a:ext cx="708660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2133720"/>
                    <a:ext cx="708660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250920" y="189360"/>
            <a:ext cx="8497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д ошибки 4917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Помесячная сумма начисленных выплат В ПУ-3 превышает (5-ти) кратную величину     среднемесячной з/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539640" y="6381360"/>
            <a:ext cx="693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Times New Roman"/>
              </a:rPr>
              <a:t>Предельная сумма при приеме ПУ-3 за апрель 2018г.- 4634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76124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250920" y="189360"/>
            <a:ext cx="8497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д ошибки 4917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Помесячная сумма начисленных выплат В ПУ-3 превышает (5-ти) кратную величину     среднемесячной з/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3095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2"/>
          <a:stretch/>
        </p:blipFill>
        <p:spPr>
          <a:xfrm>
            <a:off x="0" y="4221000"/>
            <a:ext cx="9153360" cy="227664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539640" y="6381360"/>
            <a:ext cx="693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Times New Roman"/>
              </a:rPr>
              <a:t>Предельная сумма при приеме ПУ-3 за декабрь 2015г.- 337438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324000" y="245520"/>
            <a:ext cx="8569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Ошибка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 - дата увольнения не соответствует конечной дате по виду    деятельности «ПЕНС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7751880" cy="2371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2"/>
          <a:stretch/>
        </p:blipFill>
        <p:spPr>
          <a:xfrm>
            <a:off x="533520" y="3505320"/>
            <a:ext cx="7705440" cy="2663640"/>
          </a:xfrm>
          <a:prstGeom prst="rect">
            <a:avLst/>
          </a:prstGeom>
          <a:ln w="0">
            <a:noFill/>
          </a:ln>
        </p:spPr>
      </p:pic>
      <p:sp>
        <p:nvSpPr>
          <p:cNvPr id="170" name="Oval 7"/>
          <p:cNvSpPr/>
          <p:nvPr/>
        </p:nvSpPr>
        <p:spPr>
          <a:xfrm flipV="1">
            <a:off x="5029200" y="5257800"/>
            <a:ext cx="129528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3"/>
          <p:cNvSpPr/>
          <p:nvPr/>
        </p:nvSpPr>
        <p:spPr>
          <a:xfrm>
            <a:off x="395280" y="26028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евышено предельно допустимое значение уплаченных взносов (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достаточно сумм по коду платежа 3511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. Обратитесь к инспектору райотдела Фон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42840" y="1268280"/>
            <a:ext cx="9058320" cy="2352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2"/>
          <a:stretch/>
        </p:blipFill>
        <p:spPr>
          <a:xfrm>
            <a:off x="108000" y="3789360"/>
            <a:ext cx="768672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395280" y="33336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380880" y="38088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ИЛС есть сведения о специальном стаже, поданные за период, в который данное лицо не работало у соответствующего плательщ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9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7993080" cy="1584360"/>
          </a:xfrm>
          <a:prstGeom prst="rect">
            <a:avLst/>
          </a:prstGeom>
          <a:ln w="0">
            <a:noFill/>
          </a:ln>
        </p:spPr>
      </p:pic>
      <p:sp>
        <p:nvSpPr>
          <p:cNvPr id="177" name="Oval 10"/>
          <p:cNvSpPr/>
          <p:nvPr/>
        </p:nvSpPr>
        <p:spPr>
          <a:xfrm flipV="1">
            <a:off x="826920" y="1411920"/>
            <a:ext cx="3135600" cy="1368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0" descr=""/>
          <p:cNvPicPr/>
          <p:nvPr/>
        </p:nvPicPr>
        <p:blipFill>
          <a:blip r:embed="rId2"/>
          <a:stretch/>
        </p:blipFill>
        <p:spPr>
          <a:xfrm>
            <a:off x="539640" y="2997360"/>
            <a:ext cx="8142480" cy="3600360"/>
          </a:xfrm>
          <a:prstGeom prst="rect">
            <a:avLst/>
          </a:prstGeom>
          <a:ln w="0">
            <a:noFill/>
          </a:ln>
        </p:spPr>
      </p:pic>
      <p:sp>
        <p:nvSpPr>
          <p:cNvPr id="179" name="Oval 10"/>
          <p:cNvSpPr/>
          <p:nvPr/>
        </p:nvSpPr>
        <p:spPr>
          <a:xfrm>
            <a:off x="1674720" y="5896080"/>
            <a:ext cx="809640" cy="26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395280" y="3333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заполнены все более ранние месяцы начислений, попадающие в период стажа в отчётном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064360" cy="1582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"/>
          <p:cNvPicPr/>
          <p:nvPr/>
        </p:nvPicPr>
        <p:blipFill>
          <a:blip r:embed="rId2"/>
          <a:stretch/>
        </p:blipFill>
        <p:spPr>
          <a:xfrm>
            <a:off x="396720" y="3357720"/>
            <a:ext cx="8124840" cy="2519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"/>
          <p:cNvPicPr/>
          <p:nvPr/>
        </p:nvPicPr>
        <p:blipFill>
          <a:blip r:embed="rId3"/>
          <a:stretch/>
        </p:blipFill>
        <p:spPr>
          <a:xfrm>
            <a:off x="324000" y="5877000"/>
            <a:ext cx="8424720" cy="576360"/>
          </a:xfrm>
          <a:prstGeom prst="rect">
            <a:avLst/>
          </a:prstGeom>
          <a:ln w="0">
            <a:noFill/>
          </a:ln>
        </p:spPr>
      </p:pic>
      <p:sp>
        <p:nvSpPr>
          <p:cNvPr id="184" name="Oval 10"/>
          <p:cNvSpPr/>
          <p:nvPr/>
        </p:nvSpPr>
        <p:spPr>
          <a:xfrm flipV="1">
            <a:off x="5867280" y="2205000"/>
            <a:ext cx="108108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3"/>
          <p:cNvSpPr/>
          <p:nvPr/>
        </p:nvSpPr>
        <p:spPr>
          <a:xfrm>
            <a:off x="457200" y="1844640"/>
            <a:ext cx="802332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и представления формы ПУ-3 плательщиками страховых взносов з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 год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раз в год в течение квартала, следующего за отчетным годом, и содержит сведения, относящиеся к отчетному пери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веде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овый код категории застрахованного лиц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06»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е, не работающие по найму и получающие пособие по временной нетрудоспособ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овый код вида деятельност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РЕМНЕТРУД»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иод временной нетрудоспособности по гражданам, не работающим по най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овый код вида деятельност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ОПЛДОГ» 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, выполняемая на основе гражданско-правовых договор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ез начисления вознагра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 апреля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 ПУ-3 (тип формы - исходная) будут подавать один раз в квартал в течение месяца, следующего за отчетным квартал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457200" y="549360"/>
            <a:ext cx="82296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в представлении форм ПУ-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формы «корректирующая» с 01.01.2019 отмен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02920" y="336600"/>
            <a:ext cx="7481880" cy="574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орма ПУ-3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528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Форма ПУ-3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имеет три типа: исходная, отменяющая, назначение пенсии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п. 13 в ред.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постановле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авления Фонда соцзащиты от 10.01.2019 N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С 01.01.2019 тип формы - корректирующая отмен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3"/>
          <a:stretch/>
        </p:blipFill>
        <p:spPr>
          <a:xfrm>
            <a:off x="531720" y="260280"/>
            <a:ext cx="7556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250920" y="189000"/>
            <a:ext cx="828180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а ПУ-3 (тип формы - исходная) представля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рган Фонда социальной защиты населения плательщиком страховых взносов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дин раз в квартал в течение месяц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ледующего за отчетным кварталом, и содержит сведения, относящиеся к отчетному периоду, а также при возникновении необходимости корректировки представленной ранее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ь первая п. 16 в ред. постановления Совмина от 09.08.2018 N 58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324000" y="260280"/>
            <a:ext cx="8135640" cy="59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Форма ПУ-3</a:t>
            </a:r>
            <a:r>
              <a:rPr b="0" lang="ru-RU" sz="4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(тип формы - исходная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Arial"/>
              </a:rPr>
              <a:t>заполняется с нарастающим итогом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 с начала отчетного года с учетом изменений ранее представленных сведений отчетного периода. Откорректированные сведения отражаются в месяцах, в которых были допущены ошибки, остальные данные повторяются в таком же виде, как они были заполнены в ранее представленно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форме ПУ-3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324000" y="260280"/>
            <a:ext cx="8135640" cy="56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Также форма ПУ-3</a:t>
            </a:r>
            <a:r>
              <a:rPr b="0" lang="ru-RU" sz="48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70c0"/>
                </a:solidFill>
                <a:latin typeface="Arial"/>
              </a:rPr>
              <a:t>(тип формы - исходная) представляется в случаях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1)Если необходимо исправить сведения, представленные по форме ПУ-3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2) При погашении </a:t>
            </a:r>
            <a:r>
              <a:rPr b="0" lang="ru-RU" sz="4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недоимки</a:t>
            </a: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395280" y="333360"/>
            <a:ext cx="8353440" cy="60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c6123"/>
                </a:solidFill>
                <a:latin typeface="Arial"/>
              </a:rPr>
              <a:t>Форма ПУ-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c6123"/>
                </a:solidFill>
                <a:latin typeface="Arial"/>
              </a:rPr>
              <a:t>(тип формы - назначение пенсии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c6123"/>
                </a:solidFill>
                <a:latin typeface="Arial"/>
              </a:rPr>
              <a:t>представляется в течение 5 рабочих дней со дня подачи застрахованным лицом заявления о назначении пенсии (перерасчете назначенной пенсии, переводе с одного вида пенсии на другой) работодателю, в орган по труду, занятости и социальной защите, в орган Фонда социальной защиты насе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c6123"/>
                </a:solidFill>
                <a:latin typeface="Arial"/>
              </a:rPr>
              <a:t>Форма ПУ-3 (тип формы - назначение пенсии) представляется также при возникновении необходимости корректировки либо уточнения  представленной ранее информации по указанному типу фор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3:43:58Z</dcterms:created>
  <dc:creator>Michael Kouzmin</dc:creator>
  <dc:description/>
  <dc:language>en-US</dc:language>
  <cp:lastModifiedBy>Ложникова Галина Анатольевна</cp:lastModifiedBy>
  <cp:lastPrinted>2013-12-16T12:23:37Z</cp:lastPrinted>
  <dcterms:modified xsi:type="dcterms:W3CDTF">2019-02-13T06:38:05Z</dcterms:modified>
  <cp:revision>439</cp:revision>
  <dc:subject/>
  <dc:title>Слайд 1</dc:title>
</cp:coreProperties>
</file>