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6E7F-4556-4253-8C41-832EA3E69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AD6-6D05-494C-8816-AAEFC206A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D722-0305-4B29-89A7-9B82F78B0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8E87-C2E5-4209-98F8-9302B1508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1F52-6006-4FDA-8075-188CF57352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80B-B6BF-4C61-8A88-EE16A2156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7E9-C4A5-4766-877D-71393EDD4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НОВОЕ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ДОКУМЕНТ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ТАНОВ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ление Совета Министров Республики Беларусь от 9 августа 2018 г. № 589 «О внесении изменений и дополнения в постановления Совета Министров Республики Беларусь от  8 июля 1997 г. № 83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сены изменения в Правила индивидуального          (персонифицированного) учета в системе государственного социального страх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ТАНОВ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ление правления Фонда социальной защиты населения Министерства труда и социальной защиты Республики Беларусь от 10 января 2019 г. №  1  «Об изменении постановлений правления Фонда социальной защиты населения Министерства труда и социальной защиты Республики Беларусь», которым   внесены изме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ТАНОВ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постановление правления Фонда социальной защиты населения Министерства труда и социальной защиты Республики Беларусь от 29 июня 2009 г. №10 «Об установлении форм документов и утверждении Инструкции по формату документов персонифицированного учета»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несены изменения в Инструкцию по формату документов персонифицированного   учета, утвержденной этим постанов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ТАНОВ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становление правления Фонда социальной защиты населения Министерства труда и социальной защиты Республики Беларусь от  19 июня 2014 г. № 7 «О некоторых вопросах заполнения и приема-передачи форм документов персонифицированного учета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несены дополнения и изменения: в  Инструкцию о порядке      заполнения форм документов персонифицированного уч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Инструкцию о порядке передачи-приема форм документов персонифицированного учета , утвержденные этим постанов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1720" y="1197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изменения в порядок представления форм ПУ-2 и ПУ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роки представления документов персонифицированного учета в ФСЗ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 перечень сведений, которые необходимо будет пода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Каско Светлана Николаевна</cp:lastModifiedBy>
  <cp:lastPrinted>2013-12-16T12:23:37Z</cp:lastPrinted>
  <dcterms:modified xsi:type="dcterms:W3CDTF">2019-02-12T07:07:46Z</dcterms:modified>
  <cp:revision>383</cp:revision>
  <dc:subject/>
  <dc:title>Слайд 1</dc:title>
</cp:coreProperties>
</file>