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C10A-3E99-4F48-B440-B1430186D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32DC-651C-4306-BEF5-B4617EEF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D6A3-6EBA-48ED-A499-8480BBDEE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9F06-D0AA-4AEA-A889-566340754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0CFC-AD22-4E74-B45A-E92917F7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B879-BA1E-483E-9980-9FF1E321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2C33-5072-4C10-AE8A-1DD943D3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BBFC-B408-4C48-BD69-2173F648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0390-8D5C-42A0-8782-7F0C43F1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5893-ABE4-4E82-822A-5F0B2816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473E-6DC0-4FC2-BBB6-073B93DD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C374-AC7D-41D0-8B9E-3B0ABF5D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A8B7-8651-4E26-B6B8-39F2C9469D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Диаграмма 1" descr=""/>
          <p:cNvPicPr/>
          <p:nvPr/>
        </p:nvPicPr>
        <p:blipFill>
          <a:blip r:embed="rId1"/>
          <a:stretch/>
        </p:blipFill>
        <p:spPr>
          <a:xfrm>
            <a:off x="73080" y="639720"/>
            <a:ext cx="9070920" cy="45054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500120" y="214200"/>
            <a:ext cx="706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ика роста численности населения Минской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8844840" y="0"/>
            <a:ext cx="29664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0" y="105120"/>
            <a:ext cx="9144000" cy="49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800" spc="-1" strike="noStrike" u="sng">
                <a:solidFill>
                  <a:srgbClr val="008000"/>
                </a:solidFill>
                <a:uFillTx/>
                <a:latin typeface="Times New Roman"/>
                <a:ea typeface="Calibri"/>
              </a:rPr>
              <a:t>Внешняя торговля сельскохозяйственной продукцией и продовольствие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ларусь активно включается в систему международного разделения труда и занимает весомое место в мировом рейтинге по производству и торговле продовольствием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ша страна, занимая 25-е место в мировых объемах производства молока и молокопродуктов, вышла на 8-е место в экспорте. Наиболее высокий рейтинг республика имеет по производству и экспорту льноволокна – 2-е и 3-е места соответственно. Также Беларусь входит в 20 стран-экспортеров мяса, сахара и масла рапсового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В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 2016 году экспорт белорусской сельскохозяйственной продукции и продуктов питания (без учета табака и табачных изделий) составил 4,2 млрд. долл. США (увеличился в 1,2 раза по отношению к уровню 2010 года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 январь – октябрь 2017 г. экспорт сельскохозяйственной продукции и продуктов питания составил 4,1 млрд. долл. США</a:t>
            </a:r>
            <a:r>
              <a:rPr b="0" lang="be-BY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 (увеличился на 18% к соответствующему периоду 2016 года, удельный вес в общем объеме экспорта товаров Республики Беларусь достиг 17,7%). При этом молока и молокопродуктов экспортировано на сумму 1,8 млрд. долл. США (на 24% превысило объемы экспорта в январе – октябре 2016 г.), мяса и мясопродуктов – на 738 млн. долл. США (на 11%). </a:t>
            </a:r>
            <a:r>
              <a:rPr b="0" i="1" lang="be-BY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Минской области экспорт молока составил 277,3 млн. долл. США, мясной продукции – 46,9 млн. долл. США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В 2017 году Республика Беларусь поставляла сельскохозяйственную продукцию и продукты питания более чем в 80 стран мира</a:t>
            </a:r>
            <a:r>
              <a:rPr b="0" lang="be-BY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be-BY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(помимо стран ЕАЭС также на рынки Азии, Африки, Ближнего Востока, Южной и Северной Америки)</a:t>
            </a:r>
            <a:r>
              <a:rPr b="0" lang="be-BY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, в том числе молочную – в 45, мясную – в 19 государств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Экспорт агропродовольственных товаров обеспечивает более 8% ВВП Республики Беларусь и свыше 15% совокупного экспорта страны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8728200" y="0"/>
            <a:ext cx="4122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Диаграмма 1" descr="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464508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214200" y="0"/>
            <a:ext cx="842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ика роста численности населения Республики Беларус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2080080" y="257184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480,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8844840" y="0"/>
            <a:ext cx="29664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Диаграмма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8842320" y="0"/>
            <a:ext cx="30168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производства основных видов сельскохозяйственной продукции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ушу населения в 2016 году  в Республике Беларус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Диаграмма 2" descr=""/>
          <p:cNvPicPr/>
          <p:nvPr/>
        </p:nvPicPr>
        <p:blipFill>
          <a:blip r:embed="rId1"/>
          <a:stretch/>
        </p:blipFill>
        <p:spPr>
          <a:xfrm>
            <a:off x="0" y="785880"/>
            <a:ext cx="9144000" cy="435924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8844840" y="0"/>
            <a:ext cx="29664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Диаграмма 1" descr=""/>
          <p:cNvPicPr/>
          <p:nvPr/>
        </p:nvPicPr>
        <p:blipFill>
          <a:blip r:embed="rId1"/>
          <a:stretch/>
        </p:blipFill>
        <p:spPr>
          <a:xfrm>
            <a:off x="0" y="639720"/>
            <a:ext cx="9144000" cy="450540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1204920" y="214200"/>
            <a:ext cx="70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ика стран мира по критерию доступности продовольств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ая соединительная линия 4"/>
          <p:cNvSpPr/>
          <p:nvPr/>
        </p:nvSpPr>
        <p:spPr>
          <a:xfrm>
            <a:off x="2500200" y="785880"/>
            <a:ext cx="0" cy="2571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ая соединительная линия 8"/>
          <p:cNvSpPr/>
          <p:nvPr/>
        </p:nvSpPr>
        <p:spPr>
          <a:xfrm>
            <a:off x="5143680" y="785880"/>
            <a:ext cx="0" cy="2571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ая соединительная линия 9"/>
          <p:cNvSpPr/>
          <p:nvPr/>
        </p:nvSpPr>
        <p:spPr>
          <a:xfrm>
            <a:off x="6929280" y="785880"/>
            <a:ext cx="0" cy="2571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4"/>
          <p:cNvSpPr/>
          <p:nvPr/>
        </p:nvSpPr>
        <p:spPr>
          <a:xfrm>
            <a:off x="722880" y="150012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ая сред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"/>
          <p:cNvSpPr/>
          <p:nvPr/>
        </p:nvSpPr>
        <p:spPr>
          <a:xfrm>
            <a:off x="7500960" y="1071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а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ующа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учш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6"/>
          <p:cNvSpPr/>
          <p:nvPr/>
        </p:nvSpPr>
        <p:spPr>
          <a:xfrm>
            <a:off x="8844840" y="0"/>
            <a:ext cx="2966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214200" y="33840"/>
            <a:ext cx="871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Международные оценки уровня продовольственной безопасности в Республике Беларус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2"/>
          <p:cNvSpPr/>
          <p:nvPr/>
        </p:nvSpPr>
        <p:spPr>
          <a:xfrm>
            <a:off x="285840" y="357120"/>
            <a:ext cx="8643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ритерию наличия недоедающего населен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ублика Беларусь относится к категории стран с «очень низким удельным весом недоедающего населения в общей численности» 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ее 5%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ритерию доступности продовольств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арактеризует экономическую доступность продуктов питания, уязвимость населения к влиянию роста цен, наличие программ поддержки потребителей)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16 году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арус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нимал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6-е мест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 113 стран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остаточности продовольствия на внутреннем рынк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змеряются достаточность и стабильность поставок на внутренний рынок, национальный производственный потенциал и меры государственной поддержки необходимых исследований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арусь находится на 52-м мест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 113 стран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казателям качества и безопасности питания насел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цениваются разнообразие и пищевая ценность рациона, безопасность сельскохозяйственной продукции и продовольствия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арусь занимает 39-ю позицию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 113 стран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8844840" y="0"/>
            <a:ext cx="29664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8844840" y="0"/>
            <a:ext cx="29664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1"/>
          <p:cNvSpPr/>
          <p:nvPr/>
        </p:nvSpPr>
        <p:spPr>
          <a:xfrm>
            <a:off x="142920" y="380520"/>
            <a:ext cx="9001080" cy="43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ПОСЛЕДНИЕ ТРИ ГОДА В НАШЕЙ СТРАНЕ ПРИНЯТ РЯД НОРМАТИВНЫХ ПРАВОВЫХ АКТОВ,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ЯЮЩИХ БАЗОВЫЕ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ЛОВИЯ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ФУНКЦИОНИРОВАНИЯ СУБЪЕКТОВ ХОЗЯЙСТВОВАНИЯ В АП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8000"/>
                </a:solidFill>
                <a:uFillTx/>
                <a:latin typeface="Times New Roman"/>
                <a:ea typeface="Calibri"/>
              </a:rPr>
              <a:t>Изданы указы Президента Республики Беларус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17 июля 2014 г. № 347 «О государственной аграрной политике»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17 июля 2014 г. № 348 «О мерах по повышению эффективности работы организаций агропромышленного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плекса»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17 июля 2014 г. № 349 «О реорганизации колхозов (СПК)»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17 июля 2014 г. № 350 «Об особенностях поставки сельскохозяйственной продукции для республиканских государственных нужд»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23 марта 2016 г. № 106 «О государственных программах и оказании государственной финансовой поддержки»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4 июля 2016 г. № 253 «О мерах по финансовому оздоровлению сельскохозяйственных организаций»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14 июля 2016 г. № 268 «О создании и деятельности открытого акционерного общества «Агентство по управлению активами»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8844840" y="0"/>
            <a:ext cx="29664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1805040" y="142920"/>
            <a:ext cx="61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стьянские фермерские и личные подсобные хозяй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льскохозяйственном производств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Диаграмма 4" descr=""/>
          <p:cNvPicPr/>
          <p:nvPr/>
        </p:nvPicPr>
        <p:blipFill>
          <a:blip r:embed="rId1"/>
          <a:stretch/>
        </p:blipFill>
        <p:spPr>
          <a:xfrm>
            <a:off x="0" y="858960"/>
            <a:ext cx="893124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214200" y="58680"/>
            <a:ext cx="857268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 2016 году принята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сударственная программа развития аграрного бизнеса в Республике Беларусь на 2016 – 2020 год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(далее – Государственная программа). В ее рамках предполагается реализация 12 подпрограмм, в которых определены мероприятия, сроки их реализации, объемы и источники финансирования с разбивкой по задачам, заказчикам и годам реализац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программа 10 «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и поддержка малых форм хозяйствования» Государственной программ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правлена на создание условий для развития и поддержки малых форм хозяйствования в сельском хозяйстве, к которым относятся и представители малого агробизнеса – крестьянские (фермерские) хозяйств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Фермерские хозяйства участвуют в реализации мероприятий не только подпрограммы 10, но и в реализации мероприятий других подпрограмм Государственной программы наравне с иными субъектами хозяйствования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стадии реализации находится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 дополнительных мероприятий по развитию и поддержке крестьянских (фермерских) хозяйств на 2016 – 2020 год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ключающий предоставление фермерским хозяйствам земельных участков для ведения сельского хозяйства, участие фермерских хозяйств и их объединений (ассоциаций, союзов) в реализации проектов международной технической помощи, иностранной безвозмездной помощи и другие мероприят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мках подпрограммы 10 такж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тся выплата надбавок к закупочным ценам на сельскохозяйственную продукцию, закупаемую у населен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иды субсидируемой продукции и размеры надбавок ежегодно определяются Минсельхозпродом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8844840" y="0"/>
            <a:ext cx="29664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0" y="381960"/>
            <a:ext cx="9144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рамках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подпрограммы 1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«Обеспечение общих условий функционирования агропромышленного комплекса»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й программ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осуществляетс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плата ежемесячных доплат к заработной плате молодым специалиста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в соответствии с Указом Президента Республики Беларусь от 12 августа 2013 г. № 353 «О некоторых мерах по обеспечению организаций агропромышленного комплекса кадрами». Выплаты производятся работникам, отработавшим в организациях АПК два года по распределению, в течение последующих трех лет в трехкратном размере тарифной ставки первого разряд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убсидирование деятельности непосредственно субъектов АП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ключая предоставление прямых выплат в виде надбавок на единицу сельскохозяйственной продукц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дбавки выплачиваются всем сельхозорганизация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 Виды продукции и размеры надбавок ежегодно определяются Правительством. В пределах имеющихся средств в местных бюджетах местные органы власти вправе увеличивать размер надбавок и (или) производить дифференциацию размеров надбавок в зависимости от кадастровой оценки сельскохозяйственных земель сельскохозяйственного назначения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бсидии на осуществление деятельнос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вязанной с производством сельскохозяйственной продукции, предоставляются на закупку удобрений, семян сельскохозяйственных растений, средств защиты растений, нефтепродуктов, запасных частей и других товаров, работ (услуг), связанных с производством сельскохозяйственной продукции, включая погашение задолженности за ни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8844840" y="0"/>
            <a:ext cx="29664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2T06:19:19Z</dcterms:created>
  <dc:creator>User</dc:creator>
  <dc:description/>
  <dc:language>en-US</dc:language>
  <cp:lastModifiedBy>Serg</cp:lastModifiedBy>
  <dcterms:modified xsi:type="dcterms:W3CDTF">2018-01-17T06:12:37Z</dcterms:modified>
  <cp:revision>43</cp:revision>
  <dc:subject/>
  <dc:title>Слайд 1</dc:title>
</cp:coreProperties>
</file>