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085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360" y="-360"/>
            <a:ext cx="2946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36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3F6B-5CEF-4785-AEBF-2DB6E7E74D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919A-5929-4118-898D-0CD774A68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56BA-9CFF-43AA-8497-E72908DC8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705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0"/>
          <p:cNvSpPr/>
          <p:nvPr/>
        </p:nvSpPr>
        <p:spPr>
          <a:xfrm>
            <a:off x="468360" y="1143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3D9C39F91B51F7653B07CAF7A6C819B8A77918F8962A7178B2244BB201770733FCFE704B13271145E4307C115F5F4BN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3D9C39F91B51F7653B07CAF7A6C819B8A77918F8962A7178B2244BB201770733FCFE704B13271145E4307C11585F4AN" TargetMode="External"/><Relationship Id="rId2" Type="http://schemas.openxmlformats.org/officeDocument/2006/relationships/hyperlink" Target="consultantplus://offline/ref=3D9C39F91B51F7653B07CAF7A6C819B8A77918F8962A7178B2244BB201770733FCFE704B13271145E4307C11585F4AN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нд социальной защиты насел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1720" y="119700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форм ПУ-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01.07.201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40328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372960" y="1187280"/>
            <a:ext cx="8512200" cy="36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ПУ-1 (тип формы -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анкетных дан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заполняется в случае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зменения анкетных дан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фамилии, собственного имени, отчества (если таковое имеется), даты рождения, места рождения, пола застрахованного лица или других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, если в форме ПУ-1 (тип формы - регистрация) ошибочно заполнен реквизит "Отчество (если таковое имеется)", то для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ны в указанном реквизите формы ПУ-1 (тип формы - изменение анкетных данных)   следует указать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55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909720" y="4257720"/>
            <a:ext cx="7300800" cy="2066760"/>
          </a:xfrm>
          <a:prstGeom prst="rect">
            <a:avLst/>
          </a:prstGeom>
          <a:ln w="0">
            <a:noFill/>
          </a:ln>
        </p:spPr>
      </p:pic>
      <p:sp>
        <p:nvSpPr>
          <p:cNvPr id="87" name="Oval 13"/>
          <p:cNvSpPr/>
          <p:nvPr/>
        </p:nvSpPr>
        <p:spPr>
          <a:xfrm>
            <a:off x="1658880" y="5291280"/>
            <a:ext cx="893880" cy="32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11120" y="1173240"/>
            <a:ext cx="823752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01.07.2019 необходимо подавать в ФСЗН для открытия индивидуального лицевого сч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кета застрахованного лица по </a:t>
            </a:r>
            <a:r>
              <a:rPr b="0" lang="ru-RU" sz="3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форме ПУ-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по иностранным гражданам и лицам без гражданства, имеющим документ для выезда за границу или удостоверение бежен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1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кета застрахованного лиц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11120" y="1173240"/>
            <a:ext cx="8237520" cy="49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01.07.2019 необходимо подавать в ФСЗН для открытия индивидуального лицевого сче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ведения о приеме и увольнении по </a:t>
            </a: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форме ПУ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о гражданам, у которых в документе, удостоверяющем личность, содержится идентификационный номер (паспорт гражданина Республики Беларусь или вид на жительство в Республике Беларус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в текущем квартале на работу принят сотрудник, у которого не открыт индивидуальный лицевой счет. В данном случае в установленные сроки (не позднее 10-го числа месяца, следующего за отчетным кварталом) можно представить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форму ПУ-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тип формы - исходна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1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кета застрахованного лиц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11120" y="1173240"/>
            <a:ext cx="82375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01.07.2019 необходимо подавать в ФСЗН для открытия индивидуального лицевого сч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е сведения по форме ПУ-3 - по гражданам, у которых в документе, удостоверяющем личность, содержится идентификационный номер (паспорт гражданина Республики Беларусь или вид на жительство в Республике Беларус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 работник, у которого не открыт индивидуальный лицевой счет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ботает по гражданско-правовому догов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нном случае в установленные сроки (не позднее месяца, следующего за отчетным кварталом) можно представить форму ПУ-3 (тип формы - исходна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1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кета застрахованного лиц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411120" y="1173240"/>
            <a:ext cx="8237520" cy="55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результатам обработки пачек ДПУ, содержащих формы ПУ-1, ПУ-2, ПУ-3, органом Фонда выдаются страховые свидетельства государственного социального страхования по форме ПУ-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бо отказы, возвраты документов персонифицированного учета (далее - возвра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ередачи  плательщику страховых взносов свидетельств социального страхования, отказов и возвратов органом Фонда формируется ведомость выдачи исходящих документов (далее - ведом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омость выдается представителю плательщика страховых взносов при предъявлении  доверенности и документа, удостоверяющего личность, или документа для выезда за гра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1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кета застрахованного лиц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40328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2 «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ения о приеме и увольнен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531720" y="1400040"/>
            <a:ext cx="7783560" cy="3638520"/>
          </a:xfrm>
          <a:prstGeom prst="rect">
            <a:avLst/>
          </a:prstGeom>
          <a:ln w="0">
            <a:noFill/>
          </a:ln>
        </p:spPr>
      </p:pic>
      <p:sp>
        <p:nvSpPr>
          <p:cNvPr id="66" name="Oval 13"/>
          <p:cNvSpPr/>
          <p:nvPr/>
        </p:nvSpPr>
        <p:spPr>
          <a:xfrm>
            <a:off x="461880" y="3909960"/>
            <a:ext cx="2355840" cy="1009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287360" y="1192320"/>
            <a:ext cx="6086520" cy="38955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485640" y="5205240"/>
            <a:ext cx="821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1.201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форме ПУ-1 «Анкета застрахованного лица» (типы  формы – «регистрация» и «изменение анкетных данных») реквизи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ражданство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ется в соответствии с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ами стра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анные коды установлены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ложении 4 к Инструкци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рядке заполнения и  в программном комплексе «Ввод ДПУ»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09720" y="1287360"/>
            <a:ext cx="7119720" cy="4227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ложение 4     Коды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2173320" y="4935600"/>
            <a:ext cx="2511360" cy="32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1076400" y="5724360"/>
            <a:ext cx="6753240" cy="952560"/>
          </a:xfrm>
          <a:prstGeom prst="rect">
            <a:avLst/>
          </a:prstGeom>
          <a:ln w="0">
            <a:noFill/>
          </a:ln>
        </p:spPr>
      </p:pic>
      <p:sp>
        <p:nvSpPr>
          <p:cNvPr id="76" name="Oval 13"/>
          <p:cNvSpPr/>
          <p:nvPr/>
        </p:nvSpPr>
        <p:spPr>
          <a:xfrm>
            <a:off x="895320" y="6372360"/>
            <a:ext cx="3629160" cy="323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1 «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гистраци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434960" y="1449360"/>
            <a:ext cx="6153120" cy="4029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1495440" y="5637240"/>
            <a:ext cx="5297400" cy="426960"/>
          </a:xfrm>
          <a:prstGeom prst="rect">
            <a:avLst/>
          </a:prstGeom>
          <a:ln w="0">
            <a:noFill/>
          </a:ln>
        </p:spPr>
      </p:pic>
      <p:sp>
        <p:nvSpPr>
          <p:cNvPr id="80" name="Oval 13"/>
          <p:cNvSpPr/>
          <p:nvPr/>
        </p:nvSpPr>
        <p:spPr>
          <a:xfrm>
            <a:off x="2130480" y="2529000"/>
            <a:ext cx="1770120" cy="419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3"/>
          <p:cNvSpPr/>
          <p:nvPr/>
        </p:nvSpPr>
        <p:spPr>
          <a:xfrm>
            <a:off x="5654520" y="4114800"/>
            <a:ext cx="1933560" cy="52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43:58Z</dcterms:created>
  <dc:creator>Michael Kouzmin</dc:creator>
  <dc:description/>
  <dc:language>en-US</dc:language>
  <cp:lastModifiedBy>Денисенко Ирина Михайловна</cp:lastModifiedBy>
  <cp:lastPrinted>2013-12-16T12:23:37Z</cp:lastPrinted>
  <dcterms:modified xsi:type="dcterms:W3CDTF">2019-06-05T05:57:08Z</dcterms:modified>
  <cp:revision>522</cp:revision>
  <dc:subject/>
  <dc:title>Слайд 1</dc:title>
</cp:coreProperties>
</file>