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3B1E-56C5-4D3D-8128-32FB06CA1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2733-273D-4F13-8317-94039FB6E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EA94-E7AE-4FB3-AC2B-8D95270F5A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еративного внесения в индивидуальный лицевой счет застрахованного лица сведений о периодах уплаты обязательных страховых взносов, представленных плательщиком обязательных страховых взносов в индивидуальных сведения по форме ПУ-3  с целью дальнейшего использования для определения размера пособий по временной нетрудоспособности, по беременности и родам, пункт 16 Правил дополняется нормами, определяющими срок представления формы ПУ-3 (тип формы – исходная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одателем – в течение 5 рабочих дней со дня письменного обращения к нему застрахованного лица по вопросу подтверждения периода уплаты обязательных страховых взно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м лицом, самостоятельно уплачивающим обязательные страховые взносы, – в течение 5 рабочих дней со дня возникновения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Л, которые кроме данного работодателя,  осуществляли трудовую или иную деятельность (гражданско-правовой договор) у другого работодателя. И имеют право на получение пособия по временной нетрудоспособности в полном размере, т.е. у предыдущего работодателя более 6 месяцев работы или если суммарно с ныне действующим работодателем будет шесть месяцев и более. Действующему работодателю представлять форму ПУ-3 не нужно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3485-E2DB-4C8D-8AAB-E8E8BD4B2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еративного внесения в индивидуальный лицевой счет застрахованного лица сведений о периодах уплаты обязательных страховых взносов, представленных плательщиком обязательных страховых взносов в индивидуальных сведения по форме ПУ-3  с целью дальнейшего использования для определения размера пособий по временной нетрудоспособности, по беременности и родам, пункт 16 Правил дополняется нормами, определяющими срок представления формы ПУ-3 (тип формы – исходная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одателем – в течение 5 рабочих дней со дня письменного обращения к нему застрахованного лица по вопросу подтверждения периода уплаты обязательных страховых взно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м лицом, самостоятельно уплачивающим обязательные страховые взносы, – в течение 5 рабочих дней со дня возникновения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Л, которые кроме данного работодателя,  осуществляли трудовую или иную деятельность (гражданско-правовой договор) у другого работодателя. И имеют право на получение пособия по временной нетрудоспособности в полном размере, т.е. у предыдущего работодателя более 6 месяцев работы или если суммарно с ныне действующим работодателем будет шесть месяцев и более. Действующему работодателю представлять форму ПУ-3 не нужно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04B8-1074-4FCE-9EEC-F4DF17C0CB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еративного внесения в индивидуальный лицевой счет застрахованного лица сведений о периодах уплаты обязательных страховых взносов, представленных плательщиком обязательных страховых взносов в индивидуальных сведения по форме ПУ-3  с целью дальнейшего использования для определения размера пособий по временной нетрудоспособности, по беременности и родам, пункт 16 Правил дополняется нормами, определяющими срок представления формы ПУ-3 (тип формы – исходная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одателем – в течение 5 рабочих дней со дня письменного обращения к нему застрахованного лица по вопросу подтверждения периода уплаты обязательных страховых взно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м лицом, самостоятельно уплачивающим обязательные страховые взносы, – в течение 5 рабочих дней со дня возникновения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Л, которые кроме данного работодателя,  осуществляли трудовую или иную деятельность (гражданско-правовой договор) у другого работодателя. И имеют право на получение пособия по временной нетрудоспособности в полном размере, т.е. у предыдущего работодателя более 6 месяцев работы или если суммарно с ныне действующим работодателем будет шесть месяцев и более. Действующему работодателю представлять форму ПУ-3 не нужно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0A73-FCE2-4678-A5FD-C6EDF5F0DF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еративного внесения в индивидуальный лицевой счет застрахованного лица сведений о периодах уплаты обязательных страховых взносов, представленных плательщиком обязательных страховых взносов в индивидуальных сведения по форме ПУ-3  с целью дальнейшего использования для определения размера пособий по временной нетрудоспособности, по беременности и родам, пункт 16 Правил дополняется нормами, определяющими срок представления формы ПУ-3 (тип формы – исходная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одателем – в течение 5 рабочих дней со дня письменного обращения к нему застрахованного лица по вопросу подтверждения периода уплаты обязательных страховых взно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м лицом, самостоятельно уплачивающим обязательные страховые взносы, – в течение 5 рабочих дней со дня возникновения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Л, которые кроме данного работодателя,  осуществляли трудовую или иную деятельность (гражданско-правовой договор) у другого работодателя. И имеют право на получение пособия по временной нетрудоспособности в полном размере, т.е. у предыдущего работодателя более 6 месяцев работы или если суммарно с ныне действующим работодателем будет шесть месяцев и более. Действующему работодателю представлять форму ПУ-3 не нужно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282D-F153-437B-9C1F-0E07129C9F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еративного внесения в индивидуальный лицевой счет застрахованного лица сведений о периодах уплаты обязательных страховых взносов, представленных плательщиком обязательных страховых взносов в индивидуальных сведения по форме ПУ-3  с целью дальнейшего использования для определения размера пособий по временной нетрудоспособности, по беременности и родам, пункт 16 Правил дополняется нормами, определяющими срок представления формы ПУ-3 (тип формы – исходная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одателем – в течение 5 рабочих дней со дня письменного обращения к нему застрахованного лица по вопросу подтверждения периода уплаты обязательных страховых взно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м лицом, самостоятельно уплачивающим обязательные страховые взносы, – в течение 5 рабочих дней со дня возникновения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Л, которые кроме данного работодателя,  осуществляли трудовую или иную деятельность (гражданско-правовой договор) у другого работодателя. И имеют право на получение пособия по временной нетрудоспособности в полном размере, т.е. у предыдущего работодателя более 6 месяцев работы или если суммарно с ныне действующим работодателем будет шесть месяцев и более. Действующему работодателю представлять форму ПУ-3 не нужно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C566-ECFB-469A-8183-083A115B6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еративного внесения в индивидуальный лицевой счет застрахованного лица сведений о периодах уплаты обязательных страховых взносов, представленных плательщиком обязательных страховых взносов в индивидуальных сведения по форме ПУ-3  с целью дальнейшего использования для определения размера пособий по временной нетрудоспособности, по беременности и родам, пункт 16 Правил дополняется нормами, определяющими срок представления формы ПУ-3 (тип формы – исходная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одателем – в течение 5 рабочих дней со дня письменного обращения к нему застрахованного лица по вопросу подтверждения периода уплаты обязательных страховых взно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м лицом, самостоятельно уплачивающим обязательные страховые взносы, – в течение 5 рабочих дней со дня возникновения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Л, которые кроме данного работодателя,  осуществляли трудовую или иную деятельность (гражданско-правовой договор) у другого работодателя. И имеют право на получение пособия по временной нетрудоспособности в полном размере, т.е. у предыдущего работодателя более 6 месяцев работы или если суммарно с ныне действующим работодателем будет шесть месяцев и более. Действующему работодателю представлять форму ПУ-3 не нужно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CBA6-EA64-4960-9934-8E95B0FCD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еративного внесения в индивидуальный лицевой счет застрахованного лица сведений о периодах уплаты обязательных страховых взносов, представленных плательщиком обязательных страховых взносов в индивидуальных сведения по форме ПУ-3  с целью дальнейшего использования для определения размера пособий по временной нетрудоспособности, по беременности и родам, пункт 16 Правил дополняется нормами, определяющими срок представления формы ПУ-3 (тип формы – исходная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одателем – в течение 5 рабочих дней со дня письменного обращения к нему застрахованного лица по вопросу подтверждения периода уплаты обязательных страховых взно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м лицом, самостоятельно уплачивающим обязательные страховые взносы, – в течение 5 рабочих дней со дня возникновения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Л, которые кроме данного работодателя,  осуществляли трудовую или иную деятельность (гражданско-правовой договор) у другого работодателя. И имеют право на получение пособия по временной нетрудоспособности в полном размере, т.е. у предыдущего работодателя более 6 месяцев работы или если суммарно с ныне действующим работодателем будет шесть месяцев и более. Действующему работодателю представлять форму ПУ-3 не нужно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485F-B54D-4AA4-838F-6C33FDCE0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еративного внесения в индивидуальный лицевой счет застрахованного лица сведений о периодах уплаты обязательных страховых взносов, представленных плательщиком обязательных страховых взносов в индивидуальных сведения по форме ПУ-3  с целью дальнейшего использования для определения размера пособий по временной нетрудоспособности, по беременности и родам, пункт 16 Правил дополняется нормами, определяющими срок представления формы ПУ-3 (тип формы – исходная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одателем – в течение 5 рабочих дней со дня письменного обращения к нему застрахованного лица по вопросу подтверждения периода уплаты обязательных страховых взно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м лицом, самостоятельно уплачивающим обязательные страховые взносы, – в течение 5 рабочих дней со дня возникновения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Л, которые кроме данного работодателя,  осуществляли трудовую или иную деятельность (гражданско-правовой договор) у другого работодателя. И имеют право на получение пособия по временной нетрудоспособности в полном размере, т.е. у предыдущего работодателя более 6 месяцев работы или если суммарно с ныне действующим работодателем будет шесть месяцев и более. Действующему работодателю представлять форму ПУ-3 не нужно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B771-D3B2-494A-9FF9-156714B3E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6C5C-BE49-4192-AEC3-F838392A29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6B9B-B5D1-4B0B-AB8B-6A73A6DD84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E3EF-2D73-4DF9-AF8A-4BED3E8A28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6130-40C6-4C3B-9B1E-54979E407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C648-E2CD-44C7-B088-BD36C2968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621D-5AEC-4274-94CD-D1B3619C5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8417-F45C-4DCA-B784-47F6502F6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4E4E-4BEC-4501-9AB0-ABFE1833A2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еративного внесения в индивидуальный лицевой счет застрахованного лица сведений о периодах уплаты обязательных страховых взносов, представленных плательщиком обязательных страховых взносов в индивидуальных сведения по форме ПУ-3  с целью дальнейшего использования для определения размера пособий по временной нетрудоспособности, по беременности и родам, пункт 16 Правил дополняется нормами, определяющими срок представления формы ПУ-3 (тип формы – исходная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одателем – в течение 5 рабочих дней со дня письменного обращения к нему застрахованного лица по вопросу подтверждения периода уплаты обязательных страховых взно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м лицом, самостоятельно уплачивающим обязательные страховые взносы, – в течение 5 рабочих дней со дня возникновения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Л, которые кроме данного работодателя,  осуществляли трудовую или иную деятельность (гражданско-правовой договор) у другого работодателя. И имеют право на получение пособия по временной нетрудоспособности в полном размере, т.е. у предыдущего работодателя более 6 месяцев работы или если суммарно с ныне действующим работодателем будет шесть месяцев и более. Действующему работодателю представлять форму ПУ-3 не нужно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705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0"/>
          <p:cNvSpPr/>
          <p:nvPr/>
        </p:nvSpPr>
        <p:spPr>
          <a:xfrm>
            <a:off x="468360" y="1143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нд социальной защиты насе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26792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полнение графы «Код должности служащего, профессии рабочего по Общегосударственному классификатору ОКРБ 014-2017 «Занят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ы ПУ-2 в новом форма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324000" y="912960"/>
          <a:ext cx="8569080" cy="6904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9048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КОДА ДОЛЖНОСТИ СЛУЖАЩЕГО (ПРОФЕССИИ РАБОЧЕГО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96" name="TextBox 4"/>
          <p:cNvSpPr/>
          <p:nvPr/>
        </p:nvSpPr>
        <p:spPr>
          <a:xfrm>
            <a:off x="250920" y="1844640"/>
            <a:ext cx="828180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пример, для  начальной группы 91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борщик помещений (служебн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684680" y="278136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09520" y="3184560"/>
          <a:ext cx="8785080" cy="2316240"/>
        </p:xfrm>
        <a:graphic>
          <a:graphicData uri="http://schemas.openxmlformats.org/drawingml/2006/table">
            <a:tbl>
              <a:tblPr/>
              <a:tblGrid>
                <a:gridCol w="1008000"/>
                <a:gridCol w="1656000"/>
                <a:gridCol w="1152360"/>
                <a:gridCol w="1081080"/>
                <a:gridCol w="1295280"/>
                <a:gridCol w="1368720"/>
                <a:gridCol w="1008000"/>
                <a:gridCol w="215640"/>
              </a:tblGrid>
              <a:tr h="17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начальной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 номер должности служащего(профессии рабочего) в начальной группе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олжности служащего (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служащего (профессии рабоч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атегории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-раб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-служащ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 служащего (разряда 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роизвод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12-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орщ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24000" y="912960"/>
          <a:ext cx="8569080" cy="6904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9048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КОДА ДОЛЖНОСТИ СЛУЖАЩЕГО (ПРОФЕССИИ РАБОЧЕГО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02" name="TextBox 4"/>
          <p:cNvSpPr/>
          <p:nvPr/>
        </p:nvSpPr>
        <p:spPr>
          <a:xfrm>
            <a:off x="250920" y="1719360"/>
            <a:ext cx="828180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пример, для  начальной группы 43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ифик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684680" y="278136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2952720"/>
          <a:ext cx="8713800" cy="2239920"/>
        </p:xfrm>
        <a:graphic>
          <a:graphicData uri="http://schemas.openxmlformats.org/drawingml/2006/table">
            <a:tbl>
              <a:tblPr/>
              <a:tblGrid>
                <a:gridCol w="1008000"/>
                <a:gridCol w="1441440"/>
                <a:gridCol w="1150920"/>
                <a:gridCol w="1225440"/>
                <a:gridCol w="1224000"/>
                <a:gridCol w="1584360"/>
                <a:gridCol w="863640"/>
                <a:gridCol w="21600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начальной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 номер должности служащего(профессии рабочего) в начальной группе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олжности служащего (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служащего (профессии рабоч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атегории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-раб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-служащ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 служащего (разряда 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роизвод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1-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ик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24000" y="912960"/>
          <a:ext cx="8569080" cy="6904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9048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КОДА ДОЛЖНОСТИ СЛУЖАЩЕГО (ПРОФЕССИИ РАБОЧЕГО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08" name="TextBox 4"/>
          <p:cNvSpPr/>
          <p:nvPr/>
        </p:nvSpPr>
        <p:spPr>
          <a:xfrm>
            <a:off x="228600" y="1719360"/>
            <a:ext cx="828216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пример, для  начальной группы 12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й бухгал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684680" y="278136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0080" y="2965320"/>
          <a:ext cx="8893080" cy="2103480"/>
        </p:xfrm>
        <a:graphic>
          <a:graphicData uri="http://schemas.openxmlformats.org/drawingml/2006/table">
            <a:tbl>
              <a:tblPr/>
              <a:tblGrid>
                <a:gridCol w="1063440"/>
                <a:gridCol w="1536840"/>
                <a:gridCol w="1152360"/>
                <a:gridCol w="1440000"/>
                <a:gridCol w="1008000"/>
                <a:gridCol w="1727280"/>
                <a:gridCol w="714240"/>
                <a:gridCol w="2509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начальной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 номер должности служащего(профессии рабочего) в начальной группе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олжности служащего (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служащего (профессии рабоч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атегории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-раб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-служащ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 служащего (разряда 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роизвод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1-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24000" y="912960"/>
          <a:ext cx="8569080" cy="6904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9048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КОДА ДОЛЖНОСТИ СЛУЖАЩЕГО (ПРОФЕССИИ РАБОЧЕГО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4"/>
          <p:cNvSpPr/>
          <p:nvPr/>
        </p:nvSpPr>
        <p:spPr>
          <a:xfrm>
            <a:off x="324000" y="1484280"/>
            <a:ext cx="8186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пример, для  начальной группы 12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й бухгал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684680" y="278136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8000" y="2027160"/>
          <a:ext cx="8893080" cy="2103480"/>
        </p:xfrm>
        <a:graphic>
          <a:graphicData uri="http://schemas.openxmlformats.org/drawingml/2006/table">
            <a:tbl>
              <a:tblPr/>
              <a:tblGrid>
                <a:gridCol w="1063440"/>
                <a:gridCol w="1536840"/>
                <a:gridCol w="1152360"/>
                <a:gridCol w="1440000"/>
                <a:gridCol w="1008000"/>
                <a:gridCol w="1727280"/>
                <a:gridCol w="714240"/>
                <a:gridCol w="2509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начальной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 номер должности служащего(профессии рабочего) в начальной группе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олжности служащего (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служащего (профессии рабоч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атегории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-раб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-служащ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 служащего (разряда 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роизвод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1-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17" name="Прямоугольник 1"/>
          <p:cNvSpPr/>
          <p:nvPr/>
        </p:nvSpPr>
        <p:spPr>
          <a:xfrm>
            <a:off x="120240" y="4149720"/>
            <a:ext cx="36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1 - Перечень групп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08000" y="4487760"/>
            <a:ext cx="6343560" cy="67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108000" y="5164200"/>
            <a:ext cx="6343560" cy="96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4"/>
          <a:stretch/>
        </p:blipFill>
        <p:spPr>
          <a:xfrm>
            <a:off x="114480" y="6110280"/>
            <a:ext cx="6337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324000" y="912960"/>
          <a:ext cx="8569080" cy="6904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9048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КОДА ДОЛЖНОСТИ СЛУЖАЩЕГО (ПРОФЕССИИ РАБОЧЕГО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24" name="TextBox 4"/>
          <p:cNvSpPr/>
          <p:nvPr/>
        </p:nvSpPr>
        <p:spPr>
          <a:xfrm>
            <a:off x="228600" y="1719360"/>
            <a:ext cx="82821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пример, для  начальной группы 12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й бухгал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684680" y="278136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2680" y="2349360"/>
          <a:ext cx="8893080" cy="2103480"/>
        </p:xfrm>
        <a:graphic>
          <a:graphicData uri="http://schemas.openxmlformats.org/drawingml/2006/table">
            <a:tbl>
              <a:tblPr/>
              <a:tblGrid>
                <a:gridCol w="1063800"/>
                <a:gridCol w="1536480"/>
                <a:gridCol w="1152720"/>
                <a:gridCol w="1439640"/>
                <a:gridCol w="1008000"/>
                <a:gridCol w="1727280"/>
                <a:gridCol w="714600"/>
                <a:gridCol w="25056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начальной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 номер должности служащего(профессии рабочего) в начальной группе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олжности служащего (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служащего (профессии рабоч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атегории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-раб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-служащ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 служащего (разряда 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роизвод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1-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27" name="Прямоугольник 2"/>
          <p:cNvSpPr/>
          <p:nvPr/>
        </p:nvSpPr>
        <p:spPr>
          <a:xfrm>
            <a:off x="112680" y="4724280"/>
            <a:ext cx="885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2 Перечень наименований должностей служащих и профессий рабочих, распределенных по начальным группам зан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198360" y="5248440"/>
            <a:ext cx="7974000" cy="84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3"/>
          <a:stretch/>
        </p:blipFill>
        <p:spPr>
          <a:xfrm>
            <a:off x="228600" y="6093000"/>
            <a:ext cx="79437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324000" y="912960"/>
          <a:ext cx="8569080" cy="6904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9048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КОДА ДОЛЖНОСТИ СЛУЖАЩЕГО (ПРОФЕССИИ РАБОЧЕГО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33" name="TextBox 4"/>
          <p:cNvSpPr/>
          <p:nvPr/>
        </p:nvSpPr>
        <p:spPr>
          <a:xfrm>
            <a:off x="228600" y="1719360"/>
            <a:ext cx="82821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пример, для  начальной группы 12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й бухгал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684680" y="278136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8000" y="2349360"/>
          <a:ext cx="8893080" cy="2103480"/>
        </p:xfrm>
        <a:graphic>
          <a:graphicData uri="http://schemas.openxmlformats.org/drawingml/2006/table">
            <a:tbl>
              <a:tblPr/>
              <a:tblGrid>
                <a:gridCol w="1063440"/>
                <a:gridCol w="1536840"/>
                <a:gridCol w="1152360"/>
                <a:gridCol w="1440000"/>
                <a:gridCol w="1008000"/>
                <a:gridCol w="1727280"/>
                <a:gridCol w="714240"/>
                <a:gridCol w="25092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начальной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 номер должности служащего(профессии рабочего) в начальной группе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олжности служащего (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служащего (профессии рабоч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атегории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-раб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-служащ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 служащего (разряда 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роизвод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1-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136" name="Прямоугольник 1"/>
          <p:cNvSpPr/>
          <p:nvPr/>
        </p:nvSpPr>
        <p:spPr>
          <a:xfrm>
            <a:off x="218160" y="472428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ный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50840" y="5043600"/>
            <a:ext cx="7805880" cy="104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150840" y="6093000"/>
            <a:ext cx="780588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324000" y="912960"/>
          <a:ext cx="8569080" cy="6904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9048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КОДА ДОЛЖНОСТИ СЛУЖАЩЕГО (ПРОФЕССИИ РАБОЧЕГО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42" name="TextBox 4"/>
          <p:cNvSpPr/>
          <p:nvPr/>
        </p:nvSpPr>
        <p:spPr>
          <a:xfrm>
            <a:off x="228600" y="1719360"/>
            <a:ext cx="82821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пример, для  начальной группы 12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й бухгал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684680" y="278136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312840" y="263700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ая группа 1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и структурных подразделений в области финансово-экономической и административ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и структурных подразделений в области финансово-экономической и административной деятельности осуществляют руководство деятельностью соответствующих подразделений; планируют, направляют и координируют внутреннюю финансовую и административную деятельность организации; исполняют свои должностные обязанности при общем руководстве руководителя организации (его заместителей) и во взаимодействии с руководителями других подразде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6"/>
          <p:cNvSpPr/>
          <p:nvPr/>
        </p:nvSpPr>
        <p:spPr>
          <a:xfrm>
            <a:off x="4684680" y="278136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1267920"/>
            <a:ext cx="878508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актные данные специалистов Министерства труда и социальной защиты для получения консультации в части запол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дов должности служащего (профессии рабочего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203-14-70, 203-04-6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дов оснований увольнения и видов трудового договор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9-93-09, 309-93-11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9.00до10.3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2"/>
          <p:cNvSpPr/>
          <p:nvPr/>
        </p:nvSpPr>
        <p:spPr>
          <a:xfrm>
            <a:off x="1535040" y="3754440"/>
            <a:ext cx="172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971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57360"/>
            <a:ext cx="7153200" cy="2016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асибо за внимание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06520" y="1125000"/>
            <a:ext cx="838656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 настоящем классификаторе использованы ссылки на следующие технические нормативные правовые акты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диный квалификационный справочник должностей служащих (ЕКС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диный тарифно-квалификационный справочник работ и профессий рабочих (ЕТКС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79280" y="1483920"/>
            <a:ext cx="885672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Общегосударственный классификатор "Занятия" (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далее - ОКЗ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) входит в состав Единой системы классификации и кодирования технико-экономической и социальной информации Республики Беларусь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полного кода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3686400" y="3685320"/>
            <a:ext cx="49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1197000"/>
          <a:ext cx="8569440" cy="65556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65556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полного кода должности служащего, профессии рабочего по Общегосударственному классификатору ОКРБ 014-2017 "Занятия"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787320" y="2043000"/>
            <a:ext cx="782964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полного кода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3686400" y="3685320"/>
            <a:ext cx="49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1197000"/>
          <a:ext cx="8569440" cy="65556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65556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полного кода должности служащего, профессии рабочего по Общегосударственному классификатору ОКРБ 014-2017 "Занятия"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1"/>
          <p:cNvSpPr/>
          <p:nvPr/>
        </p:nvSpPr>
        <p:spPr>
          <a:xfrm>
            <a:off x="395280" y="19479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ХХХ - Код начальной группы занят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аблица 1 - Перечень групп занят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ХХ – Порядковый номер должности служащего (профессии рабочего) в начальной группе занят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аблица 2 - Перечень наименований должностей служащих и профессий рабочих, распределенных по начальным группам занят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Х – Код категории работ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01-рабочие, 02-служащ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 – Код квалификационной категории должности служащего (разряда профессии рабочег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аблица 8 - Коды разрядов-рабочие от 1 до 8), (Таблица 5 - Коды квалификационных категорий должностей служащих-служащие от 1 до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Х – Код производ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аблица 9 – Коды производных профессий рабочих от 1-Старший до 2-Помощник), (Таблица 6 – Коды производных должностей служащих от 01 до 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полного кода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8"/>
          <p:cNvSpPr/>
          <p:nvPr/>
        </p:nvSpPr>
        <p:spPr>
          <a:xfrm>
            <a:off x="3686400" y="3685320"/>
            <a:ext cx="49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6" descr=""/>
          <p:cNvPicPr/>
          <p:nvPr/>
        </p:nvPicPr>
        <p:blipFill>
          <a:blip r:embed="rId2"/>
          <a:stretch/>
        </p:blipFill>
        <p:spPr>
          <a:xfrm>
            <a:off x="395280" y="1306440"/>
            <a:ext cx="5952960" cy="2322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3"/>
          <a:stretch/>
        </p:blipFill>
        <p:spPr>
          <a:xfrm>
            <a:off x="527040" y="3932280"/>
            <a:ext cx="56815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полного кода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3686400" y="3685320"/>
            <a:ext cx="49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8" descr=""/>
          <p:cNvPicPr/>
          <p:nvPr/>
        </p:nvPicPr>
        <p:blipFill>
          <a:blip r:embed="rId2"/>
          <a:stretch/>
        </p:blipFill>
        <p:spPr>
          <a:xfrm>
            <a:off x="447840" y="1197000"/>
            <a:ext cx="5690880" cy="3321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"/>
          <p:cNvPicPr/>
          <p:nvPr/>
        </p:nvPicPr>
        <p:blipFill>
          <a:blip r:embed="rId3"/>
          <a:stretch/>
        </p:blipFill>
        <p:spPr>
          <a:xfrm>
            <a:off x="484200" y="4518000"/>
            <a:ext cx="56545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СТРУКТУРА КОДА НАЧАЛЬНОЙ ГРУППЫ ЗАНЯТИ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3686400" y="3685320"/>
            <a:ext cx="490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  <a:ea typeface="Calibri"/>
              </a:rPr>
              <a:t>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197000"/>
          <a:ext cx="8569440" cy="51120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51120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РУКТУРА КОДА НАЧАЛЬНОЙ ГРУППЫ ЗАНЯТ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2" descr="base_45057_155770_32768"/>
          <p:cNvPicPr/>
          <p:nvPr/>
        </p:nvPicPr>
        <p:blipFill>
          <a:blip r:embed="rId2"/>
          <a:stretch/>
        </p:blipFill>
        <p:spPr>
          <a:xfrm>
            <a:off x="324000" y="1757520"/>
            <a:ext cx="2735280" cy="28796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3132000" y="1762200"/>
            <a:ext cx="599940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9 ОСНОВНЫХ ГРУП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уководите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Специалисты-профессион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Специ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Работники, занятые предоставлением офисных административных и вспомогательных услуг, услуг потребителям, подготовкой, обработкой информации и уч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Работники сферы обслуживания, торговли и других родственных видов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валифицированные работники сельского и лесного хозяйств рыбоводства и рыболов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Квалифицированные рабочие промышленности, строительства и рабоч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ных занятий (за исключением работников, вошедших в основную группу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Операторы, аппаратчики, машинисты и другие рабочие, занятые управлением, эксплуатацией и обслуживанием установок и машин, сборщики изде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Неквалифицированные рабо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181080" y="4678200"/>
            <a:ext cx="295092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2411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ы-профессион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- Специалисты-профессионалы в сфере бизнеса и администр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1 - Специалисты-профессионалы в области бухгалтерского учета и финан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11 - Специалисты-профессионалы в области бухгалтерского у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3492360" y="4910040"/>
            <a:ext cx="4726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3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Специ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-Специалисты по экономической и административ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1-Специалисты по финансовой деятельности и выполнению статистических и математических расч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13-Средний персонал по бухгалтерскому уче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324000" y="912960"/>
          <a:ext cx="8569080" cy="6904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9048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КОДА ДОЛЖНОСТИ СЛУЖАЩЕГО (ПРОФЕССИИ РАБОЧЕГО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88" name="TextBox 4"/>
          <p:cNvSpPr/>
          <p:nvPr/>
        </p:nvSpPr>
        <p:spPr>
          <a:xfrm>
            <a:off x="250920" y="1550880"/>
            <a:ext cx="828180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пример, для  начальной группы 24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хгалтер 2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4684680" y="278136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4200" y="2251080"/>
          <a:ext cx="8856720" cy="1798560"/>
        </p:xfrm>
        <a:graphic>
          <a:graphicData uri="http://schemas.openxmlformats.org/drawingml/2006/table">
            <a:tbl>
              <a:tblPr/>
              <a:tblGrid>
                <a:gridCol w="1008000"/>
                <a:gridCol w="1584360"/>
                <a:gridCol w="1224000"/>
                <a:gridCol w="1224000"/>
                <a:gridCol w="1152720"/>
                <a:gridCol w="1655640"/>
                <a:gridCol w="720720"/>
                <a:gridCol w="287280"/>
              </a:tblGrid>
              <a:tr h="128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начальной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 номер должности служащего(профессии рабочего) в начальной группе заня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олжности служащего (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служащего (профессии рабоч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атегории работ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-рабоч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-служащ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валификационной категор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 служащего (разряда профессии рабочего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роизвод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1-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sp>
        <p:nvSpPr>
          <p:cNvPr id="91" name="TextBox 4"/>
          <p:cNvSpPr/>
          <p:nvPr/>
        </p:nvSpPr>
        <p:spPr>
          <a:xfrm>
            <a:off x="214200" y="4076640"/>
            <a:ext cx="82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хгалтер 3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4200" y="4538520"/>
          <a:ext cx="8856720" cy="1798920"/>
        </p:xfrm>
        <a:graphic>
          <a:graphicData uri="http://schemas.openxmlformats.org/drawingml/2006/table">
            <a:tbl>
              <a:tblPr/>
              <a:tblGrid>
                <a:gridCol w="1008000"/>
                <a:gridCol w="1584360"/>
                <a:gridCol w="1224000"/>
                <a:gridCol w="1224000"/>
                <a:gridCol w="1152720"/>
                <a:gridCol w="1655640"/>
                <a:gridCol w="720720"/>
                <a:gridCol w="287280"/>
              </a:tblGrid>
              <a:tr h="1281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начальной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ковый номер должности служащего(профессии рабочего) в начальной группе заня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олжности служащего (профессии рабоч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служащего (профессии рабоч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атегории работ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-рабоч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-служащ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квалификационной категор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 служащего (разряда профессии рабочего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роизвод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0c2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1-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43:58Z</dcterms:created>
  <dc:creator>Michael Kouzmin</dc:creator>
  <dc:description/>
  <dc:language>en-US</dc:language>
  <cp:lastModifiedBy>Каско Светлана Николаевна</cp:lastModifiedBy>
  <cp:lastPrinted>2018-11-27T11:22:55Z</cp:lastPrinted>
  <dcterms:modified xsi:type="dcterms:W3CDTF">2019-06-06T07:07:38Z</dcterms:modified>
  <cp:revision>399</cp:revision>
  <dc:subject/>
  <dc:title>Слайд 1</dc:title>
</cp:coreProperties>
</file>