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24F7-F477-4273-A508-F36486B6C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B6B7-5CE8-4E65-821C-603A6751F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437C-798C-46F1-9C4A-4D85ABAB44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53F-7D1B-4572-91E9-421D19907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D385-BB72-4941-966E-CA6DBC4E7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7BA0-5E74-4693-BC58-4A373EABB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7ECE-B2C9-4935-95BA-CA5FF5A1B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52CF-1B4B-4D87-A7D6-4304A2DD84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4909-A5F0-4A3E-95C9-145B17604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F409-0787-42F3-A0F8-AD4DB2823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D48D-60FE-4990-96EE-B487041D2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DD0B-FC37-4370-842D-E9D9288C5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BE9C-42FE-4DB7-A568-CF70266F2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E23-9539-4012-9588-4CF4E80C17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88ED-957A-4AE3-8BFB-D483D0E7B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68360" y="1143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onsultantplus://offline/ref=9AE0E0AAE16BF3AF1769FBC7D9B8E91B3EFFB0E8AA960CF2B2C235B614220B4C77BDyAbAN" TargetMode="External"/><Relationship Id="rId3" Type="http://schemas.openxmlformats.org/officeDocument/2006/relationships/hyperlink" Target="consultantplus://offline/ref=9AE0E0AAE16BF3AF1769FBC7D9B8E91B3EFFB0E8AA960CF2B2C235B614220B4C77BDAA694CB286B1B07C7D6516yFb5N" TargetMode="External"/><Relationship Id="rId4" Type="http://schemas.openxmlformats.org/officeDocument/2006/relationships/hyperlink" Target="consultantplus://offline/ref=9AE0E0AAE16BF3AF1769FBC7D9B8E91B3EFFB0E8AA960CF2B2C235B614220B4C77BDAA694CB286B1B07C7D6516yFb8N" TargetMode="External"/><Relationship Id="rId5" Type="http://schemas.openxmlformats.org/officeDocument/2006/relationships/hyperlink" Target="consultantplus://offline/ref=9AE0E0AAE16BF3AF1769FBC7D9B8E91B3EFFB0E8AA960CF2B2C235B614220B4C77BDAA694CB286B1B07C7D6516yFb5N" TargetMode="External"/><Relationship Id="rId6" Type="http://schemas.openxmlformats.org/officeDocument/2006/relationships/hyperlink" Target="consultantplus://offline/ref=9AE0E0AAE16BF3AF1769FBC7D9B8E91B3EFFB0E8AA960CF2B2C235B614220B4C77BDAA694CB286B1B07C7F6F15yFb8N" TargetMode="External"/><Relationship Id="rId7" Type="http://schemas.openxmlformats.org/officeDocument/2006/relationships/hyperlink" Target="consultantplus://offline/ref=9AE0E0AAE16BF3AF1769FBC7D9B8E91B3EFFB0E8AA960CF2B2C235B614220B4C77BDAA694CB286B1B07C7D6513yFb8N" TargetMode="External"/><Relationship Id="rId8" Type="http://schemas.openxmlformats.org/officeDocument/2006/relationships/hyperlink" Target="consultantplus://offline/ref=9AE0E0AAE16BF3AF1769FBC7D9B8E91B3EFFB0E8AA960CF2B2C235B614220B4C77BDAA694CB286B1B07C7F6F14yFb7N" TargetMode="External"/><Relationship Id="rId9" Type="http://schemas.openxmlformats.org/officeDocument/2006/relationships/hyperlink" Target="consultantplus://offline/ref=9AE0E0AAE16BF3AF1769FBC7D9B8E91B3EFFB0E8AA960CF2B2C235B614220B4C77BDAA694CB286B1B07C7D6513yFb8N" TargetMode="External"/><Relationship Id="rId10" Type="http://schemas.openxmlformats.org/officeDocument/2006/relationships/hyperlink" Target="consultantplus://offline/ref=9AE0E0AAE16BF3AF1769FBC7D9B8E91B3EFFB0E8AA960CF2B2C235B614220B4C77BDAA694CB286B1B07C7F6F14yFb7N" TargetMode="External"/><Relationship Id="rId11" Type="http://schemas.openxmlformats.org/officeDocument/2006/relationships/hyperlink" Target="consultantplus://offline/ref=9AE0E0AAE16BF3AF1769FBC7D9B8E91B3EFFB0E8AA960CF2B2C235B614220B4C77BDAA694CB286B1B07C7D651DyFb6N" TargetMode="External"/><Relationship Id="rId12" Type="http://schemas.openxmlformats.org/officeDocument/2006/relationships/hyperlink" Target="consultantplus://offline/ref=9AE0E0AAE16BF3AF1769FBC7D9B8E91B3EFFB0E8AA960CF2B2C235B614220B4C77BDAA694CB286B1B07C7F651DyFb7N" TargetMode="External"/><Relationship Id="rId13" Type="http://schemas.openxmlformats.org/officeDocument/2006/relationships/hyperlink" Target="consultantplus://offline/ref=9AE0E0AAE16BF3AF1769FBC7D9B8E91B3EFFB0E8AA960FF4B4C036B614220B4C77BDyAbAN" TargetMode="External"/><Relationship Id="rId14" Type="http://schemas.openxmlformats.org/officeDocument/2006/relationships/hyperlink" Target="consultantplus://offline/ref=9AE0E0AAE16BF3AF1769FBC7D9B8E91B3EFFB0E8AA960FF4B4C036B614220B4C77BDAA694CB286B1B07C7D6417yFb8N" TargetMode="External"/><Relationship Id="rId15" Type="http://schemas.openxmlformats.org/officeDocument/2006/relationships/hyperlink" Target="consultantplus://offline/ref=9AE0E0AAE16BF3AF1769FBC7D9B8E91B3EFFB0E8AA960FF4B4C036B614220B4C77BDAA694CB286B1B07C7D6110yFb4N" TargetMode="External"/><Relationship Id="rId16" Type="http://schemas.openxmlformats.org/officeDocument/2006/relationships/hyperlink" Target="consultantplus://offline/ref=9AE0E0AAE16BF3AF1769FBC7D9B8E91B3EFFB0E8AA960BFEB6CE37B614220B4C77BDyAbAN" TargetMode="External"/><Relationship Id="rId17" Type="http://schemas.openxmlformats.org/officeDocument/2006/relationships/hyperlink" Target="consultantplus://offline/ref=9AE0E0AAE16BF3AF1769FBC7D9B8E91B3EFFB0E8AA960BFEB6CE37B614220B4C77BDAA694CB286B1B07C7D6717yFb7N" TargetMode="External"/><Relationship Id="rId18" Type="http://schemas.openxmlformats.org/officeDocument/2006/relationships/hyperlink" Target="consultantplus://offline/ref=9AE0E0AAE16BF3AF1769FBC7D9B8E91B3EFFB0E8AA960BFEB6CE37B614220B4C77BDAA694CB286B1B07C7D671CyFb0N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олнение и представление формы ПУ-2 в новом форма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,2,3 разделы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ожение 8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6156360" y="1197000"/>
            <a:ext cx="273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ложение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Инструкции о поряд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ения форм док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сонифицированного у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77880" y="2421000"/>
          <a:ext cx="8217000" cy="2879640"/>
        </p:xfrm>
        <a:graphic>
          <a:graphicData uri="http://schemas.openxmlformats.org/drawingml/2006/table">
            <a:tbl>
              <a:tblPr/>
              <a:tblGrid>
                <a:gridCol w="923760"/>
                <a:gridCol w="7293240"/>
              </a:tblGrid>
              <a:tr h="57636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трудового догов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ой договор на неопределенный ср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чный трудовой дого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ключения трудового догов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разделе 2 заполняется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0"/>
          <p:cNvSpPr/>
          <p:nvPr/>
        </p:nvSpPr>
        <p:spPr>
          <a:xfrm>
            <a:off x="154080" y="119700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080" y="1628640"/>
          <a:ext cx="8964360" cy="1454400"/>
        </p:xfrm>
        <a:graphic>
          <a:graphicData uri="http://schemas.openxmlformats.org/drawingml/2006/table">
            <a:tbl>
              <a:tblPr/>
              <a:tblGrid>
                <a:gridCol w="1993680"/>
                <a:gridCol w="914400"/>
                <a:gridCol w="986040"/>
                <a:gridCol w="987480"/>
                <a:gridCol w="985680"/>
                <a:gridCol w="844560"/>
                <a:gridCol w="1125720"/>
                <a:gridCol w="1126800"/>
              </a:tblGrid>
              <a:tr h="339840">
                <a:tc rowSpan="2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ff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св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  <p:sp>
        <p:nvSpPr>
          <p:cNvPr id="109" name="Прямоугольник 2"/>
          <p:cNvSpPr/>
          <p:nvPr/>
        </p:nvSpPr>
        <p:spPr>
          <a:xfrm>
            <a:off x="166680" y="350028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«Присвоение квалификационной категор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и номер соответствующего приказа (распоряжения), на основании которого застрахованному лицу присваивается соответствующая квалификационная категория должности служащего (разряд профессии рабочего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дата присвоения квалификационной категории (разря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разделе 3 заполняется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155520" y="3429000"/>
            <a:ext cx="895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по заполнению раздела 3 аналогичны требованиям по заполнению раздел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застрахованное лицо работает у работодателя по основному месту работы и на условиях внутреннего совместительства, то при увольнении с основного места работы в форме ПУ-2 заполняются разделы 1, при необходимости, 2 и (или)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менении кода согласно классификатору "Занятия" в разделе 3 заполняется граф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ведения об увольнении с работы"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шествующей должности служащего (профессии рабочего), а по новой должности служащего (профессии рабочего) - граф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ведения о приеме на работу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166680" y="1125360"/>
            <a:ext cx="756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Сведения о приеме на работу и увольнении с работы по внутреннему совмести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8240" y="1633680"/>
          <a:ext cx="8856360" cy="1655640"/>
        </p:xfrm>
        <a:graphic>
          <a:graphicData uri="http://schemas.openxmlformats.org/drawingml/2006/table">
            <a:tbl>
              <a:tblPr/>
              <a:tblGrid>
                <a:gridCol w="2060280"/>
                <a:gridCol w="1030320"/>
                <a:gridCol w="797040"/>
                <a:gridCol w="1227240"/>
                <a:gridCol w="969840"/>
                <a:gridCol w="1179720"/>
                <a:gridCol w="796680"/>
                <a:gridCol w="795240"/>
              </a:tblGrid>
              <a:tr h="476280">
                <a:tc rowSpan="2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gridSpan="3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560" y="148392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е ПУ-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период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01.01.2003 по 30.06.201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ются графы "дата приема" и (или) "дата увольнения" (с 01.01.2018 - графа "код работы по совместительству"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а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застрахованным лицам, принятым на работ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 30.06.201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форме ПУ-2 заполняются разделы (1,2,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2"/>
          <p:cNvSpPr/>
          <p:nvPr/>
        </p:nvSpPr>
        <p:spPr>
          <a:xfrm>
            <a:off x="1535040" y="3754440"/>
            <a:ext cx="172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971640" cy="863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1557360"/>
            <a:ext cx="7153200" cy="2016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асибо за внимание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81880" cy="792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новом формате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4"/>
          <p:cNvSpPr/>
          <p:nvPr/>
        </p:nvSpPr>
        <p:spPr>
          <a:xfrm>
            <a:off x="108000" y="119700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Сведения о приеме на работу и увольнении с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8000" y="1612800"/>
          <a:ext cx="8928000" cy="1278000"/>
        </p:xfrm>
        <a:graphic>
          <a:graphicData uri="http://schemas.openxmlformats.org/drawingml/2006/table">
            <a:tbl>
              <a:tblPr/>
              <a:tblGrid>
                <a:gridCol w="900000"/>
                <a:gridCol w="1019160"/>
                <a:gridCol w="876240"/>
                <a:gridCol w="2057400"/>
                <a:gridCol w="1208160"/>
                <a:gridCol w="1155600"/>
                <a:gridCol w="855720"/>
                <a:gridCol w="855720"/>
              </a:tblGrid>
              <a:tr h="412920"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0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 &lt;*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  <p:sp>
        <p:nvSpPr>
          <p:cNvPr id="55" name="TextBox 10"/>
          <p:cNvSpPr/>
          <p:nvPr/>
        </p:nvSpPr>
        <p:spPr>
          <a:xfrm>
            <a:off x="179280" y="295596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3429000"/>
          <a:ext cx="8964720" cy="1454040"/>
        </p:xfrm>
        <a:graphic>
          <a:graphicData uri="http://schemas.openxmlformats.org/drawingml/2006/table">
            <a:tbl>
              <a:tblPr/>
              <a:tblGrid>
                <a:gridCol w="1994040"/>
                <a:gridCol w="914400"/>
                <a:gridCol w="985680"/>
                <a:gridCol w="987480"/>
                <a:gridCol w="986040"/>
                <a:gridCol w="844560"/>
                <a:gridCol w="1125360"/>
                <a:gridCol w="1127160"/>
              </a:tblGrid>
              <a:tr h="339840">
                <a:tc rowSpan="2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св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  <p:sp>
        <p:nvSpPr>
          <p:cNvPr id="57" name="TextBox 13"/>
          <p:cNvSpPr/>
          <p:nvPr/>
        </p:nvSpPr>
        <p:spPr>
          <a:xfrm>
            <a:off x="108000" y="4724280"/>
            <a:ext cx="756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Сведения о приеме на работу и увольнении с работы по внутреннему совмести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5202360"/>
          <a:ext cx="8856720" cy="1655640"/>
        </p:xfrm>
        <a:graphic>
          <a:graphicData uri="http://schemas.openxmlformats.org/drawingml/2006/table">
            <a:tbl>
              <a:tblPr/>
              <a:tblGrid>
                <a:gridCol w="2060640"/>
                <a:gridCol w="1030320"/>
                <a:gridCol w="796680"/>
                <a:gridCol w="1227240"/>
                <a:gridCol w="969840"/>
                <a:gridCol w="1179720"/>
                <a:gridCol w="796680"/>
                <a:gridCol w="795600"/>
              </a:tblGrid>
              <a:tr h="476280">
                <a:tc rowSpan="2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gridSpan="3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119664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ПУ-2 заполняется на основании приказа (распоряжения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застрахованным лицам, принятым на работу и (или) уволенным с работы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новному месту работы или на условиях внешнего совместительства. При приеме на работ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полняются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дел 1 "Сведения о приеме на работу и увольнении с работы"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формы ПУ-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лее - раздел 1) и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дел 2 "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"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лее - раздел 2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застрахованным лицам, принятым на работу на условиях внутренне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вместительства и (или) уволенным с работы, заполняется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дел 3 "Сведения о приеме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боту и увольнении с работы по внутреннему совместительству"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формы ПУ-2 (далее 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здел 3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переводе (временном переводе) на работу от одного плательщика взносов к другом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полняются разделы 1 и 2 плательщиком взносов, к которому переводится (време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водится) застрахованное лиц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Форма ПУ-2 заполняется по застрахованным лицам, у которых в отчетном период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зменились данные, указанные в разделе 2 и (или) в разделе 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разделе 1 заполняется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4"/>
          <p:cNvSpPr/>
          <p:nvPr/>
        </p:nvSpPr>
        <p:spPr>
          <a:xfrm>
            <a:off x="108000" y="1197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Сведения о приеме на работу и увольнении с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000" y="1612800"/>
          <a:ext cx="8928000" cy="1278000"/>
        </p:xfrm>
        <a:graphic>
          <a:graphicData uri="http://schemas.openxmlformats.org/drawingml/2006/table">
            <a:tbl>
              <a:tblPr/>
              <a:tblGrid>
                <a:gridCol w="900000"/>
                <a:gridCol w="1019160"/>
                <a:gridCol w="876240"/>
                <a:gridCol w="2057400"/>
                <a:gridCol w="1208160"/>
                <a:gridCol w="1155600"/>
                <a:gridCol w="855720"/>
                <a:gridCol w="855720"/>
              </a:tblGrid>
              <a:tr h="412920"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ff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0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 &lt;*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1"/>
          <p:cNvSpPr/>
          <p:nvPr/>
        </p:nvSpPr>
        <p:spPr>
          <a:xfrm>
            <a:off x="108000" y="2997360"/>
            <a:ext cx="892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рафе "Сведения о приеме на работу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дата приема"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ата, указанная в приказе (распоряжении) о приеме на работу, о переводе (временном переводе) на работу от одного плательщика взносов к друг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а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дата приказа", "номер приказа"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омера и даты соответствующих приказов (распоряжений) о приеме на работу, о переводе (временном переводе) на работу от одного плательщика взносов к друг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код работы по совместительству"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сли застрахованное лицо является внешним совместителем, в графе указывается код 1, если застрахованное лицо не является внешним совместителем - с 1 июля 2019 года заполняется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разделе 1 заполняется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4"/>
          <p:cNvSpPr/>
          <p:nvPr/>
        </p:nvSpPr>
        <p:spPr>
          <a:xfrm>
            <a:off x="108000" y="1197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Сведения о приеме на работу и увольнении с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8000" y="1612800"/>
          <a:ext cx="8928000" cy="1278000"/>
        </p:xfrm>
        <a:graphic>
          <a:graphicData uri="http://schemas.openxmlformats.org/drawingml/2006/table">
            <a:tbl>
              <a:tblPr/>
              <a:tblGrid>
                <a:gridCol w="900000"/>
                <a:gridCol w="1019160"/>
                <a:gridCol w="876240"/>
                <a:gridCol w="2057400"/>
                <a:gridCol w="1208160"/>
                <a:gridCol w="1155600"/>
                <a:gridCol w="855720"/>
                <a:gridCol w="855720"/>
              </a:tblGrid>
              <a:tr h="412920"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ff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0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 &lt;*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  <p:sp>
        <p:nvSpPr>
          <p:cNvPr id="71" name="Прямоугольник 1"/>
          <p:cNvSpPr/>
          <p:nvPr/>
        </p:nvSpPr>
        <p:spPr>
          <a:xfrm>
            <a:off x="108000" y="2997360"/>
            <a:ext cx="89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рафе "Сведения об увольнении с работы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дата увольнения"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ата, указанная в приказе (распоряжении) об увольнении с работы, либо дата, предшествующая дате начала работы у другого плательщика взносов в связи с переводом (временным переводо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а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дата приказа", "номер приказа"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омера и даты соответствующих приказов (распоряжений) об увольнении с работы, об окончании периода работы при переводе (временном переводе) на работу от одного работодателя к друго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код основания увольнения"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д согласно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ложению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переводе (временном переводе) на работу от одного работодателя к другому - ко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0.0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ожение 6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395280" y="1197000"/>
            <a:ext cx="849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ОСНОВАНИЯ УВОЛЬ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вой кодекс Республики Бела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Республики Беларусь от 14 июня 2003 года «О государственной службе в Республике Белару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Декрет Президента Республики Беларусь от 26 июля 1999 г. N 29 «О     дополнительных мерах по совершенствованию трудовых отношений, укреплению трудовой и исполнительской дисципли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Декрет Президента Республики Беларусь от 15 декабря 2014 г. N 5 «Об усилении требований к руководящим кадрам и работникам организ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156360" y="1197000"/>
            <a:ext cx="273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ложение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Инструкции о поряд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ения форм док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сонифицированного у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ожение 6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50920" y="1197000"/>
          <a:ext cx="8642160" cy="1127160"/>
        </p:xfrm>
        <a:graphic>
          <a:graphicData uri="http://schemas.openxmlformats.org/drawingml/2006/table">
            <a:tbl>
              <a:tblPr/>
              <a:tblGrid>
                <a:gridCol w="863640"/>
                <a:gridCol w="1514520"/>
                <a:gridCol w="6264000"/>
              </a:tblGrid>
              <a:tr h="28224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уволь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 gridSpan="3"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рудовой 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2"/>
                        </a:rPr>
                        <a:t>кодекс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спублики Беларус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3"/>
                        </a:rPr>
                        <a:t>Статья 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шение сторон (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4"/>
                        </a:rPr>
                        <a:t>пункт 1 части второ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5"/>
                        </a:rPr>
                        <a:t>Статья 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ечение срока действия срочного трудового договора (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6"/>
                        </a:rPr>
                        <a:t>пункт 2 части второ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20" y="2349360"/>
          <a:ext cx="8642160" cy="281160"/>
        </p:xfrm>
        <a:graphic>
          <a:graphicData uri="http://schemas.openxmlformats.org/drawingml/2006/table">
            <a:tbl>
              <a:tblPr/>
              <a:tblGrid>
                <a:gridCol w="863640"/>
                <a:gridCol w="1514520"/>
                <a:gridCol w="6264000"/>
              </a:tblGrid>
              <a:tr h="281160">
                <a:tc>
                  <a:txBody>
                    <a:bodyPr lIns="39240" rIns="39240" tIns="64440" bIns="64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440" bIns="64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7"/>
                        </a:rPr>
                        <a:t>Статья 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440" bIns="64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квидация организации 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8"/>
                        </a:rPr>
                        <a:t>(пункт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0920" y="2637000"/>
          <a:ext cx="8642160" cy="282240"/>
        </p:xfrm>
        <a:graphic>
          <a:graphicData uri="http://schemas.openxmlformats.org/drawingml/2006/table">
            <a:tbl>
              <a:tblPr/>
              <a:tblGrid>
                <a:gridCol w="863640"/>
                <a:gridCol w="1514520"/>
                <a:gridCol w="6264000"/>
              </a:tblGrid>
              <a:tr h="28224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9"/>
                        </a:rPr>
                        <a:t>Статья 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численности или штата работников 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0"/>
                        </a:rPr>
                        <a:t>(пункт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50920" y="2924280"/>
          <a:ext cx="8642160" cy="282600"/>
        </p:xfrm>
        <a:graphic>
          <a:graphicData uri="http://schemas.openxmlformats.org/drawingml/2006/table">
            <a:tbl>
              <a:tblPr/>
              <a:tblGrid>
                <a:gridCol w="863640"/>
                <a:gridCol w="1512720"/>
                <a:gridCol w="6265800"/>
              </a:tblGrid>
              <a:tr h="28260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1"/>
                        </a:rPr>
                        <a:t>Статья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работника 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2"/>
                        </a:rPr>
                        <a:t>(пункт 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50920" y="3213000"/>
          <a:ext cx="8642160" cy="28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282600"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3"/>
                        </a:rPr>
                        <a:t>Закон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спублики Беларусь от 14 июня 2003 года "О государственной службе в Республике Беларусь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50920" y="3500280"/>
          <a:ext cx="8642160" cy="435240"/>
        </p:xfrm>
        <a:graphic>
          <a:graphicData uri="http://schemas.openxmlformats.org/drawingml/2006/table">
            <a:tbl>
              <a:tblPr/>
              <a:tblGrid>
                <a:gridCol w="792000"/>
                <a:gridCol w="1586160"/>
                <a:gridCol w="6264000"/>
              </a:tblGrid>
              <a:tr h="43524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4"/>
                        </a:rPr>
                        <a:t>Статья 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жение государственным служащим предельного возраста, установленного для   пребывания на государственной службе 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5"/>
                        </a:rPr>
                        <a:t>(подпункт 1.1 пункта 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50920" y="3933720"/>
          <a:ext cx="8642160" cy="4334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33440">
                <a:tc>
                  <a:txBody>
                    <a:bodyPr lIns="39240" rIns="39240" tIns="64440" bIns="64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6"/>
                        </a:rPr>
                        <a:t>Декрет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зидента Республики Беларусь от 26 июля 1999 г. N 29 "О дополнительных мерах по совершенствованию трудовых отношений, укреплению трудовой и исполнительской дисциплины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50920" y="4365720"/>
          <a:ext cx="8642160" cy="892080"/>
        </p:xfrm>
        <a:graphic>
          <a:graphicData uri="http://schemas.openxmlformats.org/drawingml/2006/table">
            <a:tbl>
              <a:tblPr/>
              <a:tblGrid>
                <a:gridCol w="792000"/>
                <a:gridCol w="1586160"/>
                <a:gridCol w="6264000"/>
              </a:tblGrid>
              <a:tr h="89208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7"/>
                        </a:rPr>
                        <a:t>Подпункт 2.10 пункта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нократное нарушение установленного законодательством порядка рассмотрения обращений граждан, в том числе индивидуальных предпринимателей, и юридических лиц, а также неправомерный отказ в рассмотрении относящихся к компетенции соответствующего государственного органа обращений граждан, в том числе индивидуальных предпринимателей, и юридических лиц </a:t>
                      </a:r>
                      <a:r>
                        <a:rPr b="0" lang="ru-RU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hlinkClick r:id="rId18"/>
                        </a:rPr>
                        <a:t>(абзац четверт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50920" y="5300640"/>
          <a:ext cx="8642160" cy="4348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34880"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екрет Президента Республики Беларусь от 15 декабря 2014 г. N 5 "Об усилении требований к руководящим кадрам и работникам организаций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50920" y="5732640"/>
          <a:ext cx="8642160" cy="587160"/>
        </p:xfrm>
        <a:graphic>
          <a:graphicData uri="http://schemas.openxmlformats.org/drawingml/2006/table">
            <a:tbl>
              <a:tblPr/>
              <a:tblGrid>
                <a:gridCol w="792000"/>
                <a:gridCol w="1586160"/>
                <a:gridCol w="6264000"/>
              </a:tblGrid>
              <a:tr h="587160"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ункт 6.2 пункта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240" rIns="39240" tIns="64800" bIns="64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бое нарушение работником трудовых обязанностей, признаваемое таковым в соответствии с Декретом Президента Республики Беларусь от 15.12.2014 N 5 и иными законодательными актами (абзац шесто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разделе 2 заполняется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90" name="TextBox 10"/>
          <p:cNvSpPr/>
          <p:nvPr/>
        </p:nvSpPr>
        <p:spPr>
          <a:xfrm>
            <a:off x="154080" y="119700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4080" y="1628640"/>
          <a:ext cx="8964360" cy="1224000"/>
        </p:xfrm>
        <a:graphic>
          <a:graphicData uri="http://schemas.openxmlformats.org/drawingml/2006/table">
            <a:tbl>
              <a:tblPr/>
              <a:tblGrid>
                <a:gridCol w="1993680"/>
                <a:gridCol w="914400"/>
                <a:gridCol w="986040"/>
                <a:gridCol w="987480"/>
                <a:gridCol w="985680"/>
                <a:gridCol w="844560"/>
                <a:gridCol w="1125720"/>
                <a:gridCol w="1126800"/>
              </a:tblGrid>
              <a:tr h="322200">
                <a:tc rowSpan="2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ffad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, перев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сво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  <p:sp>
        <p:nvSpPr>
          <p:cNvPr id="92" name="Прямоугольник 2"/>
          <p:cNvSpPr/>
          <p:nvPr/>
        </p:nvSpPr>
        <p:spPr>
          <a:xfrm>
            <a:off x="154080" y="2844720"/>
            <a:ext cx="885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од должности служащего, профессии рабочего по Общегосударственному классификатору ОКРБ 014-2017 "Занятия"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согласно классификатору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анятия"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о структурой соглас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ю 7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д согласно классификатору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анятия"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тся при изменении граф "Основание" и (или) "Присвоение квалификационной категории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181080" y="3174840"/>
            <a:ext cx="767556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РУКТУРА КОДА ДОЛЖНОСТИ СЛУЖАЩЕГО (ПРОФЕССИИ РАБОЧЕГО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6267600" y="3860640"/>
            <a:ext cx="274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ложение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 Инструкции о поряд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олнения форм докум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сонифицированного уч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9" descr=""/>
          <p:cNvPicPr/>
          <p:nvPr/>
        </p:nvPicPr>
        <p:blipFill>
          <a:blip r:embed="rId2"/>
          <a:stretch/>
        </p:blipFill>
        <p:spPr>
          <a:xfrm>
            <a:off x="395280" y="4599000"/>
            <a:ext cx="43927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разделе 2 заполняется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154080" y="119700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080" y="1628640"/>
          <a:ext cx="8964360" cy="1454400"/>
        </p:xfrm>
        <a:graphic>
          <a:graphicData uri="http://schemas.openxmlformats.org/drawingml/2006/table">
            <a:tbl>
              <a:tblPr/>
              <a:tblGrid>
                <a:gridCol w="1993680"/>
                <a:gridCol w="914400"/>
                <a:gridCol w="986040"/>
                <a:gridCol w="987480"/>
                <a:gridCol w="985680"/>
                <a:gridCol w="844560"/>
                <a:gridCol w="1125720"/>
                <a:gridCol w="1126800"/>
              </a:tblGrid>
              <a:tr h="339840">
                <a:tc rowSpan="2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ff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св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2"/>
          <p:cNvSpPr/>
          <p:nvPr/>
        </p:nvSpPr>
        <p:spPr>
          <a:xfrm>
            <a:off x="3240" y="3141720"/>
            <a:ext cx="9158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"Основание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ата приказа", "номер приказа"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а и номер приказа (распоряжения),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и которого застрахованное лицо осуществляет свою трудовую деятельност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ой должности служащего, профессии рабоч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ата приема, перевода"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ответствующая дата приема (перевода), с кото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 осуществление трудовой деятельности застрахованного лица в определ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 служащего (профессии рабоче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од вида трудового договора"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соглас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ю 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43:58Z</dcterms:created>
  <dc:creator>Michael Kouzmin</dc:creator>
  <dc:description/>
  <dc:language>en-US</dc:language>
  <cp:lastModifiedBy>Ложникова Галина Анатольевна</cp:lastModifiedBy>
  <cp:lastPrinted>2013-12-16T12:23:37Z</cp:lastPrinted>
  <dcterms:modified xsi:type="dcterms:W3CDTF">2019-06-05T05:57:57Z</dcterms:modified>
  <cp:revision>415</cp:revision>
  <dc:subject/>
  <dc:title>Слайд 1</dc:title>
</cp:coreProperties>
</file>