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00850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04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52360" y="-360"/>
            <a:ext cx="29466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2040" y="739800"/>
            <a:ext cx="493704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689000"/>
            <a:ext cx="544212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52360" y="9377280"/>
            <a:ext cx="294660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3F0BD-C5C2-481F-B31A-F8B2DC6554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52720" y="9377280"/>
            <a:ext cx="29466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4CDEE-27F5-4873-AD89-BE639BA816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320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78960" y="4689000"/>
            <a:ext cx="5442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049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8"/>
          <p:cNvSpPr/>
          <p:nvPr/>
        </p:nvSpPr>
        <p:spPr>
          <a:xfrm>
            <a:off x="457200" y="670572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10"/>
          <p:cNvSpPr/>
          <p:nvPr/>
        </p:nvSpPr>
        <p:spPr>
          <a:xfrm>
            <a:off x="468360" y="11430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02920" y="336600"/>
            <a:ext cx="7481880" cy="574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Фонд социальной защиты населения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31720" y="1197000"/>
            <a:ext cx="8229600" cy="50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ы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ения сведений о приеме и увольнении формы ПУ-2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я с отчетного пери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квартал 2019 г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531720" y="260280"/>
            <a:ext cx="75564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Прямоугольник 1"/>
          <p:cNvSpPr/>
          <p:nvPr/>
        </p:nvSpPr>
        <p:spPr>
          <a:xfrm>
            <a:off x="343080" y="209520"/>
            <a:ext cx="8724600" cy="39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1.07.2019 застрахованное лицо принято на работу согласно приказу от 01.07.2019 № 3-к на должность бухгалтер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3.08.2019 согласно приказу от 13.08.2019 № 5-к принято на условиях внутреннего совместительства на должность уборщика помещений (служебных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3.09.2019 уволено с основного места работы и с работы по совместительству по соглашению сторон согласно приказу от 12.09.2019 № 7-к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4.09.2019 принято на работу согласно приказу от  14.09.2019 № 8-к на условиях внешнего совместительства на должность, по которой застрахованное лицо работало на условиях внутреннего совместительст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аздел 1. Сведения о приеме на работу и увольнении с раб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2"/>
          <p:cNvSpPr/>
          <p:nvPr/>
        </p:nvSpPr>
        <p:spPr>
          <a:xfrm>
            <a:off x="466560" y="209520"/>
            <a:ext cx="16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мер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343080" y="4029120"/>
          <a:ext cx="8543880" cy="1714320"/>
        </p:xfrm>
        <a:graphic>
          <a:graphicData uri="http://schemas.openxmlformats.org/drawingml/2006/table">
            <a:tbl>
              <a:tblPr/>
              <a:tblGrid>
                <a:gridCol w="1103040"/>
                <a:gridCol w="1014480"/>
                <a:gridCol w="630360"/>
                <a:gridCol w="1638360"/>
                <a:gridCol w="1133280"/>
                <a:gridCol w="1133640"/>
                <a:gridCol w="1135080"/>
                <a:gridCol w="755640"/>
              </a:tblGrid>
              <a:tr h="285840"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ведения о приеме на рабо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ведения об увольнении с рабо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7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ата приема на рабо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прика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ка-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работы по совместительству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увольнения с рабо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основания увольнения с рабо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прика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ка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285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1.07.20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.07.20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09.20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09.20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-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285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.09.20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09.20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-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1"/>
          <p:cNvSpPr/>
          <p:nvPr/>
        </p:nvSpPr>
        <p:spPr>
          <a:xfrm>
            <a:off x="343080" y="209520"/>
            <a:ext cx="8724600" cy="41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1.07.2019 застрахованное лицо принято на работу согласно приказу от 01.07.2019 № 3-к на должность бухгалтер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3.08.2019 согласно приказу от 13.08.2019 № 5-к принято на условиях внутреннего совместительства на должность уборщика помещений (служебных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3.09.2019 уволено с основного места работы и с работы по совместительству по соглашению сторон согласно приказу от 12.09.2019 № 7-к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4.09.2019 принято на работу согласно приказу от  14.09.2019 № 8-к на условиях внешнего совместительства на должность, по которой застрахованное лицо работало на условиях внутреннего совместительст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аздел 2. Сведения о наименовании профессии, должности, указанные в приказе (распоряжении) работодателя о приеме на работу, переводе на другую постоянную работу на основании штатного распис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2"/>
          <p:cNvSpPr/>
          <p:nvPr/>
        </p:nvSpPr>
        <p:spPr>
          <a:xfrm>
            <a:off x="466560" y="209520"/>
            <a:ext cx="16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мер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466560" y="4425840"/>
          <a:ext cx="8134560" cy="2109960"/>
        </p:xfrm>
        <a:graphic>
          <a:graphicData uri="http://schemas.openxmlformats.org/drawingml/2006/table">
            <a:tbl>
              <a:tblPr/>
              <a:tblGrid>
                <a:gridCol w="1535400"/>
                <a:gridCol w="1003320"/>
                <a:gridCol w="896760"/>
                <a:gridCol w="1004760"/>
                <a:gridCol w="1003320"/>
                <a:gridCol w="897120"/>
                <a:gridCol w="896760"/>
                <a:gridCol w="897120"/>
              </a:tblGrid>
              <a:tr h="36540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д должности служащего, профессии рабочего по Общегосу-дарственному классификатору ОКРБ 014-2017 «Занятия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своение квалификационной категор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43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прика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ка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ема, перев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вида трудового догово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прика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ка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сво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2102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11-003-02-3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.07.20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.07.20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2102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112-001-01-1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09.20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-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09.20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1"/>
          <p:cNvSpPr/>
          <p:nvPr/>
        </p:nvSpPr>
        <p:spPr>
          <a:xfrm>
            <a:off x="343080" y="209520"/>
            <a:ext cx="872460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1.07.2019 застрахованное лицо принято на работу согласно приказу от 01.07.2019 № 3-к на должность бухгалтер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3.08.2019 согласно приказу от 13.08.2019 № 5-к принято на условиях внутреннего совместительства на должность уборщика помещений (служебных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3.09.2019 уволено с основного места работы и с работы по совместительству по соглашению сторон согласно приказу от 12.09.2019 № 7-к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4.09.2019 принято на работу согласно приказу от  14.09.2019 № 8-к на условиях внешнего совместительства на должность, по которой застрахованное лицо работало на условиях внутреннего совместительст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аздел 3. Сведения о приеме на работу и увольнении с работы по внутреннему совместительст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2"/>
          <p:cNvSpPr/>
          <p:nvPr/>
        </p:nvSpPr>
        <p:spPr>
          <a:xfrm>
            <a:off x="466560" y="209520"/>
            <a:ext cx="16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мер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343080" y="4149720"/>
          <a:ext cx="8543880" cy="2193840"/>
        </p:xfrm>
        <a:graphic>
          <a:graphicData uri="http://schemas.openxmlformats.org/drawingml/2006/table">
            <a:tbl>
              <a:tblPr/>
              <a:tblGrid>
                <a:gridCol w="1755720"/>
                <a:gridCol w="1069920"/>
                <a:gridCol w="1069920"/>
                <a:gridCol w="1069920"/>
                <a:gridCol w="1071720"/>
                <a:gridCol w="955440"/>
                <a:gridCol w="955800"/>
                <a:gridCol w="595440"/>
              </a:tblGrid>
              <a:tr h="18288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д должности служащего, профессии рабочего по Общегосу-дарственному классификатору ОКРБ 014-2017 «Занятия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ведения о приеме на рабо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ведения об увольнении с рабо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приема на рабо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прика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ка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увольнения с рабо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основания увольнения с рабо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прика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ка-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5504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112-001-01-1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08.20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08.20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-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09.20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09.20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-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</a:tbl>
          </a:graphicData>
        </a:graphic>
      </p:graphicFrame>
      <p:sp>
        <p:nvSpPr>
          <p:cNvPr id="89" name="Rectangle 1"/>
          <p:cNvSpPr/>
          <p:nvPr/>
        </p:nvSpPr>
        <p:spPr>
          <a:xfrm>
            <a:off x="1523880" y="31035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1"/>
          <p:cNvSpPr/>
          <p:nvPr/>
        </p:nvSpPr>
        <p:spPr>
          <a:xfrm>
            <a:off x="343080" y="209520"/>
            <a:ext cx="8724600" cy="39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5.07.2019 застрахованное лицо принято на работу согласно приказу от 05.07.2019 № 5-к на должность бухгалтера второй квалификационной категори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5.07.2019 согласно приказу от 15.07.2019 № 7-к присвоена третья квалификационная категори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9.08.019 согласно приказу от 16.08.2019 № 9-к переведено на должность главного бухгалтер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8.09.2019 согласно приказу от 17.09.2019 № 10-к по соглашению сторон уволено с работ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форме ПУ-2 заполняются 1 и 2 разделы, раздел 3 не заполняет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аздел 1. Сведения о приеме на работу и увольнении с раб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2"/>
          <p:cNvSpPr/>
          <p:nvPr/>
        </p:nvSpPr>
        <p:spPr>
          <a:xfrm>
            <a:off x="466560" y="209520"/>
            <a:ext cx="16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мер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43080" y="3973680"/>
          <a:ext cx="8410320" cy="2055600"/>
        </p:xfrm>
        <a:graphic>
          <a:graphicData uri="http://schemas.openxmlformats.org/drawingml/2006/table">
            <a:tbl>
              <a:tblPr/>
              <a:tblGrid>
                <a:gridCol w="963360"/>
                <a:gridCol w="997200"/>
                <a:gridCol w="744480"/>
                <a:gridCol w="1133280"/>
                <a:gridCol w="1595520"/>
                <a:gridCol w="1116000"/>
                <a:gridCol w="1116000"/>
                <a:gridCol w="744480"/>
              </a:tblGrid>
              <a:tr h="342720"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ведения о приеме на рабо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ведения об увольнении с рабо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0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ата приема на рабо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прика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ка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работы по совместительству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увольнения с рабо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основания увольнения с рабо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прика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ка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342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5.07.20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.07.20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-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09.20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09.20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-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1"/>
          <p:cNvSpPr/>
          <p:nvPr/>
        </p:nvSpPr>
        <p:spPr>
          <a:xfrm>
            <a:off x="343080" y="209520"/>
            <a:ext cx="8724600" cy="40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5.07.2019 застрахованное лицо принято на работу согласно приказу от 05.07.2019 № 5-к на должность бухгалтера второй квалификационной категори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5.07.2019 согласно приказу от 15.07.2019 № 7-к присвоена третья квалификационная категори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9.08.019 согласно приказу от 16.08.2019 № 9-к переведено на должность главного бухгалтер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8.09.2019 согласно приказу от 17.09.2019 № 10-к по соглашению сторон уволено с работ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форме ПУ-2 заполняются 1 и 2 разделы, раздел 3 не заполняет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Раздел 2. Сведения о наименовании профессии, должности, указанные в приказе (распоряжении) работодателя о приеме на работу, переводе на другую постоянную работу на основании штатного распис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2"/>
          <p:cNvSpPr/>
          <p:nvPr/>
        </p:nvSpPr>
        <p:spPr>
          <a:xfrm>
            <a:off x="466560" y="209520"/>
            <a:ext cx="16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мер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43080" y="4334040"/>
          <a:ext cx="8296200" cy="2373120"/>
        </p:xfrm>
        <a:graphic>
          <a:graphicData uri="http://schemas.openxmlformats.org/drawingml/2006/table">
            <a:tbl>
              <a:tblPr/>
              <a:tblGrid>
                <a:gridCol w="1574640"/>
                <a:gridCol w="960480"/>
                <a:gridCol w="960480"/>
                <a:gridCol w="960480"/>
                <a:gridCol w="958680"/>
                <a:gridCol w="960480"/>
                <a:gridCol w="960480"/>
                <a:gridCol w="960480"/>
              </a:tblGrid>
              <a:tr h="33516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д должности служащего, профессии рабочего по Общегосу-дарственному классификатору ОКРБ 014-2017 «Занятия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нова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своение квалификационной категор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06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приказ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каз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ема, перев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вида трудового договор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приказ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каз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сво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167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11-003-02-2-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.07.20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-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.07.20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11-003-02-3-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07.20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-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07.20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1-002-02-0-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08.20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-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08.20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</a:tbl>
          </a:graphicData>
        </a:graphic>
      </p:graphicFrame>
      <p:sp>
        <p:nvSpPr>
          <p:cNvPr id="96" name="Rectangle 1"/>
          <p:cNvSpPr/>
          <p:nvPr/>
        </p:nvSpPr>
        <p:spPr>
          <a:xfrm>
            <a:off x="1523880" y="2676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1"/>
          <p:cNvSpPr/>
          <p:nvPr/>
        </p:nvSpPr>
        <p:spPr>
          <a:xfrm>
            <a:off x="343080" y="209520"/>
            <a:ext cx="87246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страхованное лицо принято на работу 14.03.2019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1.07.2019 согласно приказу от 01.07.2019 № 15-к переведено на должность бухгалтера второй квалификационной категори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1.09.2019 согласно приказу от 01.09.2019 № 26-к переведено на должность главного бухгалте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форме ПУ-2 заполняется раздел 2, разделы 1 и 3 не заполняю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аздел 2. Сведения о наименовании профессии, должности, указанные в приказе (распоряжении) работодателя о приеме на работу, переводе на другую постоянную работу на основании штатного распис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2"/>
          <p:cNvSpPr/>
          <p:nvPr/>
        </p:nvSpPr>
        <p:spPr>
          <a:xfrm>
            <a:off x="466560" y="209520"/>
            <a:ext cx="16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мер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"/>
          <p:cNvSpPr/>
          <p:nvPr/>
        </p:nvSpPr>
        <p:spPr>
          <a:xfrm>
            <a:off x="1523880" y="2676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66560" y="3556080"/>
          <a:ext cx="8134560" cy="2589120"/>
        </p:xfrm>
        <a:graphic>
          <a:graphicData uri="http://schemas.openxmlformats.org/drawingml/2006/table">
            <a:tbl>
              <a:tblPr/>
              <a:tblGrid>
                <a:gridCol w="1544760"/>
                <a:gridCol w="941400"/>
                <a:gridCol w="941400"/>
                <a:gridCol w="941400"/>
                <a:gridCol w="941400"/>
                <a:gridCol w="941400"/>
                <a:gridCol w="941400"/>
                <a:gridCol w="941400"/>
              </a:tblGrid>
              <a:tr h="36540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д должности служащего, профессии рабочего по Общегосу-дарственному классификатору ОКРБ 014-2017 «Занятия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своение квалификационной категор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43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прика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-ка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ема, перев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вида трудового догово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прика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-ка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сво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11-003-02-2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.07.20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-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.07.20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2102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1-002-02-0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.09.20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-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.09.20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Прямоугольник 1"/>
          <p:cNvSpPr/>
          <p:nvPr/>
        </p:nvSpPr>
        <p:spPr>
          <a:xfrm>
            <a:off x="343080" y="209520"/>
            <a:ext cx="8724600" cy="39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страхованное лицо принято на работу 01.06.2019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.07.2019 согласно приказу от 10.07.2019 № 18-к присвоена вторая квалификационная категория по должности бухгалтер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5.07.2019 согласно приказу от 25.07.2019 № 25-к переведено на должность главного бухгалтер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2.08.2019 согласно приказу от 12.08.2019 № 25-к принято на работу на условиях внутреннего совместительства на должность уборщика помещений (служебных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7.09.2019 уволено по соглашению сторон с основного места работы и с работы по совместительству согласно приказу от 26.09.2019 № 30-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аздел 1. Сведения о приеме на работу и увольнении с раб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2"/>
          <p:cNvSpPr/>
          <p:nvPr/>
        </p:nvSpPr>
        <p:spPr>
          <a:xfrm>
            <a:off x="343080" y="209520"/>
            <a:ext cx="18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мер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38120" y="4449600"/>
          <a:ext cx="8400960" cy="1625760"/>
        </p:xfrm>
        <a:graphic>
          <a:graphicData uri="http://schemas.openxmlformats.org/drawingml/2006/table">
            <a:tbl>
              <a:tblPr/>
              <a:tblGrid>
                <a:gridCol w="1085760"/>
                <a:gridCol w="995400"/>
                <a:gridCol w="620640"/>
                <a:gridCol w="1609920"/>
                <a:gridCol w="1116000"/>
                <a:gridCol w="1114560"/>
                <a:gridCol w="1114200"/>
                <a:gridCol w="744480"/>
              </a:tblGrid>
              <a:tr h="182880"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ведения о приеме на рабо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ведения об увольнении с рабо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52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ата приема на рабо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прика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ка-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работы по совместительству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увольнения с рабо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основания увольнения с рабо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прика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ка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390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.09.20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.09.20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-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1"/>
          <p:cNvSpPr/>
          <p:nvPr/>
        </p:nvSpPr>
        <p:spPr>
          <a:xfrm>
            <a:off x="343080" y="209520"/>
            <a:ext cx="8724600" cy="46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страхованное лицо принято на работу 01.06.2019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.07.2019 согласно приказу от 10.07.2019 № 18-к присвоена вторая квалификационная категория по должности бухгалтер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5.07.2019 согласно приказу от 25.07.2019 № 25-к переведено на должность главного бухгалтер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2.08.2019 согласно приказу от 12.08.2019 № 25-к принято на работу на условиях внутреннего совместительства на должность уборщика помещений (служебных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7.09.2019 уволено по соглашению сторон с основного места работы и с работы по совместительству согласно приказу от 26.09.2019 № 30-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Раздел 2. Сведения о наименовании профессии, должности, указанные в приказе (распоряжении) работодателя о приеме на работу, переводе на другую постоянную работу на основании штатного распис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2"/>
          <p:cNvSpPr/>
          <p:nvPr/>
        </p:nvSpPr>
        <p:spPr>
          <a:xfrm>
            <a:off x="343080" y="209520"/>
            <a:ext cx="18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мер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343080" y="4572000"/>
          <a:ext cx="8581680" cy="1762200"/>
        </p:xfrm>
        <a:graphic>
          <a:graphicData uri="http://schemas.openxmlformats.org/drawingml/2006/table">
            <a:tbl>
              <a:tblPr/>
              <a:tblGrid>
                <a:gridCol w="1618920"/>
                <a:gridCol w="1059120"/>
                <a:gridCol w="946080"/>
                <a:gridCol w="1060560"/>
                <a:gridCol w="1058760"/>
                <a:gridCol w="946080"/>
                <a:gridCol w="730440"/>
                <a:gridCol w="1161720"/>
              </a:tblGrid>
              <a:tr h="36540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д должности служащего, профессии рабочего по Общегосу-дарственному классификатору ОКРБ 014-2017 «Занятия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своение квалификационной категор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прика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ка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ема, перев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вида трудового догово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прика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ка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сво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11-003-02-2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7.20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-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7.20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2102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1-002-02-0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.07.20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-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.07.20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1"/>
          <p:cNvSpPr/>
          <p:nvPr/>
        </p:nvSpPr>
        <p:spPr>
          <a:xfrm>
            <a:off x="343080" y="209520"/>
            <a:ext cx="872460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страхованное лицо принято на работу 01.06.2019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.07.2019 согласно приказу от 10.07.2019 № 18-к присвоена вторая квалификационная категория по должности бухгалтер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5.07.2019 согласно приказу от 25.07.2019 № 25-к переведено на должность главного бухгалтер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2.08.2019 согласно приказу от 12.08.2019 № 25-к принято на работу на условиях внутреннего совместительства на должность уборщика помещений (служебных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7.09.2019 уволено по соглашению сторон с основного места работы и с работы по совместительству согласно приказу от 26.09.2019 № 30-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Раздел 3. Сведения о приеме на работу и увольнении с работы по внутреннему совместительств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"/>
          <p:cNvSpPr/>
          <p:nvPr/>
        </p:nvSpPr>
        <p:spPr>
          <a:xfrm>
            <a:off x="343080" y="209520"/>
            <a:ext cx="18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мер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28760" y="4457880"/>
          <a:ext cx="8553240" cy="1643040"/>
        </p:xfrm>
        <a:graphic>
          <a:graphicData uri="http://schemas.openxmlformats.org/drawingml/2006/table">
            <a:tbl>
              <a:tblPr/>
              <a:tblGrid>
                <a:gridCol w="1757160"/>
                <a:gridCol w="1071720"/>
                <a:gridCol w="1071360"/>
                <a:gridCol w="1071720"/>
                <a:gridCol w="1071360"/>
                <a:gridCol w="797040"/>
                <a:gridCol w="1117800"/>
                <a:gridCol w="595080"/>
              </a:tblGrid>
              <a:tr h="23472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д должности служащего, профессии рабочего по Общегосу-дарственному классификатору ОКРБ 014-2017 «Занятия»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ведения о приеме на работ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ведения об увольнении с работ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приема на работ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приказ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каз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увольнения с работ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основания увольнения с работ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приказ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ка-з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471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112-001-01-1-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08.20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08.20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-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.09.20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.09.20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-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</a:tbl>
          </a:graphicData>
        </a:graphic>
      </p:graphicFrame>
      <p:sp>
        <p:nvSpPr>
          <p:cNvPr id="110" name="Rectangle 1"/>
          <p:cNvSpPr/>
          <p:nvPr/>
        </p:nvSpPr>
        <p:spPr>
          <a:xfrm>
            <a:off x="1523880" y="31035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Прямоугольник 1"/>
          <p:cNvSpPr/>
          <p:nvPr/>
        </p:nvSpPr>
        <p:spPr>
          <a:xfrm>
            <a:off x="343080" y="209520"/>
            <a:ext cx="87246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страхованное лицо работает у работодателя с 25.05.2019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.07.2019 принято на работу на условиях  внутреннего совместительства согласно приказу от 10.07.2019 № 8-к на должность уборщика помещений (служебных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форме  ПУ-2 заполняется раздел 3, разделы 1 и 2 не заполняютс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аздел 3. Сведения о приеме на работу и увольнении с работы по внутреннему совместительств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2"/>
          <p:cNvSpPr/>
          <p:nvPr/>
        </p:nvSpPr>
        <p:spPr>
          <a:xfrm>
            <a:off x="466560" y="209520"/>
            <a:ext cx="16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мер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66560" y="3998880"/>
          <a:ext cx="8353440" cy="1930320"/>
        </p:xfrm>
        <a:graphic>
          <a:graphicData uri="http://schemas.openxmlformats.org/drawingml/2006/table">
            <a:tbl>
              <a:tblPr/>
              <a:tblGrid>
                <a:gridCol w="1716120"/>
                <a:gridCol w="1046160"/>
                <a:gridCol w="1047960"/>
                <a:gridCol w="1046160"/>
                <a:gridCol w="1046160"/>
                <a:gridCol w="934920"/>
                <a:gridCol w="934920"/>
                <a:gridCol w="581040"/>
              </a:tblGrid>
              <a:tr h="18288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д должности служащего, профессии рабочего по Общегосу-дарственному классификатору ОКРБ 014-2017 «Занятия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ведения о приеме на рабо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ведения об увольнении с рабо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43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приема на рабо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прика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ка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увольнения с рабо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основания увольнения с рабо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прика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ка-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112-001-01-1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7.20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7.20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-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1403280" y="336600"/>
            <a:ext cx="7245360" cy="574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Форма ПУ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1"/>
          <a:stretch/>
        </p:blipFill>
        <p:spPr>
          <a:xfrm>
            <a:off x="531720" y="260280"/>
            <a:ext cx="755640" cy="69552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3"/>
          <p:cNvSpPr/>
          <p:nvPr/>
        </p:nvSpPr>
        <p:spPr>
          <a:xfrm>
            <a:off x="392040" y="1174680"/>
            <a:ext cx="825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392040" y="1174680"/>
            <a:ext cx="837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мер 1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Застрахованное лицо принято на работу 15.05.2016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5.07.2019 согласно приказу № 5-к от 04.07.2019 уволено с работы по соглашению сторон в соответствии с пунктом 1 части второй статьи 35 Трудового кодекса Республики Белару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 как с 01.07.2019 до даты увольнения не было изменений в части реквизитов разделов 2 и 3, в форме ПУ-2 следует заполнить 1 разд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аздел 1. Сведения о приеме на работу и увольнении с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554040" y="3368520"/>
          <a:ext cx="8118360" cy="1870200"/>
        </p:xfrm>
        <a:graphic>
          <a:graphicData uri="http://schemas.openxmlformats.org/drawingml/2006/table">
            <a:tbl>
              <a:tblPr/>
              <a:tblGrid>
                <a:gridCol w="930240"/>
                <a:gridCol w="838080"/>
                <a:gridCol w="838440"/>
                <a:gridCol w="1558800"/>
                <a:gridCol w="1077840"/>
                <a:gridCol w="1078200"/>
                <a:gridCol w="1077840"/>
                <a:gridCol w="718920"/>
              </a:tblGrid>
              <a:tr h="311400"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ведения о приеме на рабо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ведения об увольнении с рабо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47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ата приема на рабо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прика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ка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работы по совместительству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увольнения с рабо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основания увольнения с рабо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прика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ка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311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.07.20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4.07.20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-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</a:tbl>
          </a:graphicData>
        </a:graphic>
      </p:graphicFrame>
      <p:sp>
        <p:nvSpPr>
          <p:cNvPr id="56" name="Rectangle 8"/>
          <p:cNvSpPr/>
          <p:nvPr/>
        </p:nvSpPr>
        <p:spPr>
          <a:xfrm>
            <a:off x="6005520" y="30412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1523880" y="3362400"/>
            <a:ext cx="301788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1" descr=""/>
          <p:cNvPicPr/>
          <p:nvPr/>
        </p:nvPicPr>
        <p:blipFill>
          <a:blip r:embed="rId2"/>
          <a:stretch/>
        </p:blipFill>
        <p:spPr>
          <a:xfrm>
            <a:off x="531720" y="5324400"/>
            <a:ext cx="831708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Прямоугольник 1"/>
          <p:cNvSpPr/>
          <p:nvPr/>
        </p:nvSpPr>
        <p:spPr>
          <a:xfrm>
            <a:off x="343080" y="209520"/>
            <a:ext cx="8724600" cy="33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страхованное лицо, работавшее у работодателя по основному месту работы и на условиях внутреннего совместительства с 04.04.2019, уволено с работы совместительству 02.07.2019 согласно приказу от 01.07.2019 № 13-к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форме  ПУ-2 заполняется раздел 3, разделы 1 и 2 не заполняю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аздел 3. Сведения о приеме на работу и увольнении с работы по внутреннему совместительств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2"/>
          <p:cNvSpPr/>
          <p:nvPr/>
        </p:nvSpPr>
        <p:spPr>
          <a:xfrm>
            <a:off x="466560" y="209520"/>
            <a:ext cx="16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мер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66560" y="4057560"/>
          <a:ext cx="8296560" cy="1897200"/>
        </p:xfrm>
        <a:graphic>
          <a:graphicData uri="http://schemas.openxmlformats.org/drawingml/2006/table">
            <a:tbl>
              <a:tblPr/>
              <a:tblGrid>
                <a:gridCol w="1866960"/>
                <a:gridCol w="1028880"/>
                <a:gridCol w="887400"/>
                <a:gridCol w="826920"/>
                <a:gridCol w="1028880"/>
                <a:gridCol w="1150920"/>
                <a:gridCol w="928800"/>
                <a:gridCol w="577800"/>
              </a:tblGrid>
              <a:tr h="18252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д должности служащего, профессии рабочего по Общегосу-дарственному классификатору ОКРБ 014-2017 «Занятия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ведения о приеме на рабо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ведения об увольнении с рабо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приема на рабо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прика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ка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увольнения с рабо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основания увольнения с рабо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прика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ка-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343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112-001-01-0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.07.20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.07.20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-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Прямоугольник 1"/>
          <p:cNvSpPr/>
          <p:nvPr/>
        </p:nvSpPr>
        <p:spPr>
          <a:xfrm>
            <a:off x="343080" y="209520"/>
            <a:ext cx="8724600" cy="37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страхованное лицо работает у работодателя на условиях внешнего совместительства с 10.05.2019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1.07.2019 согласно приказу от 28.06.2019 № 115-к увольняется с работ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2.07.2019 согласно приказу от 02.07.2019 № 116-к принимается на работу к тому же работодателю на должность бухгалтера второй квалификационной категор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форме ПУ-2 следует заполнить разделы 1 и 2, раздел 3 не заполняе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аздел 1. Сведения о приеме на работу и увольнении с раб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2"/>
          <p:cNvSpPr/>
          <p:nvPr/>
        </p:nvSpPr>
        <p:spPr>
          <a:xfrm>
            <a:off x="343080" y="209520"/>
            <a:ext cx="18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мер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00120" y="4124160"/>
          <a:ext cx="8163000" cy="2105280"/>
        </p:xfrm>
        <a:graphic>
          <a:graphicData uri="http://schemas.openxmlformats.org/drawingml/2006/table">
            <a:tbl>
              <a:tblPr/>
              <a:tblGrid>
                <a:gridCol w="1054080"/>
                <a:gridCol w="968400"/>
                <a:gridCol w="603360"/>
                <a:gridCol w="1563480"/>
                <a:gridCol w="1084320"/>
                <a:gridCol w="1082520"/>
                <a:gridCol w="1084320"/>
                <a:gridCol w="722520"/>
              </a:tblGrid>
              <a:tr h="263520"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ведения о приеме на работ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ведения об увольнении с работ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52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ата приема на рабо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прика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ка-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работы по совместительству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увольнения с рабо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основания увольнения с рабо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прика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ка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263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.07.20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06.20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-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525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2.07.20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.07.20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6-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Прямоугольник 1"/>
          <p:cNvSpPr/>
          <p:nvPr/>
        </p:nvSpPr>
        <p:spPr>
          <a:xfrm>
            <a:off x="343080" y="209520"/>
            <a:ext cx="8724600" cy="43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страхованное лицо работает у работодателя на условиях внешнего совместительства с 10.05.2019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1.07.2019 согласно приказу от 28.06.2019 № 115-к увольняется с работ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2.07.2019 согласно приказу от 02.07.2019 № 116-к принимается на работу к тому же работодателю на должность бухгалтера второй квалификационной категор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форме ПУ-2 следует заполнить разделы 1 и 2, раздел 3 не заполняе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аздел 2. Сведения о наименовании профессии, должности, указанные в приказе (распоряжении) работодателя о приеме на работу, переводе на другую постоянную работу на основании штатного распис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2"/>
          <p:cNvSpPr/>
          <p:nvPr/>
        </p:nvSpPr>
        <p:spPr>
          <a:xfrm>
            <a:off x="343080" y="209520"/>
            <a:ext cx="18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мер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76280" y="4579920"/>
          <a:ext cx="8191440" cy="2154240"/>
        </p:xfrm>
        <a:graphic>
          <a:graphicData uri="http://schemas.openxmlformats.org/drawingml/2006/table">
            <a:tbl>
              <a:tblPr/>
              <a:tblGrid>
                <a:gridCol w="1546200"/>
                <a:gridCol w="1011240"/>
                <a:gridCol w="901800"/>
                <a:gridCol w="1011240"/>
                <a:gridCol w="1011240"/>
                <a:gridCol w="903240"/>
                <a:gridCol w="903240"/>
                <a:gridCol w="903240"/>
              </a:tblGrid>
              <a:tr h="36540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д должности служащего, профессии рабочего по Общегосу-дарственному классификатору ОКРБ 014-2017 «Занятия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своение квалификационной категор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43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прика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ка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ема, перев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вида трудового догово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прика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ка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сво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11-003-02-2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.07.20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6-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.07.20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"/>
          <p:cNvSpPr/>
          <p:nvPr/>
        </p:nvSpPr>
        <p:spPr>
          <a:xfrm>
            <a:off x="343080" y="209520"/>
            <a:ext cx="83912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страхованное лицо принято на работу 01.01.2017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5.07.2019 согласно приказу от 05.07.2019 № 2-к переведено на должность бухгалтер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5.07.2019 присвоена вторая квалификационная категория согласно приказу от 05.07.2019 № 3-к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5.09.2019 уволено с работы по соглашению сторон согласно приказу от 24.09.2019 № 7-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форме ПУ-2 за 3 квартал 2019 года следует заполнить разделы 1 и 2, раздел 3 не заполняе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дел.1 Сведения о приеме на работу и увольнении с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2"/>
          <p:cNvSpPr/>
          <p:nvPr/>
        </p:nvSpPr>
        <p:spPr>
          <a:xfrm>
            <a:off x="897840" y="29376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мер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343080" y="3917880"/>
          <a:ext cx="8391240" cy="1654200"/>
        </p:xfrm>
        <a:graphic>
          <a:graphicData uri="http://schemas.openxmlformats.org/drawingml/2006/table">
            <a:tbl>
              <a:tblPr/>
              <a:tblGrid>
                <a:gridCol w="961920"/>
                <a:gridCol w="866880"/>
                <a:gridCol w="866520"/>
                <a:gridCol w="1590840"/>
                <a:gridCol w="1133280"/>
                <a:gridCol w="1114560"/>
                <a:gridCol w="1114560"/>
                <a:gridCol w="742680"/>
              </a:tblGrid>
              <a:tr h="330120"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ведения о приеме на рабо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ведения об увольнении с рабо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93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ата приема на работ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прика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ка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работы по совместительству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увольнения с рабо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основания увольнения с рабо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прика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ка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330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.09.20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.09.20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-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1"/>
          <p:cNvSpPr/>
          <p:nvPr/>
        </p:nvSpPr>
        <p:spPr>
          <a:xfrm>
            <a:off x="343080" y="209520"/>
            <a:ext cx="8391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страхованное лицо принято на работу 01.01.2017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5.07.2019 согласно приказу от 05.07.2019 № 2-к переведено на должность бухгалтер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5.07.2019 присвоена вторая квалификационная категория согласно приказу от 05.07.2019 № 3-к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5.09.2019 уволено с работы по соглашению сторон согласно приказу от 24.09.2019 № 7-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форме ПУ-2 за 3 квартал 2019 года следует заполнить разделы 1 и 2, раздел 3 не заполняе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аздел.2. Сведения о наименовании профессии, должности, указанные в приказе (распоряжении) работодателя о приеме на работу, переводе на другую постоянную работу на основании штатного распис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2"/>
          <p:cNvSpPr/>
          <p:nvPr/>
        </p:nvSpPr>
        <p:spPr>
          <a:xfrm>
            <a:off x="899640" y="293760"/>
            <a:ext cx="29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мер 2  продолж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28680" y="4734000"/>
          <a:ext cx="8315280" cy="1504800"/>
        </p:xfrm>
        <a:graphic>
          <a:graphicData uri="http://schemas.openxmlformats.org/drawingml/2006/table">
            <a:tbl>
              <a:tblPr/>
              <a:tblGrid>
                <a:gridCol w="1577880"/>
                <a:gridCol w="963720"/>
                <a:gridCol w="961920"/>
                <a:gridCol w="961920"/>
                <a:gridCol w="962280"/>
                <a:gridCol w="963360"/>
                <a:gridCol w="962280"/>
                <a:gridCol w="961920"/>
              </a:tblGrid>
              <a:tr h="18396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д должности служащего, профессии рабочего по Общегосу-дарственному классификатору ОКРБ 014-2017 «Занятия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своение квалификационной категор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08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приказ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-каз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ема, перев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вида трудового договор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приказ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-каз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сво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212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11-003-02-2-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.07.20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.07.20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.07.20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.07.20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1"/>
          <p:cNvSpPr/>
          <p:nvPr/>
        </p:nvSpPr>
        <p:spPr>
          <a:xfrm>
            <a:off x="343080" y="209520"/>
            <a:ext cx="8391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страхованное лицо работает у работодателя по основному месту работы с 01.01.2019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5.07.2019 согласно приказу от 05.07.2019 № 5-к принято на работу уборщиком помещений (служебных) на условиях внутреннего совместительст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форме ПУ-2 следует заполнить раздел 3, разделы 1 и 2 не заполняю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аздел 3. Сведения о приеме на работу и увольнении с работы по внутреннему совместительст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2"/>
          <p:cNvSpPr/>
          <p:nvPr/>
        </p:nvSpPr>
        <p:spPr>
          <a:xfrm>
            <a:off x="897840" y="29376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мер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66560" y="3962520"/>
          <a:ext cx="8353440" cy="2060280"/>
        </p:xfrm>
        <a:graphic>
          <a:graphicData uri="http://schemas.openxmlformats.org/drawingml/2006/table">
            <a:tbl>
              <a:tblPr/>
              <a:tblGrid>
                <a:gridCol w="1695600"/>
                <a:gridCol w="1033560"/>
                <a:gridCol w="1033560"/>
                <a:gridCol w="799920"/>
                <a:gridCol w="1123920"/>
                <a:gridCol w="844560"/>
                <a:gridCol w="924120"/>
                <a:gridCol w="898200"/>
              </a:tblGrid>
              <a:tr h="18288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д должности служащего, профессии рабочего по Общегосу-дарственному классификатору ОКРБ 014-2017 «Занятия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ведения о приеме на рабо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ведения об увольнении с рабо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43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приема на рабо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прика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ка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увольнения с рабо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основания увольне-ния с рабо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прика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ка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392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112-001-01-1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.07.20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.07.20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-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1"/>
          <p:cNvSpPr/>
          <p:nvPr/>
        </p:nvSpPr>
        <p:spPr>
          <a:xfrm>
            <a:off x="343080" y="209520"/>
            <a:ext cx="8391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страхованное лицо работает у работодателя с 01.01.2019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.08.2019 согласно приказу от 12.08.2019 № 8-к присвоена третья квалификационная категория бухгалте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форме ПУ-2 следует заполнить раздел 2, разделы 1 и 3 не заполняю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аздел 2. Сведения о наименовании профессии, должности, указанные в приказе (распоряжении) работодателя о приеме на работу, переводе на другую постоянную работу на основании штатного распис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2"/>
          <p:cNvSpPr/>
          <p:nvPr/>
        </p:nvSpPr>
        <p:spPr>
          <a:xfrm>
            <a:off x="897840" y="29376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мер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495360" y="3867120"/>
          <a:ext cx="8238960" cy="1855800"/>
        </p:xfrm>
        <a:graphic>
          <a:graphicData uri="http://schemas.openxmlformats.org/drawingml/2006/table">
            <a:tbl>
              <a:tblPr/>
              <a:tblGrid>
                <a:gridCol w="1563480"/>
                <a:gridCol w="954360"/>
                <a:gridCol w="954000"/>
                <a:gridCol w="952560"/>
                <a:gridCol w="954000"/>
                <a:gridCol w="954000"/>
                <a:gridCol w="792360"/>
                <a:gridCol w="1114200"/>
              </a:tblGrid>
              <a:tr h="36540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д должности служащего, профессии рабочего по Общегосу-дарственному классификатору ОКРБ 014-2017 «Занятия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своение квалификационной категор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43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прика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-ка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ема, перев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вида трудового догово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прика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-ка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сво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2102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11-003-02-3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08.20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-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08.20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Прямоугольник 1"/>
          <p:cNvSpPr/>
          <p:nvPr/>
        </p:nvSpPr>
        <p:spPr>
          <a:xfrm>
            <a:off x="343080" y="209520"/>
            <a:ext cx="872460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страхованное лицо работает у работодателя с 15.01.2019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1.07.2019 согласно приказу от 01.07.2019 № 10-к переведено на должность бухгалтер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5.08.2019 согласно приказу от 15.08.2019 № 13-к присвоена третья квалификационная категори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2.09.2019 принято на работу на условиях внутреннего совместительства на должность тарификатора согласно приказу от 02.09.2019 № 15-к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5.09.2019 уволено с основного места работы и с работы по совместительству по соглашению сторон согласно приказу от 24.09.2019 № 20-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6.09.2019 согласно приказу от 26.09.2019 № 21-к застрахованное лицо принимается на работу по должности, по  которой он работал на условиях внутреннего совместительства (тарификатор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аздел 1. Сведения о приеме на работу и увольнении с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2"/>
          <p:cNvSpPr/>
          <p:nvPr/>
        </p:nvSpPr>
        <p:spPr>
          <a:xfrm>
            <a:off x="343080" y="209520"/>
            <a:ext cx="18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мер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47840" y="4781520"/>
          <a:ext cx="8448480" cy="1724040"/>
        </p:xfrm>
        <a:graphic>
          <a:graphicData uri="http://schemas.openxmlformats.org/drawingml/2006/table">
            <a:tbl>
              <a:tblPr/>
              <a:tblGrid>
                <a:gridCol w="968040"/>
                <a:gridCol w="1001880"/>
                <a:gridCol w="746280"/>
                <a:gridCol w="1620720"/>
                <a:gridCol w="1120680"/>
                <a:gridCol w="1120680"/>
                <a:gridCol w="1122480"/>
                <a:gridCol w="747720"/>
              </a:tblGrid>
              <a:tr h="190440"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ведения о приеме на рабо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ведения об увольнении с рабо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2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ата приема на рабо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прика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ка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работы по совместительству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увольнения с рабо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основания увольнения с рабо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прика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ка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390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.09.20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.09.20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-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380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.09.20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.09.20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-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рямоугольник 1"/>
          <p:cNvSpPr/>
          <p:nvPr/>
        </p:nvSpPr>
        <p:spPr>
          <a:xfrm>
            <a:off x="343080" y="209520"/>
            <a:ext cx="8724600" cy="41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страхованное лицо работает у работодателя с 15.01.2019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01.07.2019 согласно приказу от 01.07.2019 № 10-к переведено на должность бухгалтер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15.08.2019 согласно приказу от 15.08.2019 № 13-к присвоена третья квалификационная категория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02.09.2019 принято на работу на условиях внутреннего совместительства на должность тарификатора согласно приказу от 02.09.2019 № 15-к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25.09.2019 уволено с основного места работы и с работы по совместительству по соглашению сторон согласно приказу от 24.09.2019 № 20-к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26.09.2019 согласно приказу от 26.09.2019 № 21-к застрахованное лицо принимается на работу по должности, по  которой он работал на условиях внутреннего совместительства (тарификатор).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Раздел 2. Сведения о наименовании профессии, должности, указанные в приказе (распоряжении) работодателя о приеме на работу, переводе на другую постоянную работу на основании штатного распис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2"/>
          <p:cNvSpPr/>
          <p:nvPr/>
        </p:nvSpPr>
        <p:spPr>
          <a:xfrm>
            <a:off x="438120" y="209520"/>
            <a:ext cx="17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мер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19040" y="4105440"/>
          <a:ext cx="8439120" cy="2504880"/>
        </p:xfrm>
        <a:graphic>
          <a:graphicData uri="http://schemas.openxmlformats.org/drawingml/2006/table">
            <a:tbl>
              <a:tblPr/>
              <a:tblGrid>
                <a:gridCol w="1419120"/>
                <a:gridCol w="1001880"/>
                <a:gridCol w="895320"/>
                <a:gridCol w="1008000"/>
                <a:gridCol w="998640"/>
                <a:gridCol w="1112760"/>
                <a:gridCol w="1001880"/>
                <a:gridCol w="1001520"/>
              </a:tblGrid>
              <a:tr h="36540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д должности служащего, профессии рабочего по Общегосу-дарственному классификатору ОКРБ 014-2017 «Занятия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своение квалификационной категор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прика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ка-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ема, перев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вида трудового догово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прика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ка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сво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11-003-02-2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.07.20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-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.07.20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2102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11-003-02-3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08.20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-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08.20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2102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11-004-02-0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.09.20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-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.09.20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1"/>
          <p:cNvSpPr/>
          <p:nvPr/>
        </p:nvSpPr>
        <p:spPr>
          <a:xfrm>
            <a:off x="343080" y="209520"/>
            <a:ext cx="8724600" cy="363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страхованное лицо работает у работодателя с 15.01.2019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01.07.2019 согласно приказу от 01.07.2019 № 10-к переведено на должность бухгалтер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15.08.2019 согласно приказу от 15.08.2019 № 13-к присвоена третья квалификационная категория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02.09.2019 принято на работу на условиях внутреннего совместительства на должность тарификатора согласно приказу от 02.09.2019 № 15-к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25.09.2019 уволено с основного места работы и с работы по совместительству по соглашению сторон согласно приказу от 24.09.2019 № 20-к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26.09.2019 согласно приказу от 26.09.2019 № 21-к застрахованное лицо принимается на работу по должности, по  которой он работал на условиях внутреннего совместительства (тарификатор).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Раздел 3. Сведения о приеме на работу и увольнении с работы по внутреннему совместительств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2"/>
          <p:cNvSpPr/>
          <p:nvPr/>
        </p:nvSpPr>
        <p:spPr>
          <a:xfrm>
            <a:off x="466560" y="209520"/>
            <a:ext cx="16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мер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343080" y="4084560"/>
          <a:ext cx="8410320" cy="2220840"/>
        </p:xfrm>
        <a:graphic>
          <a:graphicData uri="http://schemas.openxmlformats.org/drawingml/2006/table">
            <a:tbl>
              <a:tblPr/>
              <a:tblGrid>
                <a:gridCol w="1471320"/>
                <a:gridCol w="927360"/>
                <a:gridCol w="928440"/>
                <a:gridCol w="1266840"/>
                <a:gridCol w="1268640"/>
                <a:gridCol w="928440"/>
                <a:gridCol w="927360"/>
                <a:gridCol w="691920"/>
              </a:tblGrid>
              <a:tr h="18288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д должности служащего, профессии рабочего по Общегосу-дарственному классификатору ОКРБ 014-2017 «Занятия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ведения о приеме на рабо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ведения об увольнении с рабо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43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приема на рабо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прика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ка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увольнения с рабо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основания увольнения с рабо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прика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ка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210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11-004-02-0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.09.20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.09.20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-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.09.20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.09.20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-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5T13:43:58Z</dcterms:created>
  <dc:creator>Michael Kouzmin</dc:creator>
  <dc:description/>
  <dc:language>en-US</dc:language>
  <cp:lastModifiedBy>Каско Светлана Николаевна</cp:lastModifiedBy>
  <cp:lastPrinted>2013-12-16T12:23:37Z</cp:lastPrinted>
  <dcterms:modified xsi:type="dcterms:W3CDTF">2019-06-05T09:19:34Z</dcterms:modified>
  <cp:revision>533</cp:revision>
  <dc:subject/>
  <dc:title>Слайд 1</dc:title>
</cp:coreProperties>
</file>