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0085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04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2360" y="-360"/>
            <a:ext cx="29466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236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B3A3-FB28-4C22-AED0-A7542A788A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6527-0413-4FE0-9A32-237851D0AD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62FB-9C38-49D0-BEB7-D94FA7EBD6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2BD2-B709-4015-A075-3C35C5EF8F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457200" y="67057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0"/>
          <p:cNvSpPr/>
          <p:nvPr/>
        </p:nvSpPr>
        <p:spPr>
          <a:xfrm>
            <a:off x="468360" y="11430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consultantplus://offline/ref=75071A63FCDC556E6BC25DCFB530B10A45CD6F922AB45E7DAA4BD2241662190AE6ACED0F54F8A2E5CB062F323CJ346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онд социальной защиты населени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1720" y="1413000"/>
            <a:ext cx="822960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ДОКУМЕН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СОНИФИЦИРОВАННОГО УЧ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-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324000" y="115920"/>
            <a:ext cx="8313480" cy="59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 разделе 1 "Сведения о сумме выплат (дохода), учитываемых при назначении пенсии, и страховых взносах"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ПУ-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ражается сумма пособия по временной нетрудоспособности, рассчитанная по всем основаниям и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приходящаяся на период после даты увольнения и (или) даты окончания периода работ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 гражданско-правовому договору (договорам), в графе "Период работы" раздела 2 "Дополнительные сведения о стаже" отражается самая ранняя дата начала периода временной нетрудоспособности, приходящаяся на период после даты увольнения и (или) даты окончания выполнения работ по гражданско-правовому договору (договорам), и дата окончания периода временной нетрудоспособ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часть четвертая п. 18 введена постановлением правления Фонда соцзащиты от 10.01.2019 N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380880" y="181080"/>
            <a:ext cx="834408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та увольнения работника 25.08.201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иод временной нетрудоспособности с 10.08.2018 по 27.08.201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форме ПУ-3 (тип формы – исходная) по коду категории застрахованного лица «06» за 2018 год в разделе 2 формы ПУ-3 следует заполнить период пособия по временной нетрудоспособности после увольнения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"/>
          <p:cNvSpPr/>
          <p:nvPr/>
        </p:nvSpPr>
        <p:spPr>
          <a:xfrm>
            <a:off x="1703520" y="3354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514440" y="3259080"/>
            <a:ext cx="8029440" cy="2998800"/>
          </a:xfrm>
          <a:prstGeom prst="rect">
            <a:avLst/>
          </a:prstGeom>
          <a:ln w="0">
            <a:noFill/>
          </a:ln>
        </p:spPr>
      </p:pic>
      <p:sp>
        <p:nvSpPr>
          <p:cNvPr id="81" name="Выгнутая вверх стрелка 4"/>
          <p:cNvSpPr/>
          <p:nvPr/>
        </p:nvSpPr>
        <p:spPr>
          <a:xfrm>
            <a:off x="1452600" y="4973760"/>
            <a:ext cx="501480" cy="431640"/>
          </a:xfrm>
          <a:custGeom>
            <a:avLst/>
            <a:gdLst>
              <a:gd name="textAreaLeft" fmla="*/ 88560 w 501480"/>
              <a:gd name="textAreaRight" fmla="*/ 373680 w 50148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29" hR="21600" stAng="10800000" swAng="5400000"/>
                <a:lnTo>
                  <a:pt x="12277" y="0"/>
                </a:lnTo>
                <a:arcTo wR="7629" hR="21600" stAng="-5400000" swAng="1917624"/>
                <a:lnTo>
                  <a:pt x="20610" y="10959"/>
                </a:lnTo>
                <a:lnTo>
                  <a:pt x="17582" y="21600"/>
                </a:lnTo>
                <a:lnTo>
                  <a:pt x="12574" y="10959"/>
                </a:lnTo>
                <a:lnTo>
                  <a:pt x="14268" y="10959"/>
                </a:lnTo>
                <a:arcTo wR="7629" hR="21600" stAng="-3482376" swAng="-1530931"/>
                <a:lnTo>
                  <a:pt x="9953" y="1027"/>
                </a:lnTo>
                <a:arcTo wR="7629" hR="21600" stAng="-5786694" swAng="-5013306"/>
                <a:close/>
              </a:path>
              <a:path fill="darkenLess" w="21600" h="21600">
                <a:moveTo>
                  <a:pt x="0" y="21600"/>
                </a:moveTo>
                <a:arcTo wR="7629" hR="21600" stAng="10800000" swAng="5400000"/>
                <a:lnTo>
                  <a:pt x="7629" y="0"/>
                </a:lnTo>
                <a:arcTo wR="7629" hR="21600" stAng="-5400000" swAng="386694"/>
                <a:lnTo>
                  <a:pt x="9953" y="1027"/>
                </a:lnTo>
                <a:arcTo wR="7629" hR="21600" stAng="-5786694" swAng="-5013306"/>
                <a:close/>
              </a:path>
            </a:pathLst>
          </a:custGeom>
          <a:solidFill>
            <a:srgbClr val="a50021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371520" y="228600"/>
            <a:ext cx="84297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м комиссии назначено пособие по временной нетрудоспособности в случае утраты трудоспособности в связи с заболева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ериод с 11.10.2018 по 13.01.2019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зделе 2. Дополнительные сведения о стаже формы ПУ-3 (тип формы - исходная) за 2018 год должны отрази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371520" y="2414520"/>
            <a:ext cx="8515440" cy="3981600"/>
          </a:xfrm>
          <a:prstGeom prst="rect">
            <a:avLst/>
          </a:prstGeom>
          <a:ln w="0">
            <a:noFill/>
          </a:ln>
        </p:spPr>
      </p:pic>
      <p:sp>
        <p:nvSpPr>
          <p:cNvPr id="84" name="Выгнутая вверх стрелка 3"/>
          <p:cNvSpPr/>
          <p:nvPr/>
        </p:nvSpPr>
        <p:spPr>
          <a:xfrm>
            <a:off x="1225440" y="5398920"/>
            <a:ext cx="727200" cy="549360"/>
          </a:xfrm>
          <a:custGeom>
            <a:avLst/>
            <a:gdLst>
              <a:gd name="textAreaLeft" fmla="*/ 135000 w 727200"/>
              <a:gd name="textAreaRight" fmla="*/ 542160 w 727200"/>
              <a:gd name="textAreaTop" fmla="*/ 73440 h 549360"/>
              <a:gd name="textAreaBottom" fmla="*/ 475920 h 549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017" hR="21600" stAng="10800000" swAng="5400000"/>
                <a:lnTo>
                  <a:pt x="12096" y="0"/>
                </a:lnTo>
                <a:arcTo wR="8017" hR="21600" stAng="-5400000" swAng="1995027"/>
                <a:lnTo>
                  <a:pt x="20560" y="10959"/>
                </a:lnTo>
                <a:lnTo>
                  <a:pt x="18074" y="21600"/>
                </a:lnTo>
                <a:lnTo>
                  <a:pt x="13507" y="10959"/>
                </a:lnTo>
                <a:lnTo>
                  <a:pt x="14994" y="10959"/>
                </a:lnTo>
                <a:arcTo wR="8017" hR="21600" stAng="-3404973" swAng="-1660448"/>
                <a:lnTo>
                  <a:pt x="10057" y="711"/>
                </a:lnTo>
                <a:arcTo wR="8017" hR="21600" stAng="-5734579" swAng="-5065421"/>
                <a:close/>
              </a:path>
              <a:path fill="darkenLess" w="21600" h="21600">
                <a:moveTo>
                  <a:pt x="0" y="21600"/>
                </a:moveTo>
                <a:arcTo wR="8017" hR="21600" stAng="10800000" swAng="5400000"/>
                <a:lnTo>
                  <a:pt x="8017" y="0"/>
                </a:lnTo>
                <a:arcTo wR="8017" hR="21600" stAng="-5400000" swAng="334579"/>
                <a:lnTo>
                  <a:pt x="10057" y="711"/>
                </a:lnTo>
                <a:arcTo wR="8017" hR="21600" stAng="-5734579" swAng="-5065421"/>
                <a:close/>
              </a:path>
            </a:pathLst>
          </a:custGeom>
          <a:solidFill>
            <a:srgbClr val="a50021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Выгнутая вверх стрелка 5"/>
          <p:cNvSpPr/>
          <p:nvPr/>
        </p:nvSpPr>
        <p:spPr>
          <a:xfrm>
            <a:off x="1252440" y="3284640"/>
            <a:ext cx="671760" cy="431640"/>
          </a:xfrm>
          <a:custGeom>
            <a:avLst/>
            <a:gdLst>
              <a:gd name="textAreaLeft" fmla="*/ 131040 w 671760"/>
              <a:gd name="textAreaRight" fmla="*/ 501480 w 67176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31" hR="21600" stAng="10800000" swAng="5400000"/>
                <a:lnTo>
                  <a:pt x="11904" y="0"/>
                </a:lnTo>
                <a:arcTo wR="8431" hR="21600" stAng="-5400000" swAng="2171868"/>
                <a:lnTo>
                  <a:pt x="20608" y="11435"/>
                </a:lnTo>
                <a:lnTo>
                  <a:pt x="18599" y="21600"/>
                </a:lnTo>
                <a:lnTo>
                  <a:pt x="14605" y="11435"/>
                </a:lnTo>
                <a:lnTo>
                  <a:pt x="15870" y="11435"/>
                </a:lnTo>
                <a:arcTo wR="8431" hR="21600" stAng="-3228132" swAng="-1890073"/>
                <a:lnTo>
                  <a:pt x="10168" y="463"/>
                </a:lnTo>
                <a:arcTo wR="8431" hR="21600" stAng="-5681795" swAng="-5118205"/>
                <a:close/>
              </a:path>
              <a:path fill="darkenLess" w="21600" h="21600">
                <a:moveTo>
                  <a:pt x="0" y="21600"/>
                </a:moveTo>
                <a:arcTo wR="8431" hR="21600" stAng="10800000" swAng="5400000"/>
                <a:lnTo>
                  <a:pt x="8431" y="0"/>
                </a:lnTo>
                <a:arcTo wR="8431" hR="21600" stAng="-5400000" swAng="281795"/>
                <a:lnTo>
                  <a:pt x="10168" y="463"/>
                </a:lnTo>
                <a:arcTo wR="8431" hR="21600" stAng="-5681795" swAng="-5118205"/>
                <a:close/>
              </a:path>
            </a:pathLst>
          </a:custGeom>
          <a:solidFill>
            <a:srgbClr val="a50021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2915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Превышено предельно допустимое значение уплаченных взносов (недостаточно сумм по коду платежа 3511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Обратитесь к инспектору райотдела Фон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140328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шибки ПУ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2286000" y="296712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6327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5280" y="1052280"/>
            <a:ext cx="829152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т данных о приёме на работу у данного плательщ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.к. плательщик ликвидирован, то для сдачи ПУ-3 за текущий год, в которой есть уплата, следует обратиться к инспектору в районный отдел Фон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Указанные в документе ФИО не совпали с данными, имеющимися в ФСЗН. Возможно, требуется предоставить форму ПУ-1 (изменение анкетных данных) или заполнить форму корректными дан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140328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шибки ПУ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8072280" cy="2592360"/>
          </a:xfrm>
          <a:prstGeom prst="rect">
            <a:avLst/>
          </a:prstGeom>
          <a:ln w="0">
            <a:noFill/>
          </a:ln>
        </p:spPr>
      </p:pic>
      <p:sp>
        <p:nvSpPr>
          <p:cNvPr id="95" name="Oval 10"/>
          <p:cNvSpPr/>
          <p:nvPr/>
        </p:nvSpPr>
        <p:spPr>
          <a:xfrm flipV="1">
            <a:off x="5354640" y="4652280"/>
            <a:ext cx="1655640" cy="865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0"/>
          <p:cNvSpPr/>
          <p:nvPr/>
        </p:nvSpPr>
        <p:spPr>
          <a:xfrm flipV="1">
            <a:off x="5435640" y="4335480"/>
            <a:ext cx="431640" cy="3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250920" y="189360"/>
            <a:ext cx="8497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д ошибки 4917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Помесячная сумма начисленных выплат В ПУ-3 превышает (5-ти) кратную величину     среднемесячной з/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539640" y="6381360"/>
            <a:ext cx="693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Times New Roman"/>
              </a:rPr>
              <a:t>Предельная сумма при приеме ПУ-3 за апрель 2018г.- 4634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76124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2915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Периоды начислений в форме ПУ-3 не соответствуют периодам работы по форме ПУ-2, приходящимся на данный отчетный пери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40328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шибки ПУ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909720" y="2708280"/>
            <a:ext cx="7191360" cy="1154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909720" y="4869000"/>
            <a:ext cx="7191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2915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д ошибки 492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Период "ПРЕМИЯ" не соответствует полному месяцу или периоду работы ЗЛ в данном меся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140328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шибки ПУ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565200" y="2492280"/>
            <a:ext cx="8432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250920" y="29556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ИЛС есть сведения о специальном стаже, поданные за период, в который данное лицо не работало у соответствующего плательщ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431640" y="1084320"/>
            <a:ext cx="8136000" cy="2554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"/>
          <p:cNvPicPr/>
          <p:nvPr/>
        </p:nvPicPr>
        <p:blipFill>
          <a:blip r:embed="rId2"/>
          <a:stretch/>
        </p:blipFill>
        <p:spPr>
          <a:xfrm>
            <a:off x="855720" y="4270320"/>
            <a:ext cx="8280360" cy="2016360"/>
          </a:xfrm>
          <a:prstGeom prst="rect">
            <a:avLst/>
          </a:prstGeom>
          <a:ln w="0">
            <a:noFill/>
          </a:ln>
        </p:spPr>
      </p:pic>
      <p:sp>
        <p:nvSpPr>
          <p:cNvPr id="112" name="Oval 10"/>
          <p:cNvSpPr/>
          <p:nvPr/>
        </p:nvSpPr>
        <p:spPr>
          <a:xfrm flipV="1">
            <a:off x="2124000" y="3141720"/>
            <a:ext cx="1295640" cy="496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0"/>
          <p:cNvSpPr/>
          <p:nvPr/>
        </p:nvSpPr>
        <p:spPr>
          <a:xfrm flipV="1">
            <a:off x="6300720" y="5710320"/>
            <a:ext cx="1295640" cy="496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468360" y="1996920"/>
            <a:ext cx="8351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.5 Пачки ДПУ, содержащие формы ПУ-3 за отчетный период, передаются в полном объеме и в установленные законодательством сроки, но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 ранее сдачи форм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омственной отчетности о средствах бюджета государственного внебюджетного фонда социальной защиты населения Республики Белару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осле уплаты страховых взносов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"/>
          <p:cNvSpPr/>
          <p:nvPr/>
        </p:nvSpPr>
        <p:spPr>
          <a:xfrm>
            <a:off x="395280" y="20628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c2e"/>
                </a:solidFill>
                <a:latin typeface="Times New Roman"/>
                <a:ea typeface="Times New Roman"/>
              </a:rPr>
              <a:t>ИНСТРУКЦИЯ   О ПОРЯДКЕ ПЕРЕДАЧИ-ПРИЕМА ФОРМ ДОКУМЕНТОВ  ПЕРСОНИФИЦИРОВАННОГО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трелка вправо 3"/>
          <p:cNvSpPr/>
          <p:nvPr/>
        </p:nvSpPr>
        <p:spPr>
          <a:xfrm rot="5400000">
            <a:off x="3724560" y="1235880"/>
            <a:ext cx="1219320" cy="57636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a50021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395280" y="33336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380880" y="380880"/>
            <a:ext cx="86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ИЛС есть сведения о специальном стаже, поданные за период, в который данное лицо не работало у соответствующего плательщ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9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7993080" cy="1584360"/>
          </a:xfrm>
          <a:prstGeom prst="rect">
            <a:avLst/>
          </a:prstGeom>
          <a:ln w="0">
            <a:noFill/>
          </a:ln>
        </p:spPr>
      </p:pic>
      <p:sp>
        <p:nvSpPr>
          <p:cNvPr id="117" name="Oval 10"/>
          <p:cNvSpPr/>
          <p:nvPr/>
        </p:nvSpPr>
        <p:spPr>
          <a:xfrm flipV="1">
            <a:off x="826920" y="2204640"/>
            <a:ext cx="280836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"/>
          <p:cNvPicPr/>
          <p:nvPr/>
        </p:nvPicPr>
        <p:blipFill>
          <a:blip r:embed="rId2"/>
          <a:stretch/>
        </p:blipFill>
        <p:spPr>
          <a:xfrm>
            <a:off x="539640" y="2997360"/>
            <a:ext cx="8142480" cy="3600360"/>
          </a:xfrm>
          <a:prstGeom prst="rect">
            <a:avLst/>
          </a:prstGeom>
          <a:ln w="0">
            <a:noFill/>
          </a:ln>
        </p:spPr>
      </p:pic>
      <p:sp>
        <p:nvSpPr>
          <p:cNvPr id="119" name="Oval 10"/>
          <p:cNvSpPr/>
          <p:nvPr/>
        </p:nvSpPr>
        <p:spPr>
          <a:xfrm>
            <a:off x="1674720" y="5896080"/>
            <a:ext cx="809640" cy="26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395280" y="33336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заполнены все более ранние месяцы начислений, попадающие в период стажа в отчётном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064360" cy="1582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"/>
          <p:cNvPicPr/>
          <p:nvPr/>
        </p:nvPicPr>
        <p:blipFill>
          <a:blip r:embed="rId2"/>
          <a:stretch/>
        </p:blipFill>
        <p:spPr>
          <a:xfrm>
            <a:off x="396720" y="3357720"/>
            <a:ext cx="8124840" cy="2519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"/>
          <p:cNvPicPr/>
          <p:nvPr/>
        </p:nvPicPr>
        <p:blipFill>
          <a:blip r:embed="rId3"/>
          <a:stretch/>
        </p:blipFill>
        <p:spPr>
          <a:xfrm>
            <a:off x="324000" y="5877000"/>
            <a:ext cx="8424720" cy="576360"/>
          </a:xfrm>
          <a:prstGeom prst="rect">
            <a:avLst/>
          </a:prstGeom>
          <a:ln w="0">
            <a:noFill/>
          </a:ln>
        </p:spPr>
      </p:pic>
      <p:sp>
        <p:nvSpPr>
          <p:cNvPr id="124" name="Oval 10"/>
          <p:cNvSpPr/>
          <p:nvPr/>
        </p:nvSpPr>
        <p:spPr>
          <a:xfrm flipV="1">
            <a:off x="5867280" y="2205000"/>
            <a:ext cx="108108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947880" y="800280"/>
            <a:ext cx="7248240" cy="5257800"/>
          </a:xfrm>
          <a:prstGeom prst="rect">
            <a:avLst/>
          </a:prstGeom>
          <a:ln w="0">
            <a:noFill/>
          </a:ln>
        </p:spPr>
      </p:pic>
      <p:sp>
        <p:nvSpPr>
          <p:cNvPr id="55" name="Oval 10"/>
          <p:cNvSpPr/>
          <p:nvPr/>
        </p:nvSpPr>
        <p:spPr>
          <a:xfrm flipV="1">
            <a:off x="1403280" y="1772640"/>
            <a:ext cx="1371600" cy="360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орма ПУ-3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526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531720" y="-286920"/>
            <a:ext cx="8288280" cy="67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а "Код причины начисления выплат (дохода), на которые начисляются страховые взносы, ниже уровня месячной минимальной заработной платы, установленного и проиндексированного в соответствии с законодательством" заполняется для кодов  категории застрахованного лиц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"01", "07", "30"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соответствующих месяцах согласно  приложению 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и наличии в одном месяце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двух и более причин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полняется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дин код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 усмотрению работода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250920" y="189000"/>
            <a:ext cx="82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7777440" cy="55008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395280" y="18900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c2e"/>
                </a:solidFill>
                <a:latin typeface="Arial"/>
              </a:rPr>
              <a:t>Приложение 5   к Инструкции о порядке  заполнения форм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c2e"/>
                </a:solidFill>
                <a:latin typeface="Arial"/>
              </a:rPr>
              <a:t>персонифицированного у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право 4"/>
          <p:cNvSpPr/>
          <p:nvPr/>
        </p:nvSpPr>
        <p:spPr>
          <a:xfrm rot="5400000">
            <a:off x="3827880" y="576720"/>
            <a:ext cx="647640" cy="57636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a50021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250920" y="189000"/>
            <a:ext cx="82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395280" y="18900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c2e"/>
                </a:solidFill>
                <a:latin typeface="Arial"/>
              </a:rPr>
              <a:t>Приложение 5   к Инструкции о порядке  заполнения форм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c2e"/>
                </a:solidFill>
                <a:latin typeface="Arial"/>
              </a:rPr>
              <a:t>персонифицированного у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90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827280" y="692280"/>
            <a:ext cx="392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ы заполнен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324000" y="1792440"/>
            <a:ext cx="8640720" cy="1780920"/>
          </a:xfrm>
          <a:prstGeom prst="rect">
            <a:avLst/>
          </a:prstGeom>
          <a:ln w="0">
            <a:noFill/>
          </a:ln>
        </p:spPr>
      </p:pic>
      <p:sp>
        <p:nvSpPr>
          <p:cNvPr id="69" name="Oval 10"/>
          <p:cNvSpPr/>
          <p:nvPr/>
        </p:nvSpPr>
        <p:spPr>
          <a:xfrm flipV="1">
            <a:off x="8317080" y="2492280"/>
            <a:ext cx="647640" cy="865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343080" y="3781440"/>
            <a:ext cx="8621640" cy="1951200"/>
          </a:xfrm>
          <a:prstGeom prst="rect">
            <a:avLst/>
          </a:prstGeom>
          <a:ln w="0">
            <a:noFill/>
          </a:ln>
        </p:spPr>
      </p:pic>
      <p:cxnSp>
        <p:nvCxnSpPr>
          <p:cNvPr id="71" name="Соединительная линия уступом 5"/>
          <p:cNvCxnSpPr/>
          <p:nvPr/>
        </p:nvCxnSpPr>
        <p:spPr>
          <a:xfrm>
            <a:off x="1547280" y="5084640"/>
            <a:ext cx="7332120" cy="277200"/>
          </a:xfrm>
          <a:prstGeom prst="bentConnector3">
            <a:avLst>
              <a:gd name="adj1" fmla="val 50000"/>
            </a:avLst>
          </a:prstGeom>
          <a:ln w="19080">
            <a:solidFill>
              <a:srgbClr val="cc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684360" y="260640"/>
            <a:ext cx="727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1.Сведения о сумме выплат (дохода), учитываемых при назначении пенсии, и страховых взноса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79280" y="189000"/>
            <a:ext cx="871380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755640" cy="69516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2"/>
          <p:cNvSpPr/>
          <p:nvPr/>
        </p:nvSpPr>
        <p:spPr>
          <a:xfrm>
            <a:off x="800280" y="1028880"/>
            <a:ext cx="80928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д вида деятельности «ВРЕМНЕТРУД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полн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гражданам, не работающим по найму и получающим пособие по временной нетрудоспособнос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иная с отчетного периода 2018 год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коду категории застрахованного лица «06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мках отчетного го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наличии значений в графе «Сумма (рублей) пособий по временной нетрудоспособности»  раздела 1 «Сведения о сумме выплат (дохода), учитываемых при назначении пенсии, и страховых взносах» форм ПУ-3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пересекается с другими видами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430200" y="549360"/>
            <a:ext cx="820728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представления информации о периоде временной нетрудоспособности в отчетном периоде по гражданам, не работающим по найму и у которых пособие по временной нетрудоспособности назначено по нескольким основания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апример, по трудовому и гражданско-правовому договору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аполняется одна </a:t>
            </a:r>
            <a:r>
              <a:rPr b="0" lang="ru-RU" sz="32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форма ПУ-3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 по коду 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13:43:58Z</dcterms:created>
  <dc:creator>Michael Kouzmin</dc:creator>
  <dc:description/>
  <dc:language>en-US</dc:language>
  <cp:lastModifiedBy>Денисенко Ирина Михайловна</cp:lastModifiedBy>
  <cp:lastPrinted>2013-12-16T12:23:37Z</cp:lastPrinted>
  <dcterms:modified xsi:type="dcterms:W3CDTF">2019-06-05T07:22:48Z</dcterms:modified>
  <cp:revision>463</cp:revision>
  <dc:subject/>
  <dc:title>Слайд 1</dc:title>
</cp:coreProperties>
</file>