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A3EE-29B1-4B49-8288-CB9CC87A1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41F-3B2F-413B-A4ED-9E24C0CAC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2E0-0283-4412-9C4A-B1A2FDD76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E526-B67B-475F-8112-7F0B347F9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025-6A27-42A3-957E-EBAD23C96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6D9C-0E0C-4AE1-AB7D-30E70BC85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20B9-46ED-4D34-9E69-D0C17C380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3AC-E21A-4085-966B-85CF3E6ED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6AD-E142-461D-B41C-DBFC5BE74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21E-24CF-4386-86C5-6DC30AA55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A4C-6A82-4718-ADC2-D4503C7D5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5F8B-E56D-4A5E-8103-C4BC7CD00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ssf.gov.by/ru/news-ru/view/novaja-versija-portala-fonda-portal-fonda-20-dostupna-po-adresu-portal2ssfgovby-10801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ОВОЕ В ДОКУМЕНТ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СОНИФИЦИРОВАННОГО УЧ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отчетного пери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вартал 2019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ные данные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197000"/>
            <a:ext cx="8424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актные данные специалистов Министерства труда и социальной защиты для получения консультации в части запол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дов должности служащего (профессии рабочего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203 14 70, 203 04 6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дов оснований увольнения и видов трудового догово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9 93 09, 309 93 11 (с 9.00 до 10.3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2"/>
          <p:cNvSpPr/>
          <p:nvPr/>
        </p:nvSpPr>
        <p:spPr>
          <a:xfrm>
            <a:off x="1535040" y="3754440"/>
            <a:ext cx="172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971640" cy="863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57360"/>
            <a:ext cx="7153200" cy="2016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асибо за внимание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ТАНОВЛЕНИ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92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лением правления Фонда социальной защиты населения Министерства труда и социальной защиты Республики Беларусь от                      3 мая  2019 г. № 4 «Об изменении постановлений правления Фонда социальной защиты населения Министерства труда и социальной защиты Республики Беларусь от 29 июня 2009 г. № 10 и от 19 июня 2014 г. № 7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сены изменения в Инструкцию по формату документов персонифицированного учета и в Инструкцию по заполнению форм документов персонифицированн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зменения вступают в силу с 1 июля 2019 год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196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аром формате и со старым именем фай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дения о приеме и увольнении по форме ПУ-2 (далее – форма ПУ-2) могут заполняться (в том числе при необходимости корректировки или отмены ранее представленных сведений по форме ПУ-2) за отчетные периоды с 2003 года по 2 квартал 2019 года включительно и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 1 октября 2019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1963800" cy="46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4537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97000"/>
            <a:ext cx="8424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афа «код работы по совместительству» формы ПУ-2 обязательна для заполнения за любой отчетный период, начиная с 1 квартала 2018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197000"/>
            <a:ext cx="8424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я с отчетного период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 квартал 2019 год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орма ПУ-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полняется в новом формате и представляется только через портал Фонда (версия 2.0) (</a:t>
            </a: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ortal2.ssf.gov.by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1880" cy="792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У-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новом формате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4"/>
          <p:cNvSpPr/>
          <p:nvPr/>
        </p:nvSpPr>
        <p:spPr>
          <a:xfrm>
            <a:off x="108000" y="1197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Сведения о приеме на работу и увольнении с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1484280"/>
          <a:ext cx="8928000" cy="1278000"/>
        </p:xfrm>
        <a:graphic>
          <a:graphicData uri="http://schemas.openxmlformats.org/drawingml/2006/table">
            <a:tbl>
              <a:tblPr/>
              <a:tblGrid>
                <a:gridCol w="900000"/>
                <a:gridCol w="1019160"/>
                <a:gridCol w="876240"/>
                <a:gridCol w="2057400"/>
                <a:gridCol w="1208160"/>
                <a:gridCol w="1155600"/>
                <a:gridCol w="855720"/>
                <a:gridCol w="855720"/>
              </a:tblGrid>
              <a:tr h="412920"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работы по совместительству &lt;*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69" name="TextBox 10"/>
          <p:cNvSpPr/>
          <p:nvPr/>
        </p:nvSpPr>
        <p:spPr>
          <a:xfrm>
            <a:off x="179280" y="295596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дения о наименовании профессии, должности, указанные в приказе (распоряжении) работодателя о приеме на работу, переводе на другую постоянную работу на основании штатного рас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5400" y="3429000"/>
          <a:ext cx="8964360" cy="1454040"/>
        </p:xfrm>
        <a:graphic>
          <a:graphicData uri="http://schemas.openxmlformats.org/drawingml/2006/table">
            <a:tbl>
              <a:tblPr/>
              <a:tblGrid>
                <a:gridCol w="1993680"/>
                <a:gridCol w="914400"/>
                <a:gridCol w="986040"/>
                <a:gridCol w="987120"/>
                <a:gridCol w="986040"/>
                <a:gridCol w="844560"/>
                <a:gridCol w="1125360"/>
                <a:gridCol w="1127160"/>
              </a:tblGrid>
              <a:tr h="33984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воение квалификационной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, пер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вида трудовог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сво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  <p:sp>
        <p:nvSpPr>
          <p:cNvPr id="71" name="TextBox 13"/>
          <p:cNvSpPr/>
          <p:nvPr/>
        </p:nvSpPr>
        <p:spPr>
          <a:xfrm>
            <a:off x="108000" y="4653000"/>
            <a:ext cx="756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Сведения о приеме на работу и увольнении с работы по внутреннему совмести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8000" y="5160960"/>
          <a:ext cx="8856720" cy="1655640"/>
        </p:xfrm>
        <a:graphic>
          <a:graphicData uri="http://schemas.openxmlformats.org/drawingml/2006/table">
            <a:tbl>
              <a:tblPr/>
              <a:tblGrid>
                <a:gridCol w="2060640"/>
                <a:gridCol w="1030320"/>
                <a:gridCol w="796680"/>
                <a:gridCol w="1227240"/>
                <a:gridCol w="969840"/>
                <a:gridCol w="1179720"/>
                <a:gridCol w="796680"/>
                <a:gridCol w="795600"/>
              </a:tblGrid>
              <a:tr h="476280">
                <a:tc rowSpan="2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должности служащего, профессии рабочего по Общегосударственному классификатору ОКРБ 014-2017 "Занят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gridSpan="3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 приеме на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дения об увольнении с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уволь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основания уволь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  <a:tc>
                  <a:txBody>
                    <a:bodyPr lIns="39240" rIns="39240" tIns="64800" bIns="64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ик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240" marR="39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0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197000"/>
            <a:ext cx="8424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а застрахованного лица по форме ПУ-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ее–форма ПУ-1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индивидуальные сведения по форме ПУ-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ее – форма ПУ-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гут заполняться со старым именем файл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 1 октября 2019 г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дставляться через портал Фонда 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portal.ssf.gov.by) либ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л Фонда (версия 2.0) (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portal2.ssf.gov.by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ля районных отдел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197000"/>
            <a:ext cx="8424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 1 октября 2019 г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лательщиками со среднесписочной численностью работнико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ыше 10 чело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ормы ПУ-2 в новом формате могут представляться в электронном формате, к которым прилагаются документы на бумажных носителях, заверенные подписью плательщика страховых взносов.(п.7 Прави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197000"/>
            <a:ext cx="8424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1 октября 2019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 формы документов персонифицированного учета, а также пояснительная записка к пачкам документов персонифицированного учета, содержащим формы ПУ-3 «Индивидуальные сведения» заполняются и представляю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ельщиками обязательных страховых взносов (далее – плательщики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портал Фонда (версии 2.0)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portal2.ssf.gov.b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использовании  сертификата открытого ключа электронной цифровой подписи, который выдан удостоверяющим центром Государственной системы управления открытыми ключами электронной цифровой подписи (ГосСУОК) РУП «Национальный центр электронных услуг», и атрибутного сертификата для работы с системами ФСЗ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Каско Светлана Николаевна</cp:lastModifiedBy>
  <cp:lastPrinted>2013-12-16T12:23:37Z</cp:lastPrinted>
  <dcterms:modified xsi:type="dcterms:W3CDTF">2019-06-06T07:01:51Z</dcterms:modified>
  <cp:revision>399</cp:revision>
  <dc:subject/>
  <dc:title>Слайд 1</dc:title>
</cp:coreProperties>
</file>