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A18-6C05-4674-A7C7-0ECDB98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A73-982F-4CEB-AF42-FA0EEB4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768-0334-4E52-8EAC-B804510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E94-460B-416D-900E-004BC57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BE3-441F-49D5-93E5-B289A055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D97-2739-464E-8F91-59DEAD4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50A-95E2-42C1-A814-771825F5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C687-FF5D-42DD-982B-E7D02F7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240A-306E-4C92-9348-2F4D76C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3BDC-9776-4FAF-B4D0-7932B447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9CFC-FEF4-4361-B30D-2C31ED8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5DC-C783-478E-8A6D-32CB345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B53-37C9-4916-AB31-222C809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2384-0AC1-41C2-8909-2045E18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A24-12FF-447D-8474-186841D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5C83-14FA-4A28-B5C7-EA365D64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79EF-F4BA-428D-9DE8-A8F8AF44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7EF1-699E-45C5-BFB9-6E553948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E47E-8D2B-4585-9309-9143A74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4B72-12D4-4209-A190-2EC8B5F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1136-7AD2-4C83-9D5C-9DEA780E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E7FB-51D6-4569-918B-2D683F21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54F-F245-4B10-B31B-C5CA098A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AE13-9176-4B65-A186-D1665E5D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479A-906F-4C59-8FE4-F282853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D890-4AF0-455A-B734-3AD3568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C978-EF55-4E85-A6E2-16BAD165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A318-0DA1-4BE3-807B-B2187F4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8587-DBD1-4496-92C2-A6DB17EB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5D18-EA2B-42CF-8FF4-21570FAF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037D-D8E4-44D8-8A34-71DC54A6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B91A-51F9-4657-9277-89EA3AD3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634DB-88E7-40D2-B815-295F152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F79-6FDD-4221-92ED-DDC1B054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F127-45E2-490E-95EB-30063889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574B-4FD7-4E80-BE5D-0233CC0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7068-744C-40E5-907A-993C88B6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732E-432A-4EAA-958F-81BB010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C6B4-5F88-41C8-9001-DB31126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A1BC-A1D9-4C13-96A9-4BA0855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BD5E-9B15-4BA7-B2B1-DCF2E947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F059-316F-40BE-847F-231BB672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0362-17AE-4F57-A652-29595083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B502-D459-4820-9803-9CCBD33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6B6-AD64-4BD1-AE15-89593DE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D0FA-1A95-4AFF-B8AA-D816B49C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06949-24AD-4B9A-9D0D-F56DA2A0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FDF3-A380-4A8E-AE1A-9D955FE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BCDDD-B5CF-41C3-96C4-10D10D0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BECA-741C-4A0F-B767-774A5A40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191D-D053-45DB-92C9-B8F1B2A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26E7-D447-4E38-BCEE-98F0ABF6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22F5-3B76-451F-A600-BCBB0675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D250-4D46-4F6C-8EAD-CD1CDA30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501A-CEF3-48D1-B1E1-6A352807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9FC-F04F-4559-8F84-E184328F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C434-A3C2-48AD-8E5B-A3BA63CF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D71E-DEA6-4579-B8C2-7A2CCDAE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1796-285A-458C-BED1-A11833F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B311A-ECDA-4AE1-9DB7-C74CFD68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3EBCF-9B77-4152-A4C5-7D423740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BD62D-EA49-49E2-A7DA-3A28722A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1629-4D3F-4A49-B21F-1BB81D0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26A5F-E5E0-450D-A78E-1294EC9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BA5B-DB95-4896-A60F-D4387AF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C071-EFC2-46E9-B9EB-DB8B268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247-832A-4D21-B22A-69168A9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CA5D-8C63-4A4F-8AD7-B1CE1FDD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F7A6-4ABF-4866-9519-0357EDC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3839F-9478-4694-A78A-0D40D0EB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F670-F706-4E94-91DD-3BBCF697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2EC2-DD29-46ED-8D05-ACAA423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2FD6-F812-4A03-8FE5-58F83425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8886-3E18-4C6C-90B3-8BD1FB0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9E5A-2BA1-4D17-AFE1-3598CF66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0CC46-DD51-45B2-96A3-05C0F1D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4AA35-C44D-4295-9553-C550EDD8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F8D-44AE-4F86-AE30-875B25F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B908-019A-413C-851B-EFE11A9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7D64-9E36-4230-A1AE-A2C0A13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29D8-9A0E-440F-A756-F515644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D1A9-336E-403E-9ECE-E7CB4132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DCF2C-6F2B-4619-940C-3CF6FCA7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D47-EA6E-431A-9A2D-0981C7C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2AB5-72D7-4296-B237-1E83FAB08B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750-DCE9-453E-ADB2-1E98A891FC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CAC5-640B-49A5-8AB8-3D7D8F4CF7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0CC-3C00-48D1-B626-52C5989756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6B05-DACB-418C-9997-CDF8977A71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EA44-1E38-47FE-BBA3-ED5981D7DB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265-AAA6-427E-B00F-DA6CD94E07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7868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уманитарный проект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вления по образованию, спорту и туризму Березинского райисполко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00040" y="3285720"/>
            <a:ext cx="8429760" cy="3000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нструкци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адебного дома графа Потоцкого под гостиницу с ресторано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4857840"/>
            <a:ext cx="85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 проекта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становление культурного памятника архитектуры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IX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ка дома графа Потоцкого под ресторан с гостиниц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F:\потоцкий\IMG_1772.jpg"/>
          <p:cNvPicPr/>
          <p:nvPr/>
        </p:nvPicPr>
        <p:blipFill>
          <a:blip r:embed="rId1"/>
          <a:stretch/>
        </p:blipFill>
        <p:spPr>
          <a:xfrm>
            <a:off x="1285920" y="142920"/>
            <a:ext cx="750096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2560"/>
            <a:ext cx="75661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роки реализации: 36 месяцев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бщий объем финансирования </a:t>
            </a:r>
            <a:br>
              <a:rPr sz="36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(в долларах США)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8.000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едства донора: 800.000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финансирования: 8.000</a:t>
            </a:r>
            <a:br>
              <a:rPr sz="3900"/>
            </a:b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4285800"/>
            <a:ext cx="7499520" cy="19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Целевая группа: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рослое население от 18 лет и старш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582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котуризма в Березинском район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99680" y="1999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конструкция неиспользуемого имущества под гостиницу с рестораном согласно архитектурному проекту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туристического комплекса для полноценного отдыха турист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ое использование природного потенциала Березинского район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азание платных туристических услуг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сто реализации проекта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23311 Минская область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резинский район, город Березино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лица Набережная, д.1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2642760"/>
            <a:ext cx="749952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актное лицо: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С. Овчаренко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ректор ФОЦ «Лазурный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8029) 8400922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fkst-ber@tut.by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0" y="274680"/>
            <a:ext cx="3933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br>
              <a:rPr sz="3900"/>
            </a:br>
            <a:r>
              <a:rPr b="1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 графа Потоцкого сейчас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3" descr="C:\Users\User\Desktop\катя\ГУМАНИТАРНЫЙ ПРОЕКТ  ФОЦ Лазурный\фото потоцкий\XIWmNupqy94.jpg"/>
          <p:cNvPicPr/>
          <p:nvPr/>
        </p:nvPicPr>
        <p:blipFill>
          <a:blip r:embed="rId1"/>
          <a:stretch/>
        </p:blipFill>
        <p:spPr>
          <a:xfrm>
            <a:off x="142920" y="357120"/>
            <a:ext cx="4357800" cy="35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31" name="Рисунок 4" descr="C:\Users\User\Desktop\катя\ГУМАНИТАРНЫЙ ПРОЕКТ  ФОЦ Лазурный\фото потоцкий\frjebVBKv60.jpg"/>
          <p:cNvPicPr/>
          <p:nvPr/>
        </p:nvPicPr>
        <p:blipFill>
          <a:blip r:embed="rId2"/>
          <a:stretch/>
        </p:blipFill>
        <p:spPr>
          <a:xfrm>
            <a:off x="4071960" y="3214800"/>
            <a:ext cx="4714920" cy="335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32" name="Заголовок 1"/>
          <p:cNvSpPr/>
          <p:nvPr/>
        </p:nvSpPr>
        <p:spPr>
          <a:xfrm>
            <a:off x="4572000" y="785880"/>
            <a:ext cx="4290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4" descr="C:\Users\User\Desktop\катя\ГУМАНИТАРНЫЙ ПРОЕКТ  ФОЦ Лазурный\потоцкий\Перспектива 1.jpg"/>
          <p:cNvPicPr/>
          <p:nvPr/>
        </p:nvPicPr>
        <p:blipFill>
          <a:blip r:embed="rId1"/>
          <a:stretch/>
        </p:blipFill>
        <p:spPr>
          <a:xfrm>
            <a:off x="4138560" y="2779560"/>
            <a:ext cx="5011920" cy="3724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43680" y="285840"/>
            <a:ext cx="3790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жидаемый результат посл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C:\Users\User\Desktop\катя\ГУМАНИТАРНЫЙ ПРОЕКТ  ФОЦ Лазурный\потоцкий\Перспектива 2.jpg"/>
          <p:cNvPicPr/>
          <p:nvPr/>
        </p:nvPicPr>
        <p:blipFill>
          <a:blip r:embed="rId2"/>
          <a:stretch/>
        </p:blipFill>
        <p:spPr>
          <a:xfrm>
            <a:off x="0" y="500040"/>
            <a:ext cx="478620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еемся на сотрудничество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8T13:33:04Z</dcterms:created>
  <dc:creator>User</dc:creator>
  <dc:description/>
  <dc:language>en-US</dc:language>
  <cp:lastModifiedBy>User</cp:lastModifiedBy>
  <dcterms:modified xsi:type="dcterms:W3CDTF">2018-12-19T05:13:40Z</dcterms:modified>
  <cp:revision>7</cp:revision>
  <dc:subject/>
  <dc:title>Гуманитарный проект  управления по образованию, спорту и туризму Березинского райисполкома</dc:title>
</cp:coreProperties>
</file>