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11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B6A-7D24-4419-A3CE-C06901F2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D41-E1B2-4EF6-8CDD-CB85A4E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AA3-C5C5-44FF-8893-18D6CA0B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8DA-D2C4-4EC5-8916-620725C6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E1C-F677-4801-97D1-3A46C579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660-CD13-437F-B89A-D5E193C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054-57DD-4E9B-9187-03422FA9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9B1-4B51-4156-957E-FC27DE9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EE7-1984-43CF-856F-EA6C760B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48F-656D-4BF2-A23E-2BE359C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8DD-1571-42B3-A383-E8A4595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43D-DC00-46DD-8C1E-6CF2066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1D0B-FBCF-4880-ADDE-1DA815E5D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2" name="Line 9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324000" y="4149720"/>
            <a:ext cx="856908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324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ЕЛОРУССКОЕ ОБЩЕСТВО КРАСНОГО КРЕСТА</a:t>
            </a:r>
            <a:endParaRPr b="1" lang="en-US" sz="1800" spc="1" strike="noStrike">
              <a:ln cap="rnd" w="324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2771640" y="0"/>
            <a:ext cx="4176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9"/>
          <p:cNvGraphicFramePr/>
          <p:nvPr/>
        </p:nvGraphicFramePr>
        <p:xfrm>
          <a:off x="901800" y="676440"/>
          <a:ext cx="7142040" cy="52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76440"/>
                    <a:ext cx="7142040" cy="52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3" descr="орнамент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755640" y="404640"/>
            <a:ext cx="838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ОСНОВНЫЕ НАПРАВЛЕНИЯ ДЕЯТЕЛЬ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BelRC"/>
          <p:cNvPicPr/>
          <p:nvPr/>
        </p:nvPicPr>
        <p:blipFill>
          <a:blip r:embed="rId4"/>
          <a:stretch/>
        </p:blipFill>
        <p:spPr>
          <a:xfrm>
            <a:off x="179280" y="189000"/>
            <a:ext cx="93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242560" cy="571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BelRC"/>
          <p:cNvPicPr/>
          <p:nvPr/>
        </p:nvPicPr>
        <p:blipFill>
          <a:blip r:embed="rId2"/>
          <a:stretch/>
        </p:blipFill>
        <p:spPr>
          <a:xfrm>
            <a:off x="179280" y="189000"/>
            <a:ext cx="935280" cy="93636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орнамент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17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187280" y="3429000"/>
            <a:ext cx="688212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324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cap="rnd" w="324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2" name="Picture 7" descr="BelRC"/>
          <p:cNvPicPr/>
          <p:nvPr/>
        </p:nvPicPr>
        <p:blipFill>
          <a:blip r:embed="rId2"/>
          <a:stretch/>
        </p:blipFill>
        <p:spPr>
          <a:xfrm>
            <a:off x="3564000" y="765000"/>
            <a:ext cx="16524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2000" y="33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СТОРИЧЕСКИЙ ЭКС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932360" y="1005120"/>
            <a:ext cx="4211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Крест начал свою деятельность на территории Беларуси 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86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как Гродненское губернское Общество попечения о раненых и боль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0"/>
          <p:cNvPicPr/>
          <p:nvPr/>
        </p:nvPicPr>
        <p:blipFill>
          <a:blip r:embed="rId2"/>
          <a:stretch/>
        </p:blipFill>
        <p:spPr>
          <a:xfrm>
            <a:off x="5867280" y="2349360"/>
            <a:ext cx="2460600" cy="3310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0"/>
          <p:cNvPicPr/>
          <p:nvPr/>
        </p:nvPicPr>
        <p:blipFill>
          <a:blip r:embed="rId3"/>
          <a:stretch/>
        </p:blipFill>
        <p:spPr>
          <a:xfrm>
            <a:off x="611280" y="1197000"/>
            <a:ext cx="4176720" cy="2965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9"/>
          <p:cNvSpPr/>
          <p:nvPr/>
        </p:nvSpPr>
        <p:spPr>
          <a:xfrm>
            <a:off x="611280" y="4293720"/>
            <a:ext cx="407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лорусский Красный Крест был создан 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9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 И действовал в составе Союза Обществ Красного Креста и Красного Полумесяца ССС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BelRC"/>
          <p:cNvPicPr/>
          <p:nvPr/>
        </p:nvPicPr>
        <p:blipFill>
          <a:blip r:embed="rId4"/>
          <a:stretch/>
        </p:blipFill>
        <p:spPr>
          <a:xfrm>
            <a:off x="179280" y="189000"/>
            <a:ext cx="93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расный Крест в Бела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87280" y="18334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1484280"/>
            <a:ext cx="73436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68 г. – г. Гр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2 г. – г. 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5 г. – г. Бр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6 г. – г. Витеб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7 г. - г. Моги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ССР Красный Крест был воссоздан 6 июня 1921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BelRC"/>
          <p:cNvPicPr/>
          <p:nvPr/>
        </p:nvPicPr>
        <p:blipFill>
          <a:blip r:embed="rId2"/>
          <a:stretch/>
        </p:blipFill>
        <p:spPr>
          <a:xfrm>
            <a:off x="179280" y="189000"/>
            <a:ext cx="12240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28"/>
          <p:cNvPicPr/>
          <p:nvPr/>
        </p:nvPicPr>
        <p:blipFill>
          <a:blip r:embed="rId2"/>
          <a:stretch/>
        </p:blipFill>
        <p:spPr>
          <a:xfrm>
            <a:off x="4500720" y="1052640"/>
            <a:ext cx="4464000" cy="3092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38"/>
          <p:cNvPicPr/>
          <p:nvPr/>
        </p:nvPicPr>
        <p:blipFill>
          <a:blip r:embed="rId3"/>
          <a:stretch/>
        </p:blipFill>
        <p:spPr>
          <a:xfrm>
            <a:off x="324000" y="2224080"/>
            <a:ext cx="3384360" cy="335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179280" y="90360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99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Белорусский Красный Крест был официально призна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ККК и стал членом Международной Федерации Обществ Красного Креста и Красного Полумесяца (МФОККиКП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851280" y="4315680"/>
            <a:ext cx="5041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были приняты законы «О Белорусском Обществе Красного Креста» и «О защите эмблемы Красного Креста и Красного Полумесяца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258920" y="404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СТОРИЧЕСКИЙ ЭКС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BelRC"/>
          <p:cNvPicPr/>
          <p:nvPr/>
        </p:nvPicPr>
        <p:blipFill>
          <a:blip r:embed="rId4"/>
          <a:stretch/>
        </p:blipFill>
        <p:spPr>
          <a:xfrm>
            <a:off x="179280" y="0"/>
            <a:ext cx="11239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786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иссия Белорусского                            Общества Красн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русское Общество Красного Креста призвано защищать и улучшать жизнь и здоровье уязвимых слоев населения, мобилизуя гуманитарный потенциал общества и гарантируя уважение к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BelRC"/>
          <p:cNvPicPr/>
          <p:nvPr/>
        </p:nvPicPr>
        <p:blipFill>
          <a:blip r:embed="rId1"/>
          <a:stretch/>
        </p:blipFill>
        <p:spPr>
          <a:xfrm>
            <a:off x="755640" y="26028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орнамент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сновные задачи БОК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азание государственным органам Республики Беларусь помощь в гуманитарной деятель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азывает содействие государственным органам Республики Беларусь в выполнении страной международных обязательств, вытекающих из Женевских конвенций и Протоколов к н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аствует в проведении на территории Республики Беларусь мероприятий по охране здоровья населения, а также обеспечивает выполнение своих программ в области образования, здравоохранения и социальной защи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казывает через МККК, МФКК и КП, а также НО КК и КП иностранных государств помощь жертвам вооруженных конфликтов, а также лицам, пострадавшим в результате ЧС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0" descr="BelRC"/>
          <p:cNvPicPr/>
          <p:nvPr/>
        </p:nvPicPr>
        <p:blipFill>
          <a:blip r:embed="rId1"/>
          <a:stretch/>
        </p:blipFill>
        <p:spPr>
          <a:xfrm>
            <a:off x="539640" y="189000"/>
            <a:ext cx="936720" cy="79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орнамент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нутри страны Белорусское Общество Красного Кр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86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ет свою деятельность в соответстви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законодательством Республики Беларус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итуцией Республики Белару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коном Республики Беларусь «О Белорусском Обществе Красного Кре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орусское Общество Красного Креста – единственная гуманитарная организация в стране, которая выполняе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помогательную функцию по отношению к правительству страны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но поэтому 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1002d"/>
                </a:solidFill>
                <a:latin typeface="Arial"/>
              </a:rPr>
              <a:t>не являетс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ен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рганизацией</a:t>
            </a:r>
            <a:r>
              <a:rPr b="1" i="1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0" descr="BelRC"/>
          <p:cNvPicPr/>
          <p:nvPr/>
        </p:nvPicPr>
        <p:blipFill>
          <a:blip r:embed="rId1"/>
          <a:stretch/>
        </p:blipFill>
        <p:spPr>
          <a:xfrm>
            <a:off x="250920" y="404640"/>
            <a:ext cx="1123920" cy="981360"/>
          </a:xfrm>
          <a:prstGeom prst="rect">
            <a:avLst/>
          </a:prstGeom>
          <a:ln w="0">
            <a:noFill/>
          </a:ln>
        </p:spPr>
      </p:pic>
      <p:sp>
        <p:nvSpPr>
          <p:cNvPr id="84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орнамент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международном уровне </a:t>
            </a:r>
            <a:r>
              <a:rPr b="1" lang="fr-CH" sz="3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750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членом Международного Движения Красного Креста и Красного Полу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знается 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членом Международн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ется частью международного органа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ждународной Конференции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де оно имеет равные права и обязанности наряду с други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частниками, включая государства, подписавшие Женевские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орнамент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0" descr="BelRC"/>
          <p:cNvPicPr/>
          <p:nvPr/>
        </p:nvPicPr>
        <p:blipFill>
          <a:blip r:embed="rId2"/>
          <a:stretch/>
        </p:blipFill>
        <p:spPr>
          <a:xfrm>
            <a:off x="250920" y="404640"/>
            <a:ext cx="1123920" cy="9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539640" y="1060560"/>
            <a:ext cx="684072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орнамент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95" name="Line 4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0" y="6850080"/>
            <a:ext cx="9144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08000" y="4046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Ш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516720" y="1052640"/>
            <a:ext cx="24685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627280" y="1916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Viteb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55640" y="35002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Gro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187280" y="4292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2050920" y="27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Mi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14036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Mogil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78000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Go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BelRC"/>
          <p:cNvPicPr/>
          <p:nvPr/>
        </p:nvPicPr>
        <p:blipFill>
          <a:blip r:embed="rId3"/>
          <a:stretch/>
        </p:blipFill>
        <p:spPr>
          <a:xfrm>
            <a:off x="179280" y="189000"/>
            <a:ext cx="93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31:42Z</dcterms:created>
  <dc:creator>pasha</dc:creator>
  <dc:description/>
  <dc:language>en-US</dc:language>
  <cp:lastModifiedBy>Юлия</cp:lastModifiedBy>
  <dcterms:modified xsi:type="dcterms:W3CDTF">2011-03-27T09:43:16Z</dcterms:modified>
  <cp:revision>68</cp:revision>
  <dc:subject/>
  <dc:title>Слайд 1</dc:title>
</cp:coreProperties>
</file>