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0.png" ContentType="image/png"/>
  <Override PartName="/ppt/media/image6.jpeg" ContentType="image/jpeg"/>
  <Override PartName="/ppt/media/image13.wmf" ContentType="image/x-wmf"/>
  <Override PartName="/ppt/media/image9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wmf" ContentType="image/x-wmf"/>
  <Override PartName="/ppt/media/image5.jpeg" ContentType="image/jpeg"/>
  <Override PartName="/ppt/media/image2.png" ContentType="image/png"/>
  <Override PartName="/ppt/media/image4.png" ContentType="image/png"/>
  <Override PartName="/ppt/media/image16.wmf" ContentType="image/x-wmf"/>
  <Override PartName="/ppt/media/image8.png" ContentType="image/png"/>
  <Override PartName="/ppt/media/image7.png" ContentType="image/png"/>
  <Override PartName="/ppt/media/image15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0B10-E7BF-47CF-BA12-633B6FC2F8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91E3-A07F-47CB-9B50-BAB853F79E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рос группе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акие были первые два принципа? (гуманность и беспристрастность – Анри Дюнан) В прошлом было более 20 принципов. В 1965 году осталось 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уманность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дотвращение и облегчение человеческих страданий, защита жизни и здоровья людей, обеспечение уважения к личности и человеческого достоин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спристрастность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вижение не делает различий по национальным, расовым или классовым признакам, религиозным, политическим убежден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йтральность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оздерживаться принимать ту или иную сторону во время вооруженных 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зависимость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храняет автономию, чтобы иметь возможность действовать в соответствии с принцип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бровольность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частие в деятельности Красного Креста осуществляется не по принуждению, а в результате добровольно взятого обязатель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динство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каждой стране только одно общество Красного Креста или Красного Полумеся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ниверсальность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мощь должна быть доступна всем, кто в ней нуждается, деятельность движения должна распространяться на все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тус принципов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е вступления в КК; объединяют все НО; основа деятельности КК: ценности, идеалы К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37AA-02EE-47A4-A777-C02820DA9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1DE4-7728-4EF9-A79E-27DB1650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9FE1-18F0-415D-BFED-8CA6558F7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C962-7175-4BCA-B62C-75262D6C0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2952-C7ED-4BA9-AF56-FEE9EE8BD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5706-C209-40FB-A0AC-FD3B2250E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8904-C839-455B-904E-0C101978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C3FA-99BA-49BF-B78A-A66B9C27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DF50-54E8-4177-BE4B-FC418748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470F-74C0-4F4B-B2C5-FDA625E8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E92D-D222-488B-9D9F-CCEE9BE7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1826-86E3-460F-BD1D-271AAD95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C27D9-438C-4051-90BA-5A34172B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55911-C5B2-4DF8-9579-9B6042EC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331B4-FAA3-4AE4-90C7-0DBE1420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64BC-06A3-4DBB-AAD5-5C356A4B7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FB98-AD14-492B-BAD1-23FEE08FA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81A96-6943-47ED-B4E4-811A7EE3B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9A55A-5B0D-4A7F-9CF3-F7604D51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F2245-08C2-4459-B88F-19CCC21E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2FE34-EEDE-4E2F-8849-060189BF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41A1A-087B-4818-B36B-BD2F41C2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465D-5002-4D96-9328-28B9782B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B5AF9-E45B-4493-A40A-26D86E17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8FA60-EC56-430A-9C6B-66A1C5E2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B6F5E-A06C-497B-BF0F-BB70F458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EC143-DCB1-4AD4-A99C-13EFB6C3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97F99-7A58-4469-886A-10CBB6DD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FABDD-4AD1-4459-AD49-BC6914C70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30D23-AD71-43E7-95DB-E3BE27B04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B73AD-E5AB-40DE-B20C-DA5F7E874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5E26A-F0BE-4D26-9883-A8C70C32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68E78-D923-46E1-9BCE-6BF44F1F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5586-1DBE-4BC2-A189-CD6D62AD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15DB7-F31E-478A-BE3E-0C59C8D0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602F1-D3E7-4A68-8679-534700B0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E8F1C-D6B1-4E6C-B231-98D181BB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2756F-8EC3-4D5F-B1B6-5D6D3D7E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12940-DD5A-49E5-AAF1-EEC6531B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F2AC9-4EA0-4CAB-8BFE-50F7FD45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71AC3-0AD0-4CB5-BC21-EB9D25A6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192C0-77E4-4F3F-B80A-EED3860E9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09184-A0E8-45B6-8C4F-20B883755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E508C-0AB0-42CC-B6FA-AA564D0BA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9B27-CD44-42E9-8F2B-85E49FB6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28AE5-46A5-47D4-9B35-00A3E45A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4F84B-64D8-4707-BC09-DAA45DAC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C9D6C-0F61-434C-A447-F8059209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4F2C8-13EA-4B2F-9099-4C01F8BB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99133-44EF-4645-A7BD-D895A5F1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8F178-02FD-4DD5-9F53-70EAA430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2ADD0-E51D-4C0D-B67E-CFDC4569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A0BD5-8886-4FDC-9E56-FC890B81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D756E-55C6-4344-AEC5-E4E5AF66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63285-936B-4083-B3D7-BC74A5B38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D11B-5A2F-4919-8667-8406E56E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C3149-E14E-4D0D-BF3F-0137D12F5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9FF14-3775-47CE-BBCF-C1653E4F7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A17ED-EDAC-474C-A890-FBAB2C37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776D5-6C28-4281-849E-43BE582E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52CE8-09EB-4C90-BB93-ADC174B3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D0314-E048-4548-8C93-6FCC1D5D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218F1-7522-4564-AD0F-C9E9BB62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EE15C-7861-4BC6-BD96-A2034A66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EC9DE-F5BA-435E-95FB-049A0769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A7782-8F14-4473-A2B9-FF6312B0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0975-0AA7-4680-AD79-E5F02395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839D1-4929-43F7-B1F4-9F62B1EC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29EAC-59DC-42DE-9A41-C51E95E1B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6C4ED-ABA2-4782-AED6-ECE3BD2CD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F4A6A-8410-4285-BB6A-6E58D29AD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E6483-C180-4BE8-8A2C-75E2DA68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9A012-3BEE-486F-B9A8-3A2BB842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1AC1B-DD5E-4390-8944-A74E7BEE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BE9B2-4605-4783-AC2C-B1F70410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1038F-6D2B-414F-9E74-1AA40374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CFFBC-722D-4796-B217-1D61534B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4202-0196-40D6-85E7-B08A3FE7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7A8F1-C933-4444-ACD6-957F686F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D5D30-3C43-4720-90DD-DF55C88F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5DFA3-51FF-4A3C-9EBC-A20C3999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4209D-5093-45EA-AE1A-699EF6D0C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6BF6E-94B2-4845-8E6A-2DE94F2D6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86A02-950F-4A66-8F0B-2EEFE9B63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11190-4C53-4FF1-9AF3-FFD06688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930F1-0C5C-4F1B-8EFD-8250EDFB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740A2-7247-42DC-A63C-A35A4E4C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53ED7-0C74-40EE-AF26-812369F2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874D-C68B-43C5-B318-77DEEC92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7743D-34C0-4AE1-9E39-FE34FBFE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CB561-D431-4895-A51B-645FAD6D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D4E16-D9E2-4233-8793-2554247F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2E151-1B16-4E19-9538-3899EEF8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64CB4-E2A2-466F-80D8-A840FBC4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D1204-F6F0-4E3F-98E3-1400738B6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25E31-8BB5-4595-954A-797008A84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D1A1-7877-4AE2-8D4A-D2A84B9056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81E1-69BB-4405-960F-8BF6EB2AB1C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CF3E-86FE-4BF2-8E41-601B2643230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B0D5-225F-422F-8FAD-3E150D37117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DFDC-E654-4679-8FEF-6653430DA7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E511-F49E-42E5-8F84-C90BDC2DBBD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B2EF-0156-4A50-8613-D0796C6603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05BC-A819-4B07-B035-44A839C5E8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493560" y="182520"/>
            <a:ext cx="88092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5"/>
          <p:cNvSpPr/>
          <p:nvPr/>
        </p:nvSpPr>
        <p:spPr>
          <a:xfrm>
            <a:off x="468360" y="549360"/>
            <a:ext cx="84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400" name="Object 2"/>
          <p:cNvGraphicFramePr/>
          <p:nvPr/>
        </p:nvGraphicFramePr>
        <p:xfrm>
          <a:off x="571680" y="333360"/>
          <a:ext cx="8072280" cy="4843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333360"/>
                    <a:ext cx="8072280" cy="48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Text Box 7"/>
          <p:cNvSpPr/>
          <p:nvPr/>
        </p:nvSpPr>
        <p:spPr>
          <a:xfrm>
            <a:off x="971640" y="4643280"/>
            <a:ext cx="7815240" cy="16084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Движение не проводит никакого различия по признаку национальности , расы, религии, класса или политических убеждений. Оно лишь стремится облегчить страдания людей, и в первую очередь тех, кто больше всего в этом нуждается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4"/>
          <p:cNvSpPr/>
          <p:nvPr/>
        </p:nvSpPr>
        <p:spPr>
          <a:xfrm>
            <a:off x="500040" y="1500120"/>
            <a:ext cx="835812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этом принципе выделяют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ри положен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допустимость дискриминаци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размерность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еспристрастность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Для Красного Креста и Красного Полумесяца беспристрастность означает , что первоочередность в оказании помощи может устанавливаться только исходя из того, насколько люди в ней нуждаются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1357200" y="620640"/>
            <a:ext cx="67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3171e"/>
                </a:solidFill>
                <a:latin typeface="Tahoma"/>
              </a:rPr>
              <a:t>Беспристрастность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5"/>
          <p:cNvSpPr/>
          <p:nvPr/>
        </p:nvSpPr>
        <p:spPr>
          <a:xfrm>
            <a:off x="468360" y="62064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406" name="Object 2"/>
          <p:cNvGraphicFramePr/>
          <p:nvPr/>
        </p:nvGraphicFramePr>
        <p:xfrm>
          <a:off x="826920" y="404640"/>
          <a:ext cx="8031240" cy="6096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404640"/>
                    <a:ext cx="8031240" cy="609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4"/>
          <p:cNvSpPr/>
          <p:nvPr/>
        </p:nvSpPr>
        <p:spPr>
          <a:xfrm>
            <a:off x="1042920" y="428760"/>
            <a:ext cx="68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3171e"/>
                </a:solidFill>
                <a:latin typeface="Tahoma"/>
              </a:rPr>
              <a:t>Нейтральность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468360" y="1285920"/>
            <a:ext cx="820728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Принцип нейтральности запрещает составным частям Движения принимать участие в военных конфликтах и принимать чьею-либо сторону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нцип нейтральности запрещает сотрудникам Красного Креста и Красного Полумесяца при любых обстоятельствах вступать в споры политического, расового, религиозного или идеологического характера.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то самый надежный путь доступа ко всем кто нуждается в помощ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Невозможно заявлять о своем нейтралитете будучи от кого-то зависимым»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4"/>
          <p:cNvSpPr/>
          <p:nvPr/>
        </p:nvSpPr>
        <p:spPr>
          <a:xfrm>
            <a:off x="900000" y="4762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411" name="Object 2"/>
          <p:cNvGraphicFramePr/>
          <p:nvPr/>
        </p:nvGraphicFramePr>
        <p:xfrm>
          <a:off x="684360" y="357120"/>
          <a:ext cx="8102520" cy="62150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57120"/>
                    <a:ext cx="8102520" cy="62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4"/>
          <p:cNvSpPr/>
          <p:nvPr/>
        </p:nvSpPr>
        <p:spPr>
          <a:xfrm>
            <a:off x="1285920" y="54936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3171e"/>
                </a:solidFill>
                <a:latin typeface="Tahoma"/>
              </a:rPr>
              <a:t>Независимость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Text Box 6"/>
          <p:cNvSpPr/>
          <p:nvPr/>
        </p:nvSpPr>
        <p:spPr>
          <a:xfrm>
            <a:off x="357120" y="1285920"/>
            <a:ext cx="853596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Этот принцип подразумевает суверенность в определении совей политики, в принятии решений, касающихся гуманитарной деятельности, право на инициативу, приверженность собственным идеалам и принципам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Красный Крест и Красный Полумесяц должны </a:t>
            </a:r>
            <a:r>
              <a:rPr b="1" i="1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сопротивляться любому вмешательству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  - политическому, идеологическому или экономическому, которое может помешать им действовать в соответствии с требованиями гуманности, беспристрастности и нейтральности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то гарантия нейтральности и гуманитарных инициатив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4"/>
          <p:cNvSpPr/>
          <p:nvPr/>
        </p:nvSpPr>
        <p:spPr>
          <a:xfrm>
            <a:off x="611280" y="53820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Picture 5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704000" cy="453708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6"/>
          <p:cNvSpPr/>
          <p:nvPr/>
        </p:nvSpPr>
        <p:spPr>
          <a:xfrm>
            <a:off x="755640" y="5157720"/>
            <a:ext cx="8102520" cy="13341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 своей добровольной деятельности по оказанию помощи Движение ни в коей мере не руководствуется стремлением к получению выгоды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4"/>
          <p:cNvSpPr/>
          <p:nvPr/>
        </p:nvSpPr>
        <p:spPr>
          <a:xfrm>
            <a:off x="1116000" y="46656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3171e"/>
                </a:solidFill>
                <a:latin typeface="Tahoma"/>
              </a:rPr>
              <a:t>Добровольность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Text Box 5"/>
          <p:cNvSpPr/>
          <p:nvPr/>
        </p:nvSpPr>
        <p:spPr>
          <a:xfrm>
            <a:off x="900000" y="1285920"/>
            <a:ext cx="7272360" cy="48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то бескорыстное служение идеалам Красного Креста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то душевная щедрость и отзывчивость на чужую беду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то сочетание душевной щедрости, тактичности, профессионализма, скромности и самоотречения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4"/>
          <p:cNvSpPr/>
          <p:nvPr/>
        </p:nvSpPr>
        <p:spPr>
          <a:xfrm>
            <a:off x="755640" y="393840"/>
            <a:ext cx="79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1" name="Picture 5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686720" cy="457200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6"/>
          <p:cNvSpPr/>
          <p:nvPr/>
        </p:nvSpPr>
        <p:spPr>
          <a:xfrm>
            <a:off x="684360" y="4869000"/>
            <a:ext cx="8173800" cy="16084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 стране может быть только одно национальное общество Красного Креста или Красного Полумесяца. Оно должно быть открыто для всех и осуществлять свою гуманитарную деятельность на всей территории страны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4"/>
          <p:cNvSpPr/>
          <p:nvPr/>
        </p:nvSpPr>
        <p:spPr>
          <a:xfrm>
            <a:off x="971640" y="68256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3171e"/>
                </a:solidFill>
                <a:latin typeface="Tahoma"/>
              </a:rPr>
              <a:t>Единство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500040" y="1643040"/>
            <a:ext cx="807264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Поскольку Государства признали Основополагающие принципы, они должны гарантировать, что никакое другое НО не будет создано на их территории, если на ней уже существует признанное Национальное Общество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Красного Крест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Национальное Общество должно обеспечить широкий доступ к членству для всего населения и принимать в свои ряды представителей всех этнических, социальных и прочих групп в своей стране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Национальное Общество должно активно действовать по всей территории страны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4"/>
          <p:cNvSpPr/>
          <p:nvPr/>
        </p:nvSpPr>
        <p:spPr>
          <a:xfrm>
            <a:off x="755640" y="35712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8bfdf"/>
                </a:solidFill>
                <a:latin typeface="Tahoma"/>
              </a:rPr>
              <a:t>Определение и предназначение принципов Движения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971640" y="1857240"/>
            <a:ext cx="76723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  <a:ea typeface="Verdana"/>
              </a:rPr>
              <a:t>Принципы Красного Креста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Verdana"/>
              </a:rPr>
              <a:t>– это выработанные на основе многолетнего опыта социально обусловленные обобщенные нормы, идеи, отражающие цели и наиболее характерные черты деятельности Международного движения Красного Креста и Красного Полумесяца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755640" y="4071960"/>
            <a:ext cx="795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инципы носят всеобщий характер, служат основой существования Красного Креста и создают надежную и четкую его доктрину, призванную обеспечить единство и универсальность всей структуры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4"/>
          <p:cNvSpPr/>
          <p:nvPr/>
        </p:nvSpPr>
        <p:spPr>
          <a:xfrm>
            <a:off x="468360" y="466560"/>
            <a:ext cx="849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Picture 5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618320" cy="441000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6"/>
          <p:cNvSpPr/>
          <p:nvPr/>
        </p:nvSpPr>
        <p:spPr>
          <a:xfrm>
            <a:off x="755640" y="5013360"/>
            <a:ext cx="7632720" cy="13341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Движение является всемирным. Все национальные общества пользуются равными правами и обязаны оказывать помощь друг другу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4"/>
          <p:cNvSpPr/>
          <p:nvPr/>
        </p:nvSpPr>
        <p:spPr>
          <a:xfrm>
            <a:off x="1332000" y="620640"/>
            <a:ext cx="716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3171e"/>
                </a:solidFill>
                <a:latin typeface="Tahoma"/>
              </a:rPr>
              <a:t>Универсальность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755640" y="198900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571680" y="1643040"/>
            <a:ext cx="82152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тот принцип не признает территориальных границ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н выражает юридическое равенство НО друг перед другом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то стремление оказать помощь всем нуждающимся на основе дружбы, сотрудничества и взаимопомощи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то реальное проявление солидарност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457200" y="214272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d1014"/>
                </a:solidFill>
                <a:latin typeface="Tahoma"/>
                <a:ea typeface="Tahoma"/>
              </a:rPr>
              <a:t>Спасибо за внимание!!!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d1014"/>
                </a:solidFill>
                <a:latin typeface="Tahoma"/>
                <a:ea typeface="Tahoma"/>
              </a:rPr>
              <a:t>Вопросы!!!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4"/>
          <p:cNvSpPr/>
          <p:nvPr/>
        </p:nvSpPr>
        <p:spPr>
          <a:xfrm>
            <a:off x="1042920" y="28584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acbe0"/>
                </a:solidFill>
                <a:latin typeface="Tahoma"/>
              </a:rPr>
              <a:t>ОБЩАЯ ХАРАКТЕРИСТИКА ПРИНЦИПОВ КРАСНОГО КРЕСТ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571680" y="1285920"/>
            <a:ext cx="8177040" cy="53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 сжатом виде выражают идеалы и дух Красного Креста и являются его Доктриной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еспечивают согласованные  действия всех звеньев НО и Движения в целом. Это принципы  действия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едставляют собой логически последовательную и неразрывную систему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Являются производными гуманност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осят относительный характер (кроме единства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Заголовок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620200" cy="99396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1214280"/>
            <a:ext cx="8305920" cy="4857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ru-RU" sz="2000" spc="-1" strike="noStrike">
                <a:solidFill>
                  <a:srgbClr val="ec767c"/>
                </a:solidFill>
                <a:latin typeface="Arial"/>
                <a:ea typeface="Arial"/>
              </a:rPr>
              <a:t>1875 год  </a:t>
            </a:r>
            <a:r>
              <a:rPr b="0" lang="ru-RU" sz="2200" spc="-1" strike="noStrike">
                <a:solidFill>
                  <a:srgbClr val="464646"/>
                </a:solidFill>
                <a:latin typeface="Arial"/>
                <a:ea typeface="Arial"/>
              </a:rPr>
              <a:t> Густав Муанье сформулировал и определил содержание 4 основных принципов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b54a10"/>
                </a:solidFill>
                <a:latin typeface="Arial"/>
                <a:ea typeface="Arial"/>
              </a:rPr>
              <a:t>предвидение</a:t>
            </a:r>
            <a:r>
              <a:rPr b="0" lang="ru-RU" sz="2200" spc="-1" strike="noStrike">
                <a:solidFill>
                  <a:srgbClr val="464646"/>
                </a:solidFill>
                <a:latin typeface="Arial"/>
                <a:ea typeface="Arial"/>
              </a:rPr>
              <a:t> – подготовка к работе должна проводиться заранее, в мирное время, чтобы в случае возникновения военного конфликта можно было своевременно оказать помощь;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b54a10"/>
                </a:solidFill>
                <a:latin typeface="Arial"/>
                <a:ea typeface="Arial"/>
              </a:rPr>
              <a:t>солидарность</a:t>
            </a:r>
            <a:r>
              <a:rPr b="1" lang="ru-RU" sz="2200" spc="-1" strike="noStrike">
                <a:solidFill>
                  <a:srgbClr val="464646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464646"/>
                </a:solidFill>
                <a:latin typeface="Arial"/>
                <a:ea typeface="Arial"/>
              </a:rPr>
              <a:t>- все национальные общества берут на себя обязательства по установлению взаимных связей и оказания помощи  друг другу;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b54a10"/>
                </a:solidFill>
                <a:latin typeface="Arial"/>
                <a:ea typeface="Arial"/>
              </a:rPr>
              <a:t>централизация </a:t>
            </a:r>
            <a:r>
              <a:rPr b="0" lang="ru-RU" sz="2200" spc="-1" strike="noStrike">
                <a:solidFill>
                  <a:srgbClr val="464646"/>
                </a:solidFill>
                <a:latin typeface="Arial"/>
                <a:ea typeface="Arial"/>
              </a:rPr>
              <a:t>означает, что в каждой стране существует лишь одно Общество, но его деятельность распространяется на всю территорию страны;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3a276"/>
                </a:solidFill>
                <a:latin typeface="Arial"/>
                <a:ea typeface="Arial"/>
              </a:rPr>
              <a:t>взаимопомощ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2200" spc="-1" strike="noStrike">
                <a:solidFill>
                  <a:srgbClr val="7f7f7f"/>
                </a:solidFill>
                <a:latin typeface="Arial"/>
                <a:ea typeface="Arial"/>
              </a:rPr>
              <a:t>означающая,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что помощь оказывается всем раненым и страждущим вне зависимости от их национальности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ec767c"/>
                </a:solidFill>
                <a:latin typeface="Lucida Sans Unicode"/>
              </a:rPr>
              <a:t>1921 год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ересмотренный Устав МККК был видоизменен, и в него были включены  4 Основополагающих Принципа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b54a10"/>
                </a:solidFill>
                <a:latin typeface="Lucida Sans Unicode"/>
              </a:rPr>
              <a:t>Беспристрастность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политическая, религиозная и экономическая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b54a10"/>
                </a:solidFill>
                <a:latin typeface="Lucida Sans Unicode"/>
              </a:rPr>
              <a:t>Независимость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b54a10"/>
                </a:solidFill>
                <a:latin typeface="Lucida Sans Unicode"/>
              </a:rPr>
              <a:t>Универсальность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b54a10"/>
                </a:solidFill>
                <a:latin typeface="Lucida Sans Unicode"/>
              </a:rPr>
              <a:t>Равенство</a:t>
            </a:r>
            <a:r>
              <a:rPr b="0" lang="ru-RU" sz="2700" spc="-1" strike="noStrike">
                <a:solidFill>
                  <a:srgbClr val="a3171e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сех его членов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Заголовок 2" descr=""/>
          <p:cNvPicPr/>
          <p:nvPr/>
        </p:nvPicPr>
        <p:blipFill>
          <a:blip r:embed="rId1"/>
          <a:stretch/>
        </p:blipFill>
        <p:spPr>
          <a:xfrm>
            <a:off x="450720" y="219240"/>
            <a:ext cx="824256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54a10"/>
                </a:solidFill>
                <a:latin typeface="Lucida Sans Unicode"/>
              </a:rPr>
              <a:t>1955 год   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Жан Пикте в книге, посвященной Принципам Красного Креста дал определение и проанализировал все ценности, которыми руководствуется Движение в своей работе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54a10"/>
                </a:solidFill>
                <a:latin typeface="Lucida Sans Unicode"/>
              </a:rPr>
              <a:t>1965 год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На основании этого глубоко исследования 7 Основополагающих принципов Движения в их сегодняшнем виде были единодушно приняты  на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XX</a:t>
            </a:r>
            <a:r>
              <a:rPr b="0" lang="be-BY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Международной конференции Красного Креста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Заголовок 2" descr=""/>
          <p:cNvPicPr/>
          <p:nvPr/>
        </p:nvPicPr>
        <p:blipFill>
          <a:blip r:embed="rId1"/>
          <a:stretch/>
        </p:blipFill>
        <p:spPr>
          <a:xfrm>
            <a:off x="450720" y="182520"/>
            <a:ext cx="8242560" cy="8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000680" y="1571760"/>
            <a:ext cx="456696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364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2323"/>
                </a:solidFill>
                <a:latin typeface="Lucida Sans Unicode"/>
              </a:rPr>
              <a:t>Гуманность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364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2323"/>
                </a:solidFill>
                <a:latin typeface="Lucida Sans Unicode"/>
              </a:rPr>
              <a:t>Беспристрастность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364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2323"/>
                </a:solidFill>
                <a:latin typeface="Lucida Sans Unicode"/>
              </a:rPr>
              <a:t>Нейтральность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364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2323"/>
                </a:solidFill>
                <a:latin typeface="Lucida Sans Unicode"/>
              </a:rPr>
              <a:t>Независимость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364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2323"/>
                </a:solidFill>
                <a:latin typeface="Lucida Sans Unicode"/>
              </a:rPr>
              <a:t>Добровольность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364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2323"/>
                </a:solidFill>
                <a:latin typeface="Lucida Sans Unicode"/>
              </a:rPr>
              <a:t>Единство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364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2323"/>
                </a:solidFill>
                <a:latin typeface="Lucida Sans Unicode"/>
              </a:rPr>
              <a:t>Универсальность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364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Rectangle 2" descr=""/>
          <p:cNvPicPr/>
          <p:nvPr/>
        </p:nvPicPr>
        <p:blipFill>
          <a:blip r:embed="rId1"/>
          <a:stretch/>
        </p:blipFill>
        <p:spPr>
          <a:xfrm>
            <a:off x="676440" y="55440"/>
            <a:ext cx="7870680" cy="13096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4" descr="principles"/>
          <p:cNvPicPr/>
          <p:nvPr/>
        </p:nvPicPr>
        <p:blipFill>
          <a:blip r:embed="rId2"/>
          <a:stretch/>
        </p:blipFill>
        <p:spPr>
          <a:xfrm>
            <a:off x="0" y="1785960"/>
            <a:ext cx="42148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5"/>
          <p:cNvSpPr/>
          <p:nvPr/>
        </p:nvSpPr>
        <p:spPr>
          <a:xfrm>
            <a:off x="611280" y="836640"/>
            <a:ext cx="828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393" name="Object 2"/>
          <p:cNvGraphicFramePr/>
          <p:nvPr/>
        </p:nvGraphicFramePr>
        <p:xfrm>
          <a:off x="611280" y="260280"/>
          <a:ext cx="8175600" cy="5597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60280"/>
                    <a:ext cx="8175600" cy="55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4"/>
          <p:cNvSpPr/>
          <p:nvPr/>
        </p:nvSpPr>
        <p:spPr>
          <a:xfrm>
            <a:off x="826920" y="620640"/>
            <a:ext cx="792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1258920" y="500040"/>
            <a:ext cx="695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3171e"/>
                </a:solidFill>
                <a:latin typeface="Tahoma"/>
              </a:rPr>
              <a:t>Гуманность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Text Box 7"/>
          <p:cNvSpPr/>
          <p:nvPr/>
        </p:nvSpPr>
        <p:spPr>
          <a:xfrm>
            <a:off x="1332000" y="262584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Text Box 8"/>
          <p:cNvSpPr/>
          <p:nvPr/>
        </p:nvSpPr>
        <p:spPr>
          <a:xfrm>
            <a:off x="214200" y="1714680"/>
            <a:ext cx="8643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лицетворяет идеалы, цели и причины деятельности Движения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уть принципа можно выразить в трех главных задачах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buClr>
                <a:srgbClr val="a3171e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едотвращение и облегчение человеческих страданий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buClr>
                <a:srgbClr val="a3171e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щита жизни и здоровья людей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buClr>
                <a:srgbClr val="a3171e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еспечение уважения к личности и человеческого достоинств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3T09:17:17Z</dcterms:created>
  <dc:creator>Юлия</dc:creator>
  <dc:description/>
  <dc:language>en-US</dc:language>
  <cp:lastModifiedBy>Юлия</cp:lastModifiedBy>
  <dcterms:modified xsi:type="dcterms:W3CDTF">2011-02-13T14:09:42Z</dcterms:modified>
  <cp:revision>30</cp:revision>
  <dc:subject/>
  <dc:title>История возникновения  и содержание Основополагающих принципов Международного движения Красного Креста и Красного Полумесяца</dc:title>
</cp:coreProperties>
</file>